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085A-2FA7-466C-A8F3-9DD1B94EC4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BB8F-0AED-4CE4-9934-39E792DE37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4F7-79BF-4C81-AD43-0782A53A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05F-2777-4636-9FB4-024F7496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67D-5580-4C80-AEFB-9FABE812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C17-B714-4A56-8BE0-8C676CF2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80C-C546-47B8-A252-46706E17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A77-0048-43F2-A3BA-D4AB79FA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98A-25F1-4ABF-83FC-C87AF31A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FF8-17C3-411C-BBF0-7CB4F299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7CF-9E59-4992-BF48-62C3BB02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024-42EB-4C22-B348-AE98AD17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D95-2F8D-4534-A4C5-44C8BE35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D40-6DC2-47E2-B610-8D55455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ae4"/>
            </a:gs>
            <a:gs pos="100000">
              <a:srgbClr val="e1ecf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26C2-63C0-47BE-A76C-540212D62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2/407/42407800_1239506297_gagarin1_1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enera.ucoz.ru/_si/0/13722247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zvyozdi22.gif"/>
          <p:cNvPicPr/>
          <p:nvPr/>
        </p:nvPicPr>
        <p:blipFill>
          <a:blip r:embed="rId1"/>
          <a:stretch/>
        </p:blipFill>
        <p:spPr>
          <a:xfrm>
            <a:off x="169236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zvyozdi22.gif"/>
          <p:cNvPicPr/>
          <p:nvPr/>
        </p:nvPicPr>
        <p:blipFill>
          <a:blip r:embed="rId2"/>
          <a:stretch/>
        </p:blipFill>
        <p:spPr>
          <a:xfrm>
            <a:off x="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zvyozdi22.gif"/>
          <p:cNvPicPr/>
          <p:nvPr/>
        </p:nvPicPr>
        <p:blipFill>
          <a:blip r:embed="rId3"/>
          <a:stretch/>
        </p:blipFill>
        <p:spPr>
          <a:xfrm>
            <a:off x="2556000" y="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zvyozdi22.gif"/>
          <p:cNvPicPr/>
          <p:nvPr/>
        </p:nvPicPr>
        <p:blipFill>
          <a:blip r:embed="rId4"/>
          <a:stretch/>
        </p:blipFill>
        <p:spPr>
          <a:xfrm>
            <a:off x="356400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zvyozdi22.gif"/>
          <p:cNvPicPr/>
          <p:nvPr/>
        </p:nvPicPr>
        <p:blipFill>
          <a:blip r:embed="rId5"/>
          <a:stretch/>
        </p:blipFill>
        <p:spPr>
          <a:xfrm>
            <a:off x="442764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zvyozdi22.gif"/>
          <p:cNvPicPr/>
          <p:nvPr/>
        </p:nvPicPr>
        <p:blipFill>
          <a:blip r:embed="rId6"/>
          <a:stretch/>
        </p:blipFill>
        <p:spPr>
          <a:xfrm>
            <a:off x="521964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" descr="zvyozdi22.gif"/>
          <p:cNvPicPr/>
          <p:nvPr/>
        </p:nvPicPr>
        <p:blipFill>
          <a:blip r:embed="rId7"/>
          <a:stretch/>
        </p:blipFill>
        <p:spPr>
          <a:xfrm>
            <a:off x="90000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1" descr="zvyozdi22.gif"/>
          <p:cNvPicPr/>
          <p:nvPr/>
        </p:nvPicPr>
        <p:blipFill>
          <a:blip r:embed="rId8"/>
          <a:stretch/>
        </p:blipFill>
        <p:spPr>
          <a:xfrm>
            <a:off x="6875640" y="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2" descr="zvyozdi22.gif"/>
          <p:cNvPicPr/>
          <p:nvPr/>
        </p:nvPicPr>
        <p:blipFill>
          <a:blip r:embed="rId9"/>
          <a:stretch/>
        </p:blipFill>
        <p:spPr>
          <a:xfrm>
            <a:off x="7596360" y="0"/>
            <a:ext cx="723600" cy="7239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zvyozdi22.gif"/>
          <p:cNvPicPr/>
          <p:nvPr/>
        </p:nvPicPr>
        <p:blipFill>
          <a:blip r:embed="rId10"/>
          <a:stretch/>
        </p:blipFill>
        <p:spPr>
          <a:xfrm>
            <a:off x="608472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4" descr="zvyozdi22.gif"/>
          <p:cNvPicPr/>
          <p:nvPr/>
        </p:nvPicPr>
        <p:blipFill>
          <a:blip r:embed="rId11"/>
          <a:stretch/>
        </p:blipFill>
        <p:spPr>
          <a:xfrm>
            <a:off x="8420040" y="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zvyozdi22.gif"/>
          <p:cNvPicPr/>
          <p:nvPr/>
        </p:nvPicPr>
        <p:blipFill>
          <a:blip r:embed="rId12"/>
          <a:stretch/>
        </p:blipFill>
        <p:spPr>
          <a:xfrm>
            <a:off x="468360" y="11970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6" descr="zvyozdi22.gif"/>
          <p:cNvPicPr/>
          <p:nvPr/>
        </p:nvPicPr>
        <p:blipFill>
          <a:blip r:embed="rId13"/>
          <a:stretch/>
        </p:blipFill>
        <p:spPr>
          <a:xfrm>
            <a:off x="1547640" y="1125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7" descr="zvyozdi22.gif"/>
          <p:cNvPicPr/>
          <p:nvPr/>
        </p:nvPicPr>
        <p:blipFill>
          <a:blip r:embed="rId14"/>
          <a:stretch/>
        </p:blipFill>
        <p:spPr>
          <a:xfrm>
            <a:off x="2627280" y="1052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8" descr="zvyozdi22.gif"/>
          <p:cNvPicPr/>
          <p:nvPr/>
        </p:nvPicPr>
        <p:blipFill>
          <a:blip r:embed="rId15"/>
          <a:stretch/>
        </p:blipFill>
        <p:spPr>
          <a:xfrm>
            <a:off x="3635280" y="1052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9" descr="zvyozdi22.gif"/>
          <p:cNvPicPr/>
          <p:nvPr/>
        </p:nvPicPr>
        <p:blipFill>
          <a:blip r:embed="rId16"/>
          <a:stretch/>
        </p:blipFill>
        <p:spPr>
          <a:xfrm>
            <a:off x="4643280" y="1052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zvyozdi22.gif"/>
          <p:cNvPicPr/>
          <p:nvPr/>
        </p:nvPicPr>
        <p:blipFill>
          <a:blip r:embed="rId17"/>
          <a:stretch/>
        </p:blipFill>
        <p:spPr>
          <a:xfrm>
            <a:off x="5651640" y="1052640"/>
            <a:ext cx="723600" cy="723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1" descr="zvyozdi22.gif"/>
          <p:cNvPicPr/>
          <p:nvPr/>
        </p:nvPicPr>
        <p:blipFill>
          <a:blip r:embed="rId18"/>
          <a:stretch/>
        </p:blipFill>
        <p:spPr>
          <a:xfrm>
            <a:off x="6516720" y="1052640"/>
            <a:ext cx="723960" cy="723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2" descr="zvyozdi22.gif"/>
          <p:cNvPicPr/>
          <p:nvPr/>
        </p:nvPicPr>
        <p:blipFill>
          <a:blip r:embed="rId19"/>
          <a:stretch/>
        </p:blipFill>
        <p:spPr>
          <a:xfrm>
            <a:off x="7524720" y="98100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Заголовок 1" descr=""/>
          <p:cNvPicPr/>
          <p:nvPr/>
        </p:nvPicPr>
        <p:blipFill>
          <a:blip r:embed="rId20"/>
          <a:stretch/>
        </p:blipFill>
        <p:spPr>
          <a:xfrm>
            <a:off x="12600" y="2639880"/>
            <a:ext cx="91378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278604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 чем спят космонав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                     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 космос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371484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ят космонавты в космосе в спальных  мешках, пристёгнутых к кровати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сон в косм.jpg"/>
          <p:cNvPicPr/>
          <p:nvPr/>
        </p:nvPicPr>
        <p:blipFill>
          <a:blip r:embed="rId1"/>
          <a:stretch/>
        </p:blipFill>
        <p:spPr>
          <a:xfrm>
            <a:off x="3898800" y="357120"/>
            <a:ext cx="524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400" y="2928960"/>
            <a:ext cx="8715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од чьим руководством созданы космические корабли и раке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3578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оролё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ерге́й Па́влович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советский учёный, конструктор и организатор производства ракетно-космической техники и ракетного оружия СССР, основоположник практической космонавти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королев.jpg"/>
          <p:cNvPicPr/>
          <p:nvPr/>
        </p:nvPicPr>
        <p:blipFill>
          <a:blip r:embed="rId1"/>
          <a:stretch/>
        </p:blipFill>
        <p:spPr>
          <a:xfrm>
            <a:off x="4643280" y="428760"/>
            <a:ext cx="39751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00" y="2857680"/>
            <a:ext cx="8715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колько весит скафанд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264312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афандр веси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50 к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скафандр.jpg"/>
          <p:cNvPicPr/>
          <p:nvPr/>
        </p:nvPicPr>
        <p:blipFill>
          <a:blip r:embed="rId1"/>
          <a:stretch/>
        </p:blipFill>
        <p:spPr>
          <a:xfrm>
            <a:off x="4000680" y="0"/>
            <a:ext cx="471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1213920"/>
            <a:ext cx="72388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400" y="242892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вые собаки, побывавшие в космос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лка и Стре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собаки-космонавты.png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400" y="285768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Необъятный мир за пределами Зем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Марина\Рабочий стол\терешкова\planet1.jpg"/>
          <p:cNvPicPr/>
          <p:nvPr/>
        </p:nvPicPr>
        <p:blipFill>
          <a:blip r:embed="rId1"/>
          <a:stretch/>
        </p:blipFill>
        <p:spPr>
          <a:xfrm>
            <a:off x="785880" y="1643040"/>
            <a:ext cx="75722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31640" y="1628640"/>
            <a:ext cx="6994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возможно все на свете знать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надо нам стремиться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ытаться, пробовать, искать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космос может покориться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 покорился он дав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м  людям, кто вовек геро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рождения было сужде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вершить полет им за звездою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уда, где холод, темно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море звезд повсюду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лет открыл нам чудес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едь их обязаны мы чуду!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1213920"/>
            <a:ext cx="72388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400" y="2356920"/>
            <a:ext cx="8715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А знаете ли вы, что значит слово «Космонавтика»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монавтика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раблево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http://www.zateevo.ru/userfiles/image/Cosmos/Leonov_kartini/start_vostoka.jpg"/>
          <p:cNvPicPr/>
          <p:nvPr/>
        </p:nvPicPr>
        <p:blipFill>
          <a:blip r:embed="rId2"/>
          <a:stretch/>
        </p:blipFill>
        <p:spPr>
          <a:xfrm>
            <a:off x="4643280" y="1071720"/>
            <a:ext cx="4286520" cy="5429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http://www.zateevo.ru/userfiles/image/Cosmos/Leonov_kartini/leonov_v_cosmose2.jpg"/>
          <p:cNvPicPr/>
          <p:nvPr/>
        </p:nvPicPr>
        <p:blipFill>
          <a:blip r:embed="rId3"/>
          <a:stretch/>
        </p:blipFill>
        <p:spPr>
          <a:xfrm>
            <a:off x="214200" y="1643040"/>
            <a:ext cx="460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4643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3840" y="1643040"/>
            <a:ext cx="492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вый человек, вышедший в открытый космо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4" descr="http://www.zateevo.ru/userfiles/image/Cosmos/Leonov_kartini/cshelovek_nad_planetoy.jpg"/>
          <p:cNvPicPr/>
          <p:nvPr/>
        </p:nvPicPr>
        <p:blipFill>
          <a:blip r:embed="rId1"/>
          <a:stretch/>
        </p:blipFill>
        <p:spPr>
          <a:xfrm>
            <a:off x="5292720" y="907920"/>
            <a:ext cx="328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4853"/>
                </a:solidFill>
                <a:latin typeface="Calibri"/>
              </a:rPr>
              <a:t>Алексей Архипович Ле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http://scifiart.narod.ru/Articles/Picts/A-001.jpg"/>
          <p:cNvPicPr/>
          <p:nvPr/>
        </p:nvPicPr>
        <p:blipFill>
          <a:blip r:embed="rId1"/>
          <a:stretch/>
        </p:blipFill>
        <p:spPr>
          <a:xfrm>
            <a:off x="1763640" y="1052640"/>
            <a:ext cx="5400720" cy="45226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861840" y="5732640"/>
            <a:ext cx="74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c4853"/>
                </a:solidFill>
                <a:latin typeface="Calibri"/>
              </a:rPr>
              <a:t>Летчик-космонавт, дважды герой Советского Сою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c4853"/>
                </a:solidFill>
                <a:latin typeface="Calibri"/>
              </a:rPr>
              <a:t>первый человек в мире вышедший в открытый к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спут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785960" y="142920"/>
            <a:ext cx="664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«Космические    да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Марина\Рабочий стол\терешкова\4176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"/>
          <p:cNvSpPr/>
          <p:nvPr/>
        </p:nvSpPr>
        <p:spPr>
          <a:xfrm>
            <a:off x="3000240" y="0"/>
            <a:ext cx="3500640" cy="82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в космо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http://www.zateevo.ru/userfiles/image/Cosmos/Leonov_kartini/utro_v_cosmose.jpg"/>
          <p:cNvPicPr/>
          <p:nvPr/>
        </p:nvPicPr>
        <p:blipFill>
          <a:blip r:embed="rId1"/>
          <a:stretch/>
        </p:blipFill>
        <p:spPr>
          <a:xfrm>
            <a:off x="214200" y="260280"/>
            <a:ext cx="4862520" cy="33130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http://www.zateevo.ru/userfiles/image/Cosmos/Leonov_kartini/kosmicshesky_vecsher.jpg"/>
          <p:cNvPicPr/>
          <p:nvPr/>
        </p:nvPicPr>
        <p:blipFill>
          <a:blip r:embed="rId2"/>
          <a:stretch/>
        </p:blipFill>
        <p:spPr>
          <a:xfrm>
            <a:off x="3492360" y="3500280"/>
            <a:ext cx="5256360" cy="31384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5370840" y="170028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4853"/>
                </a:solidFill>
                <a:latin typeface="Calibri"/>
              </a:rPr>
              <a:t>Утро в космо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25680" y="494172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4853"/>
                </a:solidFill>
                <a:latin typeface="Calibri"/>
              </a:rPr>
              <a:t>Вечер в космо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– дети Галак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Documents and Settings\Марина\Рабочий стол\терешкова\foursuns_spitzer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запуск рак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1357200" y="2142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http://www.zateevo.ru/userfiles/image/Cosmos/Leonov_kartini/avtomaticsheskaja_stykovka.jpg"/>
          <p:cNvPicPr/>
          <p:nvPr/>
        </p:nvPicPr>
        <p:blipFill>
          <a:blip r:embed="rId1"/>
          <a:stretch/>
        </p:blipFill>
        <p:spPr>
          <a:xfrm>
            <a:off x="250920" y="404640"/>
            <a:ext cx="4994280" cy="36831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http://www.zateevo.ru/userfiles/image/Cosmos/Leonov_kartini/souz_apolon.jpeg"/>
          <p:cNvPicPr/>
          <p:nvPr/>
        </p:nvPicPr>
        <p:blipFill>
          <a:blip r:embed="rId2"/>
          <a:stretch/>
        </p:blipFill>
        <p:spPr>
          <a:xfrm>
            <a:off x="5580000" y="333360"/>
            <a:ext cx="3257640" cy="5327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337680" y="4292640"/>
            <a:ext cx="370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Стыковка совет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космических кора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639880" y="5805360"/>
            <a:ext cx="64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Стыковка «Союз -19» – «Аполлон»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min\Рабочий стол\слайды\i.jpg"/>
          <p:cNvPicPr/>
          <p:nvPr/>
        </p:nvPicPr>
        <p:blipFill>
          <a:blip r:embed="rId1"/>
          <a:stretch/>
        </p:blipFill>
        <p:spPr>
          <a:xfrm rot="1402200">
            <a:off x="360360" y="360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\Рабочий стол\слайды\FotonM3-launch.jpg"/>
          <p:cNvPicPr/>
          <p:nvPr/>
        </p:nvPicPr>
        <p:blipFill>
          <a:blip r:embed="rId2"/>
          <a:stretch/>
        </p:blipFill>
        <p:spPr>
          <a:xfrm>
            <a:off x="3214800" y="1500120"/>
            <a:ext cx="190188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Admin\Рабочий стол\слайды\c068mars-atmosphere2.jpg"/>
          <p:cNvPicPr/>
          <p:nvPr/>
        </p:nvPicPr>
        <p:blipFill>
          <a:blip r:embed="rId3"/>
          <a:stretch/>
        </p:blipFill>
        <p:spPr>
          <a:xfrm rot="979200">
            <a:off x="5743080" y="544680"/>
            <a:ext cx="2795760" cy="314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Documents and Settings\Admin\Рабочий стол\слайды\slide0001_image001.gif"/>
          <p:cNvPicPr/>
          <p:nvPr/>
        </p:nvPicPr>
        <p:blipFill>
          <a:blip r:embed="rId4"/>
          <a:stretch/>
        </p:blipFill>
        <p:spPr>
          <a:xfrm rot="20051400">
            <a:off x="347760" y="4047840"/>
            <a:ext cx="2695320" cy="2214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Admin\Рабочий стол\слайды\lune_mer_out.jpg"/>
          <p:cNvPicPr/>
          <p:nvPr/>
        </p:nvPicPr>
        <p:blipFill>
          <a:blip r:embed="rId5"/>
          <a:stretch/>
        </p:blipFill>
        <p:spPr>
          <a:xfrm rot="1089600">
            <a:off x="5630400" y="3855960"/>
            <a:ext cx="2721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http://www.zateevo.ru/userfiles/image/Cosmos/Leonov_kartini/perehod_v_drugoy_kk.jpg"/>
          <p:cNvPicPr/>
          <p:nvPr/>
        </p:nvPicPr>
        <p:blipFill>
          <a:blip r:embed="rId1"/>
          <a:stretch/>
        </p:blipFill>
        <p:spPr>
          <a:xfrm>
            <a:off x="1187280" y="404640"/>
            <a:ext cx="6674040" cy="4948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67000" y="5732640"/>
            <a:ext cx="80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Переход из одного космического корабля в др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4853"/>
                </a:solidFill>
                <a:latin typeface="Calibri"/>
              </a:rPr>
              <a:t>Первый спутник космической связи «Молния -1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http://www.zateevo.ru/userfiles/image/Cosmos/Leonov_kartini/molnija1.jpg"/>
          <p:cNvPicPr/>
          <p:nvPr/>
        </p:nvPicPr>
        <p:blipFill>
          <a:blip r:embed="rId1"/>
          <a:stretch/>
        </p:blipFill>
        <p:spPr>
          <a:xfrm>
            <a:off x="2411280" y="1052640"/>
            <a:ext cx="41468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http://www.zateevo.ru/userfiles/image/Cosmos/Leonov_kartini/vozvrashcenie_na_zemlu.jpg"/>
          <p:cNvPicPr/>
          <p:nvPr/>
        </p:nvPicPr>
        <p:blipFill>
          <a:blip r:embed="rId1"/>
          <a:stretch/>
        </p:blipFill>
        <p:spPr>
          <a:xfrm>
            <a:off x="2124000" y="260280"/>
            <a:ext cx="4921200" cy="5616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2507400" y="595008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130e"/>
                </a:solidFill>
                <a:latin typeface="Calibri"/>
              </a:rPr>
              <a:t>Возвращение на Зем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7130e"/>
                </a:solidFill>
                <a:latin typeface="Calibri"/>
              </a:rPr>
              <a:t>Фантастические космические пейзаж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3" descr="http://scifiart.narod.ru/Articles/Picts/A-004.jpg"/>
          <p:cNvPicPr/>
          <p:nvPr/>
        </p:nvPicPr>
        <p:blipFill>
          <a:blip r:embed="rId1"/>
          <a:stretch/>
        </p:blipFill>
        <p:spPr>
          <a:xfrm>
            <a:off x="324000" y="2060640"/>
            <a:ext cx="4981320" cy="35416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www.zateevo.ru/userfiles/image/Cosmos/Leonov_kartini/na_blizajschey_k_solnzu_planete.jpg"/>
          <p:cNvPicPr/>
          <p:nvPr/>
        </p:nvPicPr>
        <p:blipFill>
          <a:blip r:embed="rId2"/>
          <a:stretch/>
        </p:blipFill>
        <p:spPr>
          <a:xfrm>
            <a:off x="5435640" y="1484280"/>
            <a:ext cx="3475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Рисунок 3" descr="http://www.zateevo.ru/userfiles/image/Cosmos/Leonov_kartini/cosmavty_budush.jpg"/>
          <p:cNvPicPr/>
          <p:nvPr/>
        </p:nvPicPr>
        <p:blipFill>
          <a:blip r:embed="rId1"/>
          <a:stretch/>
        </p:blipFill>
        <p:spPr>
          <a:xfrm>
            <a:off x="324000" y="1125360"/>
            <a:ext cx="4464000" cy="4680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http://www.zateevo.ru/userfiles/image/Cosmos/Leonov_kartini/le_sokolov_nachalo_tormozhenija.jpg"/>
          <p:cNvPicPr/>
          <p:nvPr/>
        </p:nvPicPr>
        <p:blipFill>
          <a:blip r:embed="rId2"/>
          <a:stretch/>
        </p:blipFill>
        <p:spPr>
          <a:xfrm>
            <a:off x="5148360" y="1125360"/>
            <a:ext cx="367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3" descr="http://www.zateevo.ru/userfiles/image/Cosmos/Leonov_kartini/ic_443.jpg"/>
          <p:cNvPicPr/>
          <p:nvPr/>
        </p:nvPicPr>
        <p:blipFill>
          <a:blip r:embed="rId1"/>
          <a:stretch/>
        </p:blipFill>
        <p:spPr>
          <a:xfrm>
            <a:off x="468360" y="1628640"/>
            <a:ext cx="4429080" cy="34768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http://www.zateevo.ru/userfiles/image/Cosmos/Leonov_kartini/vblizi_luny.jpg"/>
          <p:cNvPicPr/>
          <p:nvPr/>
        </p:nvPicPr>
        <p:blipFill>
          <a:blip r:embed="rId2"/>
          <a:stretch/>
        </p:blipFill>
        <p:spPr>
          <a:xfrm>
            <a:off x="5292720" y="1125360"/>
            <a:ext cx="362268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ы держим курс на космос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 мечт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ть небо  станет  и добрей, и чищ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ть новые герои набирают высоту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ть космос будет нам всё  ближ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сленно совершите путешествие на одну из планет неизвестной нам галактики и представьте, что бы вы могли там увиде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 согласно своему замыслу выполнить композицию (космический пейзаж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работу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207180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001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Когда наша страна отмечает день космонавтики? Почем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2 апреля – Всемирный день авиации и космонав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Admin\Рабочий стол\слайды\Nebo_500.jpg"/>
          <p:cNvPicPr/>
          <p:nvPr/>
        </p:nvPicPr>
        <p:blipFill>
          <a:blip r:embed="rId1"/>
          <a:stretch/>
        </p:blipFill>
        <p:spPr>
          <a:xfrm rot="18401400">
            <a:off x="405720" y="2589480"/>
            <a:ext cx="4073400" cy="305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Admin\Рабочий стол\слайды\0000000028.jpg"/>
          <p:cNvPicPr/>
          <p:nvPr/>
        </p:nvPicPr>
        <p:blipFill>
          <a:blip r:embed="rId2"/>
          <a:stretch/>
        </p:blipFill>
        <p:spPr>
          <a:xfrm rot="21208800">
            <a:off x="5284440" y="2306520"/>
            <a:ext cx="3105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238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480" y="207180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001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Назовите имя первого космонавта, впервые шагнувшего в бескрайние просторы Вселенн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b1d15"/>
                </a:solidFill>
                <a:latin typeface="Calibri"/>
              </a:rPr>
              <a:t>Юрий Алексеевич Гаг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-main-pic" descr="Картинка 4 из 2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07920"/>
            <a:ext cx="4319640" cy="4829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63600" y="5805360"/>
            <a:ext cx="85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вершил первый полёт в космос 12 апреля 196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-main-pic" descr="Картинка 40 из 155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907920"/>
            <a:ext cx="28018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238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5480" y="207180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001"/>
              </a:spcBef>
              <a:buClr>
                <a:srgbClr val="ffff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колько времени длился его пол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ёт длился 108 мин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C:\Documents and Settings\Марина\Рабочий стол\терешкова\nikplanet18.JPG"/>
          <p:cNvPicPr/>
          <p:nvPr/>
        </p:nvPicPr>
        <p:blipFill>
          <a:blip r:embed="rId1"/>
          <a:stretch/>
        </p:blipFill>
        <p:spPr>
          <a:xfrm>
            <a:off x="1357200" y="164304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5:50:45Z</dcterms:created>
  <dc:creator>Елена Круглякова</dc:creator>
  <dc:description/>
  <dc:language>en-US</dc:language>
  <cp:lastModifiedBy>User</cp:lastModifiedBy>
  <dcterms:modified xsi:type="dcterms:W3CDTF">2015-04-23T11:26:21Z</dcterms:modified>
  <cp:revision>63</cp:revision>
  <dc:subject/>
  <dc:title>Космос – далекий и близкий</dc:title>
</cp:coreProperties>
</file>