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3DFB-5AD2-4916-9820-3556C3DE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38B-976E-4A8A-A750-74A645A2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DC88-B230-4DE8-97D4-FAE5B654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621-3A02-4FC1-B693-F6DF9FB6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1D21-D93D-4A4D-950D-98AA237F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C3F1-8BF1-43F0-9190-CBA77085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8E64-9927-4620-852A-9E5C53CC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E6A9-9AEF-4836-8625-9E522EF6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B9D7-6066-4E5B-A01E-1975D668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CB45-985E-4B9E-B277-FE696485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2400-BE41-4768-94C1-7386D226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C0C-8B78-4CC3-8D7D-F7BD249B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7849-6DC9-4848-885E-A0F2F165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ED53-8328-4B04-A3E1-E592D9F3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0AB2-8D97-45BC-AEC3-8EAB3C4E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7305-37EB-421B-A567-1B169696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FFF1-7943-422D-858F-B0695F42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55C4-9CAC-42AC-8E1F-B6474119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20DD-2EC6-4065-A866-DE18D891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59A9-609D-4B80-A1E2-F86357E6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FC1-4DAC-4DAD-8844-0ED07D73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B7A9-25CF-4C40-88C1-48EAD44A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7148-6CA1-4076-95E2-03DCE678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D1F-7B55-46A7-9D8D-DCFE4E0D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1B2F-7D9C-4D66-BD9F-7012EA025B0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71A2-9212-49D1-A62C-C11E1A5E207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oudrost.ru/tema/aphorism_life1.html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uva.asia/persons/4859-vasilenko.html?PHPSESSID=23a9e99217acd037b9b03ad4391b126a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ed51"/>
                </a:solidFill>
                <a:latin typeface="Verdana"/>
              </a:rPr>
              <a:t>Автор: Суур-оол Айрана ученица 10 «б» класс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ed51"/>
                </a:solidFill>
                <a:latin typeface="Verdana"/>
              </a:rPr>
              <a:t>Руководитель: Сат Татьяна               Алексеев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00000" y="1052640"/>
            <a:ext cx="77043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aiandra GD"/>
              </a:rPr>
              <a:t>Восстание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aiandra GD"/>
              </a:rPr>
              <a:t>60-ти богатыре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права над восставшими кайгалами была жесточайшей – они испытали на себе все 9 видов наказаний эрээ, в числе которых забивание палок под ногти, ношение досок на шее, удары по щекам мешками, наполненными песком. Высшей мерой наказания являлось отрубание головы. В назидание другим головы кайгалов вывешивались на видное место и специально охранялись, чтобы никто не мог их похорони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осстание 60-ти богатырей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(тув. Алдан маадыр, «шестьдесят богатырей») — одно из наиболее крупных выступлений в истории тувинского национально-освободительного движе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осстание Самбажыка — это тип восстания «Степана Разина» и «Емельяна Пугачёва» ..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увинский народ законно гордится бесстрашными подвигами своих предков, славными героями — борцами за народное дело —Самбажыка, Дажыма и их соратников. Память о них вечно будет жить в сердцах  Тывы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1196640"/>
            <a:ext cx="8147160" cy="4032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Жизнь</a:t>
            </a: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 героев обогатила историю, а история украсила подвиги героев. 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Ж. Лабрюйе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5435640" cy="6669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859280" y="0"/>
            <a:ext cx="428472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Mangal"/>
              </a:rPr>
              <a:t>В селе Алдан-Маадыр Сут-Хольского кожууна – родине восставших, открыт филиал национального музея, который также назван в честь героев того времени.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достопримечательность Сут-Холя, претендующая на звание одной из драгоценностей Тувы – памятник, посвященный восстанию 60 богатырей - историческому событию конца 19 века, произошедшему на территории тогда еще Урянхайского края</a:t>
            </a:r>
            <a:r>
              <a:rPr b="1" lang="ru-RU" sz="3200" spc="-1" strike="noStrike">
                <a:solidFill>
                  <a:srgbClr val="deed51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96000" y="0"/>
            <a:ext cx="3348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Огромный колчан для стрел, уходящий в небо, и выложенные металлом 68 имен восставших.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втор памятни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4933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Это был первый Творение художника Ортуна Сарыглара в Сут-Хольских степях стоит с 1993 года. Оно было возведено к 100-летию восстания 60-ти богатырей против маньчжурского гнета.                          У Ортуна Сарыглара отношение особое  – «памятник представляет собой юрту, из которой выходит колчан со стрелами. Стрелы означают пламя. Это обозначает, что из этой юрты вышло восстание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По словам Ортуна Сарыглара, в создание памятника, посвященного восстанию 60 богатырей, вкладывалась главная идея – не мириться с обстоятельствами, а пытаться любым образом, даже кровавым, бороться с несправедливостью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Памятник  Самбажыку.png"/>
          <p:cNvPicPr/>
          <p:nvPr/>
        </p:nvPicPr>
        <p:blipFill>
          <a:blip r:embed="rId1"/>
          <a:stretch/>
        </p:blipFill>
        <p:spPr>
          <a:xfrm>
            <a:off x="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88000" y="-360"/>
            <a:ext cx="2556000" cy="6597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У моста через реку Хемчик близ села Суг-Аксы, поставлен памятник предводителю восстания 60 богатырей Самбажыку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eed51"/>
                </a:solidFill>
                <a:latin typeface="Verdana"/>
              </a:rPr>
              <a:t>История — сокровищница наших деяний, свидетельница прошлого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eed51"/>
                </a:solidFill>
                <a:latin typeface="Verdana"/>
              </a:rPr>
              <a:t>пример и поучение для настоящего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eed51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deed51"/>
                </a:solidFill>
                <a:latin typeface="Verdana"/>
              </a:rPr>
              <a:t>предостережение для будущего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                                        </a:t>
            </a: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Сервантес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ed51"/>
                </a:solidFill>
                <a:latin typeface="Arial"/>
              </a:rPr>
              <a:t>Использованная литератур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Елена Цыганенко,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  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ести-Тыва, Сут-Холь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Ховалыг С. С.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Электронный информационный журнал « Новые исследования Тувы»  История чиновничества Танну-Тувы (середина XVIII - конец XIX вв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Василенко В. А.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Неопубликованная рукопись Пурбо Балданжапова «Тува под гнетом маньчжурских захватчиков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971640" y="1557360"/>
            <a:ext cx="7561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внимание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зная прошлого своего народа, трудно предвидеть его будущее. Сложно представлять свои корни.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этом году исполняется 130 лет со времени начала восстания 60 богатырей. По прошествии более чем века в обществе не утихают споры о том, кем же они все-таки были: положительными героями освободительного движения или скотокрадами-кайгалами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Я интересуюсь и изучаю историю родного края. Читаю книги об истории, смотрю передачи о них. Выписываю интересные исторические факты.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Я хочу сегодня поделиться своими исследованиями о восстании 60-богатырях. Ответить на некоторые вопросы, которые интересовали меня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Я решила узнать кто такие 60-богатыри, какую роль играют в истории Тывинского народа.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30 юбилей проводили в этом году. Именно, поэтому я и выбрала эту тем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йти ответы на поставленные мною вопросы по данной теме из разных источников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ыяснить, почему празднуют 130лет  60 богатырей , кто они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огда и где было восста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сстание проходило в 1883—84 в долине реки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Хемчик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 было направлено против колониального и феодального гнета.     Первый сход 16-ти недовольных аратов состоялся летом 1883 года у реки Чыргакы, на котором было решено сплотиться и не платить дань, не выполнять указания феодалов. Впоследствии к ним присоединились араты из Овюра, Чаа-Холя, соседнего Алтая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ем были повстанцы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уководителями восстания были араты Самбажык, Кожагар-Комбулдай и мелкий чиновник Дажыма. Общее количество непосредственных участников доходило до 300 человек.                                                     Они, простые араты-бедняки, не выдержали жестокого отношения со стороны местных феодалов и взбунтовались. Недовольные кайгалы крали скот у особо жестоких богачей, раздавали бедным.                               По сути, в Урянхайском крае это был первый организованный вызов несправедливой власт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Цель повстанце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осставшие намеревались освободить из-под власти тувинских чиновников и маньчжуро-китайских завоевателей 2 самых многочисленных хошуна Тувы и установить в них свою власть, они совершали налеты на феодалов и торговцев, угоняли у них скот и раздавали беднякам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ноябре 1884 восстание было подавлено. Всех пленных свезли к устью Чыргакы, подвергли пыткам. В марте 1885 были казнены в Улаастае 43 активных участника восстания. Головы казненных по распоряжению улясутайского цзянь-цзюня перевезли в Туву и выставили на шестах у больших дорог и перевалов для устрашения люде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14:19:27Z</dcterms:created>
  <dc:creator>1</dc:creator>
  <dc:description/>
  <dc:language>en-US</dc:language>
  <cp:lastModifiedBy>1</cp:lastModifiedBy>
  <dcterms:modified xsi:type="dcterms:W3CDTF">2015-04-24T06:14:34Z</dcterms:modified>
  <cp:revision>8</cp:revision>
  <dc:subject/>
  <dc:title>Слайд 1</dc:title>
</cp:coreProperties>
</file>