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785-D7DC-4DCA-BD56-3E84BD6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EAB-6DBA-4198-8222-00399F2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78F-E7D5-49BC-9B9F-7731FB22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5E9-15C2-4A94-A573-2B05721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C16F-FA2E-4622-A47D-7FA778F4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F400-2C96-405C-8609-CCDDD61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5E5-DB46-46D5-9797-9C7B420D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8341-6BAB-4728-95A9-E77A85F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EC2B-ECBB-4C58-891D-FA42E93D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7D63-1058-4EC4-8038-2BDBE10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1825-5FF1-4E96-A125-C47DD79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426-AE03-48CD-9031-57939290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618-FEE2-44EC-9FFB-0AE4CEA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2E7-C504-4B93-84A9-07EB371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352F-1C9A-4D7E-AF41-EE8B1CE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48D-CE2D-40B3-8274-A565213B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828-EB4F-4763-8398-9CB92C80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8DB-57B6-4DFB-B370-B47F4B72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167-A138-477B-85AA-DDBD88C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4BB-B842-4C65-B1B8-B9E5C5D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5BC-406A-4B2B-9433-2CD286A2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7EB-E8A6-454F-91B9-2A0A590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448-7A69-40FA-9D21-AC7D9C0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AC5-C07C-4280-96B4-CA5E00F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4889-20D1-4287-8DB8-22844230C8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EB3-A206-414D-AB53-59C405B346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oudrost.ru/tema/aphorism_life1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uva.asia/persons/4859-vasilenko.html?PHPSESSID=23a9e99217acd037b9b03ad4391b126a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ed51"/>
                </a:solidFill>
                <a:latin typeface="Verdana"/>
              </a:rPr>
              <a:t>Автор: Суур-оол Айрана ученица 10 «б» клас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ed51"/>
                </a:solidFill>
                <a:latin typeface="Verdana"/>
              </a:rPr>
              <a:t>Руководитель: Сат Татьяна               Алексеев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052640"/>
            <a:ext cx="7704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Восстани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60-ти богатыре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рава над восставшими кайгалами была жесточайшей – они испытали на себе все 9 видов наказаний эрээ, в числе которых забивание палок под ногти, ношение досок на шее, удары по щекам мешками, наполненными песком. Высшей мерой наказания являлось отрубание головы. В назидание другим головы кайгалов вывешивались на видное место и специально охранялись, чтобы никто не мог их похорони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осстание 60-ти богатыре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тув. Алдан маадыр, «шестьдесят богатырей») — одно из наиболее крупных выступлений в истории тувинского национально-освободительного движ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стание Самбажыка — это тип восстания «Степана Разина» и «Емельяна Пугачёва» .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увинский народ законно гордится бесстрашными подвигами своих предков, славными героями — борцами за народное дело —Самбажыка, Дажыма и их соратников. Память о них вечно будет жить в сердцах  Тыв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47160" cy="403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Жизнь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 героев обогатила историю, а история украсила подвиги героев. 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Ж. Лабрюйе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angal"/>
              </a:rPr>
              <a:t>В селе Алдан-Маадыр Сут-Хольского кожууна – родине восставших, открыт филиал национального музея, который также назван в честь героев того времени.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остопримечательность Сут-Холя, претендующая на звание одной из драгоценностей Тувы – памятник, посвященный восстанию 60 богатырей - историческому событию конца 19 века, произошедшему на территории тогда еще Урянхайского края</a:t>
            </a:r>
            <a:r>
              <a:rPr b="1" lang="ru-RU" sz="3200" spc="-1" strike="noStrike">
                <a:solidFill>
                  <a:srgbClr val="deed51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Огромный колчан для стрел, уходящий в небо, и выложенные металлом 68 имен восставших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втор памятн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933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Это был первый Творение художника Ортуна Сарыглара в Сут-Хольских степях стоит с 1993 года. Оно было возведено к 100-летию восстания 60-ти богатырей против маньчжурского гнета.                          У Ортуна Сарыглара отношение особое  – «памятник представляет собой юрту, из которой выходит колчан со стрелами. Стрелы означают пламя. Это обозначает, что из этой юрты вышло восстание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о словам Ортуна Сарыглара, в создание памятника, посвященного восстанию 60 богатырей, вкладывалась главная идея – не мириться с обстоятельствами, а пытаться любым образом, даже кровавым, бороться с несправедливость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Памятник  Самбажыку.png"/>
          <p:cNvPicPr/>
          <p:nvPr/>
        </p:nvPicPr>
        <p:blipFill>
          <a:blip r:embed="rId1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88000" y="-360"/>
            <a:ext cx="2556000" cy="6597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 моста через реку Хемчик близ села Суг-Аксы, поставлен памятник предводителю восстания 60 богатырей Самбажыку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История — сокровищница наших деяний, свидетельница прошлого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пример и поучение для настоящего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deed51"/>
                </a:solidFill>
                <a:latin typeface="Verdana"/>
              </a:rPr>
              <a:t>предостережение для будущег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Серванте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ed51"/>
                </a:solidFill>
                <a:latin typeface="Arial"/>
              </a:rPr>
              <a:t>Использованная литератур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лена Цыганенко,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сти-Тыва, Сут-Хол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овалыг С. С.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лектронный информационный журнал « Новые исследования Тувы»  История чиновничества Танну-Тувы (середина XVIII - конец XIX вв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асиленко В. А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Неопубликованная рукопись Пурбо Балданжапова «Тува под гнетом маньчжурских захватчиков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71640" y="1557360"/>
            <a:ext cx="7561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ная прошлого своего народа, трудно предвидеть его будущее. Сложно представлять свои корни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этом году исполняется 130 лет со времени начала восстания 60 богатырей. По прошествии более чем века в обществе не утихают споры о том, кем же они все-таки были: положительными героями освободительного движения или скотокрадами-кайгалам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интересуюсь и изучаю историю родного края. Читаю книги об истории, смотрю передачи о них. Выписываю интересные исторические факты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хочу сегодня поделиться своими исследованиями о восстании 60-богатырях. Ответить на некоторые вопросы, которые интересовали меня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Я решила узнать кто такие 60-богатыри, какую роль играют в истории Тывинского народа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30 юбилей проводили в этом году. Именно, поэтому я и выбрала эту те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йти ответы на поставленные мною вопросы по данной теме из разных источни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яснить, почему празднуют 130лет  60 богатырей , кто они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гда и где было восс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стание проходило в 1883—84 в долине реки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емчик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 было направлено против колониального и феодального гнета.     Первый сход 16-ти недовольных аратов состоялся летом 1883 года у реки Чыргакы, на котором было решено сплотиться и не платить дань, не выполнять указания феодалов. Впоследствии к ним присоединились араты из Овюра, Чаа-Холя, соседнего Алта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ем были повстанц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уководителями восстания были араты Самбажык, Кожагар-Комбулдай и мелкий чиновник Дажыма. Общее количество непосредственных участников доходило до 300 человек.                                                     Они, простые араты-бедняки, не выдержали жестокого отношения со стороны местных феодалов и взбунтовались. Недовольные кайгалы крали скот у особо жестоких богачей, раздавали бедным.                               По сути, в Урянхайском крае это был первый организованный вызов несправедливой вла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ь повстанце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осставшие намеревались освободить из-под власти тувинских чиновников и маньчжуро-китайских завоевателей 2 самых многочисленных хошуна Тувы и установить в них свою власть, они совершали налеты на феодалов и торговцев, угоняли у них скот и раздавали бедняка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оябре 1884 восстание было подавлено. Всех пленных свезли к устью Чыргакы, подвергли пыткам. В марте 1885 были казнены в Улаастае 43 активных участника восстания. Головы казненных по распоряжению улясутайского цзянь-цзюня перевезли в Туву и выставили на шестах у больших дорог и перевалов для устрашения люд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4:19:27Z</dcterms:created>
  <dc:creator>1</dc:creator>
  <dc:description/>
  <dc:language>en-US</dc:language>
  <cp:lastModifiedBy>1</cp:lastModifiedBy>
  <dcterms:modified xsi:type="dcterms:W3CDTF">2015-04-24T06:14:34Z</dcterms:modified>
  <cp:revision>8</cp:revision>
  <dc:subject/>
  <dc:title>Слайд 1</dc:title>
</cp:coreProperties>
</file>