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9EE-6FF5-47D2-98E7-7D229469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F17-FB68-4EE4-B0C6-BC242E75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259-7591-4FC0-A080-C5566CD2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C41-E8AE-410F-B412-9BD75819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C36-1340-4C2C-9DA2-4D173937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E67-10CD-4540-B7B6-FEBE070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F20-B96B-4C75-9BBC-D7B013E8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034-EF94-4AC6-A9AE-41E62B56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8BD-AAAA-4BCB-A50F-058683D8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A54-236E-4BF3-88BA-7E4DF19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C56-5758-40F0-892E-8EE0F77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74-6049-4B4C-89D5-4CCAB33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2EA-DADC-483A-AAB7-E08E38C79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1418.ru/photo.php?photographer=63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144_1157401189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z_khroniki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russian_infantry1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p5.jpg"/>
          <p:cNvPicPr/>
          <p:nvPr/>
        </p:nvPicPr>
        <p:blipFill>
          <a:blip r:embed="rId1"/>
          <a:stretch/>
        </p:blipFill>
        <p:spPr>
          <a:xfrm>
            <a:off x="128520" y="195120"/>
            <a:ext cx="4645080" cy="6034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4714920" y="1071720"/>
            <a:ext cx="3786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2 июня 1941 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явление о начале Великой Отечественной войны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сква, улица 25-го Октябр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Е. Хал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одержимое 2"/>
          <p:cNvSpPr/>
          <p:nvPr/>
        </p:nvSpPr>
        <p:spPr>
          <a:xfrm>
            <a:off x="457200" y="1600200"/>
            <a:ext cx="818676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ТУПЛЕНИЕ ПО РАДИО ЗАМЕСТИТЕЛЯ ПРЕДСЕДАТЕЛЯ СОВЕТА НАРОДНЫХ КОМИССАРОВ СОЮЗА ССР И НАРОДНОГО КОМИССАРА ИНОСТРАННЫХ ДЕЛ ТОВ. В. М. МОЛОТ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22 июня 1941 год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Сегодня, в 4 часа утра, без предъявления каких-либо претензий к Советскому Союзу, без объявления войны, германские войска напали на нашу страну, атаковали наши границы во многих местах и подвергли бомбежке своих самолетов наши города — Житомир, Киев, Севастополь, Каунас и некоторые другие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сная Армия и весь наш народ вновь поведут победоносную отечественную войну за родину, за честь, за свободу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ше дело правое. Враг будет разбит. Победа будет за н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426960" y="573120"/>
            <a:ext cx="85219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1-36_sm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425679718"/>
          <p:cNvPicPr/>
          <p:nvPr/>
        </p:nvPicPr>
        <p:blipFill>
          <a:blip r:embed="rId1"/>
          <a:stretch/>
        </p:blipFill>
        <p:spPr>
          <a:xfrm>
            <a:off x="129528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best-mp3.ru_a._aleksandrov_-_svyaszennaya_voina.mp3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orld_war2_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68600" y="0"/>
            <a:ext cx="53416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ойна\0_f005_31359a8f_XL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война\eremenko.jpg"/>
          <p:cNvPicPr/>
          <p:nvPr/>
        </p:nvPicPr>
        <p:blipFill>
          <a:blip r:embed="rId1"/>
          <a:stretch/>
        </p:blipFill>
        <p:spPr>
          <a:xfrm>
            <a:off x="0" y="0"/>
            <a:ext cx="89409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r</cp:lastModifiedBy>
  <dcterms:modified xsi:type="dcterms:W3CDTF">2015-04-24T09:02:5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