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CF5A-2B96-4C70-BE5E-E3B2411D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330B-B5F6-4648-82F5-56D1A199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5C86-024C-4D0D-9FDF-34A4C8066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EDEF-D1AD-4DDA-8EA1-74FAE4AC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265B-2E49-42BA-9BC8-A0BE21B2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BA76-79BA-4541-9844-3F0DE624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4411-14E8-4557-8E6C-49D27483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588E-CB86-470A-A3D1-5296AA37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BB54-F5C7-46FA-8A93-C46166B9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5143-98CD-40F0-846C-ABC765BB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F8BF-B125-4111-A8EA-9E2C06AE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23E6-3428-45BC-AC06-C9A533C2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70C9-D53A-4984-B08B-57F9A27E55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1418.ru/photo.php?photographer=63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6400800" cy="63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j144_1157401189"/>
          <p:cNvPicPr/>
          <p:nvPr/>
        </p:nvPicPr>
        <p:blipFill>
          <a:blip r:embed="rId1"/>
          <a:stretch/>
        </p:blipFill>
        <p:spPr>
          <a:xfrm>
            <a:off x="304920" y="228600"/>
            <a:ext cx="883908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Iz_khroniki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russian_infantry1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Содержимое 3" descr="p5.jpg"/>
          <p:cNvPicPr/>
          <p:nvPr/>
        </p:nvPicPr>
        <p:blipFill>
          <a:blip r:embed="rId1"/>
          <a:stretch/>
        </p:blipFill>
        <p:spPr>
          <a:xfrm>
            <a:off x="128520" y="195120"/>
            <a:ext cx="4645080" cy="603432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2"/>
          <p:cNvSpPr/>
          <p:nvPr/>
        </p:nvSpPr>
        <p:spPr>
          <a:xfrm>
            <a:off x="4714920" y="1071720"/>
            <a:ext cx="3786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22 июня 1941 го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ъявление о начале Великой Отечественной войны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сква, улица 25-го Октября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Фото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"/>
              </a:rPr>
              <a:t>Е. Халд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4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Содержимое 2"/>
          <p:cNvSpPr/>
          <p:nvPr/>
        </p:nvSpPr>
        <p:spPr>
          <a:xfrm>
            <a:off x="457200" y="1600200"/>
            <a:ext cx="818676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СТУПЛЕНИЕ ПО РАДИО ЗАМЕСТИТЕЛЯ ПРЕДСЕДАТЕЛЯ СОВЕТА НАРОДНЫХ КОМИССАРОВ СОЮЗА ССР И НАРОДНОГО КОМИССАРА ИНОСТРАННЫХ ДЕЛ ТОВ. В. М. МОЛОТО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22 июня 1941 года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…Сегодня, в 4 часа утра, без предъявления каких-либо претензий к Советскому Союзу, без объявления войны, германские войска напали на нашу страну, атаковали наши границы во многих местах и подвергли бомбежке своих самолетов наши города — Житомир, Киев, Севастополь, Каунас и некоторые другие…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асная Армия и весь наш народ вновь поведут победоносную отечественную войну за родину, за честь, за свободу…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ше дело правое. Враг будет разбит. Победа будет за н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Прямоугольник 2" descr=""/>
          <p:cNvPicPr/>
          <p:nvPr/>
        </p:nvPicPr>
        <p:blipFill>
          <a:blip r:embed="rId1"/>
          <a:stretch/>
        </p:blipFill>
        <p:spPr>
          <a:xfrm>
            <a:off x="426960" y="573120"/>
            <a:ext cx="85219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11-36_sm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425679718"/>
          <p:cNvPicPr/>
          <p:nvPr/>
        </p:nvPicPr>
        <p:blipFill>
          <a:blip r:embed="rId1"/>
          <a:stretch/>
        </p:blipFill>
        <p:spPr>
          <a:xfrm>
            <a:off x="1295280" y="0"/>
            <a:ext cx="57913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best-mp3.ru_a._aleksandrov_-_svyaszennaya_voina.mp3" descr=""/>
          <p:cNvPicPr/>
          <p:nvPr/>
        </p:nvPicPr>
        <p:blipFill>
          <a:blip r:embed="rId2"/>
          <a:stretch/>
        </p:blipFill>
        <p:spPr>
          <a:xfrm>
            <a:off x="769608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world_war2_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668600" y="0"/>
            <a:ext cx="534168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:\война\0_f005_31359a8f_XL.jpg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F:\война\eremenko.jpg"/>
          <p:cNvPicPr/>
          <p:nvPr/>
        </p:nvPicPr>
        <p:blipFill>
          <a:blip r:embed="rId1"/>
          <a:stretch/>
        </p:blipFill>
        <p:spPr>
          <a:xfrm>
            <a:off x="0" y="0"/>
            <a:ext cx="894096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ar</cp:lastModifiedBy>
  <dcterms:modified xsi:type="dcterms:W3CDTF">2015-04-24T09:02:56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