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76C0-2C7D-4F3E-B540-59B0E509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2A1E-65C3-469E-8575-B889D6B5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2E4C-7AEC-4A87-B1AB-DB3099E3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8082-D668-4B71-84AF-1AA4EA05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96B2-9399-423F-B377-E1610F5B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3279-905F-4CFE-8A32-FE6B878B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8346-104B-45D4-A772-3F97B820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2129-6AB7-433D-B692-CF6BD457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559E-6978-4FDB-9AA6-5FC2FC0F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2FA4-8480-4636-922C-89741D2A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FAEC-5FC8-48F6-B09E-C00DC16D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8EA0-953E-4E04-A192-52A706C8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937B-014B-44D6-AFC9-E95F12273A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646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ети-герои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676160" y="6019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́ин-освободи́тель» — монумент в берлинском Трептов-пар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http://uapress.info/content/news/2013/6/%D0%BD%D0%BE%D0%B2%D0%B0%D1%8F%20%D0%BF%D0%B0%D0%BF%D0%BA%D0%B0/947153102.jpg"/>
          <p:cNvPicPr/>
          <p:nvPr/>
        </p:nvPicPr>
        <p:blipFill>
          <a:blip r:embed="rId1"/>
          <a:srcRect l="0" t="4881" r="0" b="4881"/>
          <a:stretch/>
        </p:blipFill>
        <p:spPr>
          <a:xfrm>
            <a:off x="2514600" y="228600"/>
            <a:ext cx="4876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т Великий день принято бывать на могилах погибших воинов, возлагать венки, живые цветы тем, кто не вернулся с вой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F:\9 мая 2008\Апрель_май_2008 1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38881_800_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ечный огонь горит в память о погибших в годы Великой Отечественной войны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metronom1.mp3" descr=""/>
          <p:cNvPicPr/>
          <p:nvPr/>
        </p:nvPicPr>
        <p:blipFill>
          <a:blip r:embed="rId2"/>
          <a:stretch/>
        </p:blipFill>
        <p:spPr>
          <a:xfrm>
            <a:off x="76201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всей стране слышны залпы праздничного салюта в честь тех, кто сражался за Род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97580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1331"/>
          <p:cNvPicPr/>
          <p:nvPr/>
        </p:nvPicPr>
        <p:blipFill>
          <a:blip r:embed="rId1"/>
          <a:stretch/>
        </p:blipFill>
        <p:spPr>
          <a:xfrm>
            <a:off x="1981080" y="0"/>
            <a:ext cx="53485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Спасибо нашим прадедам за Побед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009"/>
          <p:cNvPicPr/>
          <p:nvPr/>
        </p:nvPicPr>
        <p:blipFill>
          <a:blip r:embed="rId1"/>
          <a:stretch/>
        </p:blipFill>
        <p:spPr>
          <a:xfrm>
            <a:off x="1692360" y="0"/>
            <a:ext cx="611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010"/>
          <p:cNvPicPr/>
          <p:nvPr/>
        </p:nvPicPr>
        <p:blipFill>
          <a:blip r:embed="rId1"/>
          <a:stretch/>
        </p:blipFill>
        <p:spPr>
          <a:xfrm>
            <a:off x="1981080" y="0"/>
            <a:ext cx="54993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011"/>
          <p:cNvPicPr/>
          <p:nvPr/>
        </p:nvPicPr>
        <p:blipFill>
          <a:blip r:embed="rId1"/>
          <a:stretch/>
        </p:blipFill>
        <p:spPr>
          <a:xfrm>
            <a:off x="1987560" y="98280"/>
            <a:ext cx="586116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012"/>
          <p:cNvPicPr/>
          <p:nvPr/>
        </p:nvPicPr>
        <p:blipFill>
          <a:blip r:embed="rId1"/>
          <a:stretch/>
        </p:blipFill>
        <p:spPr>
          <a:xfrm>
            <a:off x="1752480" y="0"/>
            <a:ext cx="578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Картинка 8 из 6235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1293"/>
          <p:cNvPicPr/>
          <p:nvPr/>
        </p:nvPicPr>
        <p:blipFill>
          <a:blip r:embed="rId1"/>
          <a:stretch/>
        </p:blipFill>
        <p:spPr>
          <a:xfrm>
            <a:off x="13716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639584"/>
          <p:cNvPicPr/>
          <p:nvPr/>
        </p:nvPicPr>
        <p:blipFill>
          <a:blip r:embed="rId1"/>
          <a:stretch/>
        </p:blipFill>
        <p:spPr>
          <a:xfrm>
            <a:off x="838080" y="152280"/>
            <a:ext cx="7696440" cy="5613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6858000" y="152280"/>
            <a:ext cx="1600200" cy="533520"/>
          </a:xfrm>
          <a:prstGeom prst="rect">
            <a:avLst/>
          </a:prstGeom>
          <a:solidFill>
            <a:srgbClr val="3b7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5943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 м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всенародный праздник. В этом году наш народ отмечает 69-летие  Великой Побе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0" y="5943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т день вспоминают тех, кто остался на полях сражений, тех, кто после войны налаживал мирную жизнь. А еще поздравляют тех воинов Великой Отечественной Войны, которые живут сегод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F:\9 мая 2008\Апрель_май_2008 1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ar</cp:lastModifiedBy>
  <dcterms:modified xsi:type="dcterms:W3CDTF">2014-04-30T04:21:31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