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852-FC0F-4F1F-B1F8-0FF16BB7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697-66F5-451D-8B29-A64C70AA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863-3C04-4104-8AAF-8F21FD48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088-8D20-4E8D-9886-BCCD0639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F04-CB47-41BC-8918-09B0FAE2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E57-007D-4728-93CD-8EE53477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665-780C-4ACF-9652-844403A8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FD6-50B7-47B2-9BE3-9F9BA16E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F52-992F-487D-BD21-81BA3CDC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552-86D5-44F6-AC72-314C2242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BB2-530C-41B0-96AA-D45B21ED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86A-AED5-40C3-95CF-2A01F77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B672-D3EB-4E56-8E4A-2D29FDB56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ти-геро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676160" y="6019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́ин-освободи́тель» — монумент в берлинском Трептов-пар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uapress.info/content/news/2013/6/%D0%BD%D0%BE%D0%B2%D0%B0%D1%8F%20%D0%BF%D0%B0%D0%BF%D0%BA%D0%B0/947153102.jpg"/>
          <p:cNvPicPr/>
          <p:nvPr/>
        </p:nvPicPr>
        <p:blipFill>
          <a:blip r:embed="rId1"/>
          <a:srcRect l="0" t="4881" r="0" b="4881"/>
          <a:stretch/>
        </p:blipFill>
        <p:spPr>
          <a:xfrm>
            <a:off x="2514600" y="228600"/>
            <a:ext cx="4876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Великий день принято бывать на могилах погибших воинов, возлагать венки, живые цветы тем, кто не вернулся с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F:\9 мая 2008\Апрель_май_2008 1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ечный огонь горит в память о погибших в годы Великой Отечественной войн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metronom1.mp3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й стране слышны залпы праздничного салюта в честь тех, кто сражался за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758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1331"/>
          <p:cNvPicPr/>
          <p:nvPr/>
        </p:nvPicPr>
        <p:blipFill>
          <a:blip r:embed="rId1"/>
          <a:stretch/>
        </p:blipFill>
        <p:spPr>
          <a:xfrm>
            <a:off x="1981080" y="0"/>
            <a:ext cx="53485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пасибо нашим прадедам за Побед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009"/>
          <p:cNvPicPr/>
          <p:nvPr/>
        </p:nvPicPr>
        <p:blipFill>
          <a:blip r:embed="rId1"/>
          <a:stretch/>
        </p:blipFill>
        <p:spPr>
          <a:xfrm>
            <a:off x="1692360" y="0"/>
            <a:ext cx="61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010"/>
          <p:cNvPicPr/>
          <p:nvPr/>
        </p:nvPicPr>
        <p:blipFill>
          <a:blip r:embed="rId1"/>
          <a:stretch/>
        </p:blipFill>
        <p:spPr>
          <a:xfrm>
            <a:off x="1981080" y="0"/>
            <a:ext cx="54993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011"/>
          <p:cNvPicPr/>
          <p:nvPr/>
        </p:nvPicPr>
        <p:blipFill>
          <a:blip r:embed="rId1"/>
          <a:stretch/>
        </p:blipFill>
        <p:spPr>
          <a:xfrm>
            <a:off x="1987560" y="98280"/>
            <a:ext cx="586116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012"/>
          <p:cNvPicPr/>
          <p:nvPr/>
        </p:nvPicPr>
        <p:blipFill>
          <a:blip r:embed="rId1"/>
          <a:stretch/>
        </p:blipFill>
        <p:spPr>
          <a:xfrm>
            <a:off x="1752480" y="0"/>
            <a:ext cx="578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Картинка 8 из 6235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1293"/>
          <p:cNvPicPr/>
          <p:nvPr/>
        </p:nvPicPr>
        <p:blipFill>
          <a:blip r:embed="rId1"/>
          <a:stretch/>
        </p:blipFill>
        <p:spPr>
          <a:xfrm>
            <a:off x="13716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39584"/>
          <p:cNvPicPr/>
          <p:nvPr/>
        </p:nvPicPr>
        <p:blipFill>
          <a:blip r:embed="rId1"/>
          <a:stretch/>
        </p:blipFill>
        <p:spPr>
          <a:xfrm>
            <a:off x="838080" y="152280"/>
            <a:ext cx="7696440" cy="5613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6858000" y="152280"/>
            <a:ext cx="1600200" cy="533520"/>
          </a:xfrm>
          <a:prstGeom prst="rect">
            <a:avLst/>
          </a:prstGeom>
          <a:solidFill>
            <a:srgbClr val="3b7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 м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всенародный праздник. В этом году наш народ отмечает 69-летие  Великой Поб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день вспоминают тех, кто остался на полях сражений, тех, кто после войны налаживал мирную жизнь. А еще поздравляют тех воинов Великой Отечественной Войны, которые живут сего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F:\9 мая 2008\Апрель_май_2008 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r</cp:lastModifiedBy>
  <dcterms:modified xsi:type="dcterms:W3CDTF">2014-04-30T04:21:3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