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AE7-69BF-420E-A17E-E42EA5B6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7B6-B335-4951-B0A3-1BC0EEAE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097-1A5B-4FFB-81C9-608EC07C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6EB-95DF-431F-BDCC-DC5C1803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72E-B77A-42BE-8864-527436A5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72B-BB57-4A0E-9FE8-4F34CE25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225-045C-4D26-9AD6-DE921E58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C76-5231-4F1C-82F0-9BC89950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07C-53A1-4FBD-8FA4-D60CD0D4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EE1-24E5-4CF4-9823-031E6DF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CE8-23AC-40BC-A99E-C91D957B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19F-867C-4C73-9B0C-5F3052D6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94E8-067C-41AA-8D5E-FFC9FE54D2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187280" y="1197000"/>
            <a:ext cx="6985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4604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3" name="AutoShape 7"/>
          <p:cNvGrpSpPr/>
          <p:nvPr/>
        </p:nvGrpSpPr>
        <p:grpSpPr>
          <a:xfrm>
            <a:off x="560520" y="347760"/>
            <a:ext cx="7729560" cy="1103040"/>
            <a:chOff x="560520" y="347760"/>
            <a:chExt cx="7729560" cy="1103040"/>
          </a:xfrm>
        </p:grpSpPr>
        <p:pic>
          <p:nvPicPr>
            <p:cNvPr id="44" name="AutoShape 7" descr=""/>
            <p:cNvPicPr/>
            <p:nvPr/>
          </p:nvPicPr>
          <p:blipFill>
            <a:blip r:embed="rId1"/>
            <a:stretch/>
          </p:blipFill>
          <p:spPr>
            <a:xfrm>
              <a:off x="560520" y="347760"/>
              <a:ext cx="772956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23880" y="409680"/>
              <a:ext cx="759924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Garamond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14" descr="1"/>
          <p:cNvPicPr/>
          <p:nvPr/>
        </p:nvPicPr>
        <p:blipFill>
          <a:blip r:embed="rId2"/>
          <a:stretch/>
        </p:blipFill>
        <p:spPr>
          <a:xfrm>
            <a:off x="7885080" y="476280"/>
            <a:ext cx="1028880" cy="933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http://www.profi-forex.org/system/news/A16_5_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00000" y="530388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0" y="0"/>
            <a:ext cx="9402840" cy="241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III.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н в герб привнёс орла из Визант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перь мы не Московия – Россия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Иван III Васильевич, великий князь Московский, с именем которого"/>
          <p:cNvPicPr/>
          <p:nvPr/>
        </p:nvPicPr>
        <p:blipFill>
          <a:blip r:embed="rId1"/>
          <a:stretch/>
        </p:blipFill>
        <p:spPr>
          <a:xfrm>
            <a:off x="214200" y="1190520"/>
            <a:ext cx="89298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7"/>
          <p:cNvSpPr/>
          <p:nvPr/>
        </p:nvSpPr>
        <p:spPr>
          <a:xfrm>
            <a:off x="250920" y="1341360"/>
            <a:ext cx="34574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Русское государство было образовано при князе Иване III"/>
          <p:cNvPicPr/>
          <p:nvPr/>
        </p:nvPicPr>
        <p:blipFill>
          <a:blip r:embed="rId1"/>
          <a:stretch/>
        </p:blipFill>
        <p:spPr>
          <a:xfrm>
            <a:off x="1643040" y="0"/>
            <a:ext cx="585792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4941720"/>
            <a:ext cx="8785080" cy="308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79280" y="189000"/>
            <a:ext cx="88567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ерб Михаила Роман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http://tnu.podelise.ru/pars_docs/refs/299/298781/298781_html_43f939e1.jpg"/>
          <p:cNvPicPr/>
          <p:nvPr/>
        </p:nvPicPr>
        <p:blipFill>
          <a:blip r:embed="rId1"/>
          <a:stretch/>
        </p:blipFill>
        <p:spPr>
          <a:xfrm>
            <a:off x="1292400" y="1295280"/>
            <a:ext cx="6279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468360" y="189000"/>
            <a:ext cx="8351640" cy="147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ерб Алексея Михайлови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http://upload.wikimedia.org/wikipedia/commons/thumb/0/0d/Imperial_Coat_of_arms_of_Russia_(17th_century).svg/400px-Imperial_Coat_of_arms_of_Russia_(17th_century).svg.png"/>
          <p:cNvPicPr/>
          <p:nvPr/>
        </p:nvPicPr>
        <p:blipFill>
          <a:blip r:embed="rId1"/>
          <a:stretch/>
        </p:blipFill>
        <p:spPr>
          <a:xfrm>
            <a:off x="2000160" y="922320"/>
            <a:ext cx="464364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1040" y="119160"/>
            <a:ext cx="6721560" cy="1800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V.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Земли Российской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образов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ской державы первый основ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ссии крылья он могучие распра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уважать своё Отечество заставил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П. Жарков &quot;Портрет Петра I&quot;"/>
          <p:cNvPicPr/>
          <p:nvPr/>
        </p:nvPicPr>
        <p:blipFill>
          <a:blip r:embed="rId1"/>
          <a:stretch/>
        </p:blipFill>
        <p:spPr>
          <a:xfrm>
            <a:off x="214200" y="1857240"/>
            <a:ext cx="3940200" cy="500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Государственный герб России."/>
          <p:cNvPicPr/>
          <p:nvPr/>
        </p:nvPicPr>
        <p:blipFill>
          <a:blip r:embed="rId2"/>
          <a:stretch/>
        </p:blipFill>
        <p:spPr>
          <a:xfrm>
            <a:off x="4152960" y="1928880"/>
            <a:ext cx="4991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971640" y="357120"/>
            <a:ext cx="8172360" cy="1008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ерб Российской империи в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XIX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http://static1.repo.aif.ru/1/72/40752/c/89f2847637438b1caad710d72fcf30d2.jpg"/>
          <p:cNvPicPr/>
          <p:nvPr/>
        </p:nvPicPr>
        <p:blipFill>
          <a:blip r:embed="rId1"/>
          <a:stretch/>
        </p:blipFill>
        <p:spPr>
          <a:xfrm>
            <a:off x="2000160" y="938160"/>
            <a:ext cx="571500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214200" y="0"/>
            <a:ext cx="932652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V.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Коль не нужны нам скипетр и держ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чем же нам тогда Орёл двуглавый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Лучшие видеоклипы СССР № 1 (1960-2000/DVD-5)"/>
          <p:cNvPicPr/>
          <p:nvPr/>
        </p:nvPicPr>
        <p:blipFill>
          <a:blip r:embed="rId1"/>
          <a:stretch/>
        </p:blipFill>
        <p:spPr>
          <a:xfrm>
            <a:off x="2011320" y="1357200"/>
            <a:ext cx="522468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928800" y="189000"/>
            <a:ext cx="821520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.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Пусть вновь Орёл расправит гордо крылья!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http://www.thailand.mid.ru/download/Russia_COL.jpg"/>
          <p:cNvPicPr/>
          <p:nvPr/>
        </p:nvPicPr>
        <p:blipFill>
          <a:blip r:embed="rId1"/>
          <a:stretch/>
        </p:blipFill>
        <p:spPr>
          <a:xfrm>
            <a:off x="1785960" y="1500120"/>
            <a:ext cx="4786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5" descr="Скачать флаг рф анимация - Все для Семьи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4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5" descr="http://k-istine.ru/images/morals/hymn_russ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gimn_-_gimn_rossii_so_slovami_(zaycev.net).mp3" descr=""/>
          <p:cNvPicPr/>
          <p:nvPr/>
        </p:nvPicPr>
        <p:blipFill>
          <a:blip r:embed="rId2"/>
          <a:stretch/>
        </p:blipFill>
        <p:spPr>
          <a:xfrm>
            <a:off x="64296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30962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Государство и гражда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 Black"/>
              </a:rPr>
              <a:t>Суверенитет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d0d0d"/>
                </a:solidFill>
                <a:latin typeface="Arial Black"/>
              </a:rPr>
              <a:t>защита общественного порядка, единая территория, налоги, сотрудничество с другими государствами, наличие верховной власти, обеспечение внешней безопасности, законотворческая деятельность, гражд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3" descr="http://900igr.net/datas/khimija/Zoloto-2/0029-029-Spasibo-za-vnimanie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288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чему защита Отечества является главной функцией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го можно назвать гражданином и патриотом стра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ак можно стать гражданином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чем нужно знать символы своей стра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3" descr="http://www.gosrf.ru/images/112233/13121110/1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Федеральный Закон «О  гражданстве Российской Федера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3" descr="http://nevnov.ru/assets/images/proischestviya/pasport.jpg"/>
          <p:cNvPicPr/>
          <p:nvPr/>
        </p:nvPicPr>
        <p:blipFill>
          <a:blip r:embed="rId1"/>
          <a:stretch/>
        </p:blipFill>
        <p:spPr>
          <a:xfrm>
            <a:off x="1143000" y="1714680"/>
            <a:ext cx="69292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http://pol.rs.gov.ru/sites/pol.rs.gov.ru/files/images/russia_02082012_1_ukaz.jpg"/>
          <p:cNvPicPr/>
          <p:nvPr/>
        </p:nvPicPr>
        <p:blipFill>
          <a:blip r:embed="rId1"/>
          <a:stretch/>
        </p:blipFill>
        <p:spPr>
          <a:xfrm>
            <a:off x="785880" y="0"/>
            <a:ext cx="723276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1428840" y="5214960"/>
            <a:ext cx="70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73"/>
                </a:solidFill>
                <a:latin typeface="Arial"/>
              </a:rPr>
              <a:t>«И пусть Орёл расправит гордо крыль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2"/>
          <p:cNvSpPr/>
          <p:nvPr/>
        </p:nvSpPr>
        <p:spPr>
          <a:xfrm>
            <a:off x="808200" y="1301760"/>
            <a:ext cx="183960" cy="3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A87C-DC51-474B-9BEB-866C6E092E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042920" y="115920"/>
            <a:ext cx="669600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Цели исследования</a:t>
            </a:r>
            <a:r>
              <a:rPr b="1" lang="ru-RU" sz="6000" spc="-1" strike="noStrike">
                <a:solidFill>
                  <a:srgbClr val="800080"/>
                </a:solidFill>
                <a:latin typeface="Comic Sans MS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1857240"/>
            <a:ext cx="9144000" cy="3993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на гербе изображён двуглавый орё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гда ли герб нашей страны был так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в центре герба изображена фигура Георгия Победонос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значат государственные символы для каждого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428760" y="357120"/>
            <a:ext cx="8715240" cy="2164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.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История герба берёт свои истоки…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http://im1-tub-ru.yandex.net/i?id=dac29afd48c216c4d11afe7a80a64e23-72-144&amp;n=21"/>
          <p:cNvPicPr/>
          <p:nvPr/>
        </p:nvPicPr>
        <p:blipFill>
          <a:blip r:embed="rId1"/>
          <a:stretch/>
        </p:blipFill>
        <p:spPr>
          <a:xfrm>
            <a:off x="571680" y="1714680"/>
            <a:ext cx="2071440" cy="2589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im2-tub-ru.yandex.net/i?id=d5d3c1c323f633e0f7ab61ed999579b3-85-144&amp;n=21"/>
          <p:cNvPicPr/>
          <p:nvPr/>
        </p:nvPicPr>
        <p:blipFill>
          <a:blip r:embed="rId2"/>
          <a:stretch/>
        </p:blipFill>
        <p:spPr>
          <a:xfrm>
            <a:off x="3571920" y="1714680"/>
            <a:ext cx="2057400" cy="257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http://im0-tub-ru.yandex.net/i?id=90e27428acf3bf2f7e904481032606a9-80-144&amp;n=21"/>
          <p:cNvPicPr/>
          <p:nvPr/>
        </p:nvPicPr>
        <p:blipFill>
          <a:blip r:embed="rId3"/>
          <a:stretch/>
        </p:blipFill>
        <p:spPr>
          <a:xfrm>
            <a:off x="6643800" y="1285920"/>
            <a:ext cx="2000160" cy="25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http://im1-tub-ru.yandex.net/i?id=a3eefd4c8e412d2fbf2c57fe39f5e371-142-144&amp;n=21"/>
          <p:cNvPicPr/>
          <p:nvPr/>
        </p:nvPicPr>
        <p:blipFill>
          <a:blip r:embed="rId4"/>
          <a:stretch/>
        </p:blipFill>
        <p:spPr>
          <a:xfrm>
            <a:off x="3357720" y="4444920"/>
            <a:ext cx="25254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24000" y="214200"/>
            <a:ext cx="7891200" cy="1015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« Защитник слабого и христианской в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К святому лику он причислен перв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http://dreamworlds.ru/uploads/posts/2008-12/1229677063_22.jpg"/>
          <p:cNvPicPr/>
          <p:nvPr/>
        </p:nvPicPr>
        <p:blipFill>
          <a:blip r:embed="rId1"/>
          <a:stretch/>
        </p:blipFill>
        <p:spPr>
          <a:xfrm>
            <a:off x="928800" y="1357200"/>
            <a:ext cx="7461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0:37:39Z</dcterms:created>
  <dc:creator>Ильдар</dc:creator>
  <dc:description/>
  <dc:language>en-US</dc:language>
  <cp:lastModifiedBy>Admin</cp:lastModifiedBy>
  <dcterms:modified xsi:type="dcterms:W3CDTF">2015-02-13T13:05:50Z</dcterms:modified>
  <cp:revision>33</cp:revision>
  <dc:subject/>
  <dc:title>Шаблон для презентации</dc:title>
</cp:coreProperties>
</file>