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.jpeg" ContentType="image/jpeg"/>
  <Override PartName="/ppt/media/image22.jpeg" ContentType="image/jpeg"/>
  <Override PartName="/ppt/media/image26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7C84-87FC-4D45-837A-F4FA0510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6233-4279-4E39-B98E-7F9A078E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CED1-4F30-426C-87E0-94009A4C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264F-85E0-439D-8479-5D0A5FA17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6D78-F952-44EC-8026-989352C0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FC14-AB7F-4995-B1E6-9E213D66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EE09-D560-48AC-A7D9-904549C7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B833-4560-4B18-ADC0-72ECF224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CBEB-6B38-47AF-A50E-D85A65E1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BF69-D2F9-4431-A839-EA1408F2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9970-6BF5-4F5D-B09A-9E82F22E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7E5A-BBE4-491E-B9BC-084D4B0F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5021-6B15-4455-9EA3-DF5A4CCCE5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187280" y="1197000"/>
            <a:ext cx="6985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4604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3" name="AutoShape 7"/>
          <p:cNvGrpSpPr/>
          <p:nvPr/>
        </p:nvGrpSpPr>
        <p:grpSpPr>
          <a:xfrm>
            <a:off x="560520" y="347760"/>
            <a:ext cx="7729560" cy="1103040"/>
            <a:chOff x="560520" y="347760"/>
            <a:chExt cx="7729560" cy="1103040"/>
          </a:xfrm>
        </p:grpSpPr>
        <p:pic>
          <p:nvPicPr>
            <p:cNvPr id="44" name="AutoShape 7" descr=""/>
            <p:cNvPicPr/>
            <p:nvPr/>
          </p:nvPicPr>
          <p:blipFill>
            <a:blip r:embed="rId1"/>
            <a:stretch/>
          </p:blipFill>
          <p:spPr>
            <a:xfrm>
              <a:off x="560520" y="347760"/>
              <a:ext cx="7729560" cy="11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23880" y="409680"/>
              <a:ext cx="759924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0000"/>
                  </a:solidFill>
                  <a:latin typeface="Garamond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14" descr="1"/>
          <p:cNvPicPr/>
          <p:nvPr/>
        </p:nvPicPr>
        <p:blipFill>
          <a:blip r:embed="rId2"/>
          <a:stretch/>
        </p:blipFill>
        <p:spPr>
          <a:xfrm>
            <a:off x="7885080" y="476280"/>
            <a:ext cx="1028880" cy="9334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http://www.profi-forex.org/system/news/A16_5_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900000" y="5303880"/>
            <a:ext cx="824400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0" y="0"/>
            <a:ext cx="9402840" cy="241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1" i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III.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н в герб привнёс орла из Визант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перь мы не Московия – Россия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Иван III Васильевич, великий князь Московский, с именем которого"/>
          <p:cNvPicPr/>
          <p:nvPr/>
        </p:nvPicPr>
        <p:blipFill>
          <a:blip r:embed="rId1"/>
          <a:stretch/>
        </p:blipFill>
        <p:spPr>
          <a:xfrm>
            <a:off x="214200" y="1190520"/>
            <a:ext cx="892980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7"/>
          <p:cNvSpPr/>
          <p:nvPr/>
        </p:nvSpPr>
        <p:spPr>
          <a:xfrm>
            <a:off x="250920" y="1341360"/>
            <a:ext cx="345744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Русское государство было образовано при князе Иване III"/>
          <p:cNvPicPr/>
          <p:nvPr/>
        </p:nvPicPr>
        <p:blipFill>
          <a:blip r:embed="rId1"/>
          <a:stretch/>
        </p:blipFill>
        <p:spPr>
          <a:xfrm>
            <a:off x="1643040" y="0"/>
            <a:ext cx="585792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0" y="4941720"/>
            <a:ext cx="8785080" cy="308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79280" y="189000"/>
            <a:ext cx="885672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ерб Михаила Роман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http://tnu.podelise.ru/pars_docs/refs/299/298781/298781_html_43f939e1.jpg"/>
          <p:cNvPicPr/>
          <p:nvPr/>
        </p:nvPicPr>
        <p:blipFill>
          <a:blip r:embed="rId1"/>
          <a:stretch/>
        </p:blipFill>
        <p:spPr>
          <a:xfrm>
            <a:off x="1292400" y="1295280"/>
            <a:ext cx="6279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6"/>
          <p:cNvSpPr/>
          <p:nvPr/>
        </p:nvSpPr>
        <p:spPr>
          <a:xfrm>
            <a:off x="468360" y="189000"/>
            <a:ext cx="8351640" cy="147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ерб Алексея Михайлови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http://upload.wikimedia.org/wikipedia/commons/thumb/0/0d/Imperial_Coat_of_arms_of_Russia_(17th_century).svg/400px-Imperial_Coat_of_arms_of_Russia_(17th_century).svg.png"/>
          <p:cNvPicPr/>
          <p:nvPr/>
        </p:nvPicPr>
        <p:blipFill>
          <a:blip r:embed="rId1"/>
          <a:stretch/>
        </p:blipFill>
        <p:spPr>
          <a:xfrm>
            <a:off x="2000160" y="922320"/>
            <a:ext cx="464364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1661040" y="119160"/>
            <a:ext cx="6721560" cy="1800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V.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Земли Российской 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образова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ской державы первый основа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оссии крылья он могучие расправ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 уважать своё Отечество заставил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П. Жарков &quot;Портрет Петра I&quot;"/>
          <p:cNvPicPr/>
          <p:nvPr/>
        </p:nvPicPr>
        <p:blipFill>
          <a:blip r:embed="rId1"/>
          <a:stretch/>
        </p:blipFill>
        <p:spPr>
          <a:xfrm>
            <a:off x="214200" y="1857240"/>
            <a:ext cx="3940200" cy="5000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Государственный герб России."/>
          <p:cNvPicPr/>
          <p:nvPr/>
        </p:nvPicPr>
        <p:blipFill>
          <a:blip r:embed="rId2"/>
          <a:stretch/>
        </p:blipFill>
        <p:spPr>
          <a:xfrm>
            <a:off x="4152960" y="1928880"/>
            <a:ext cx="49910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971640" y="357120"/>
            <a:ext cx="8172360" cy="1008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ерб Российской империи в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XIX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е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3" descr="http://static1.repo.aif.ru/1/72/40752/c/89f2847637438b1caad710d72fcf30d2.jpg"/>
          <p:cNvPicPr/>
          <p:nvPr/>
        </p:nvPicPr>
        <p:blipFill>
          <a:blip r:embed="rId1"/>
          <a:stretch/>
        </p:blipFill>
        <p:spPr>
          <a:xfrm>
            <a:off x="2000160" y="938160"/>
            <a:ext cx="571500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214200" y="0"/>
            <a:ext cx="9326520" cy="1068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V.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Коль не нужны нам скипетр и держ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чем же нам тогда Орёл двуглавый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Лучшие видеоклипы СССР № 1 (1960-2000/DVD-5)"/>
          <p:cNvPicPr/>
          <p:nvPr/>
        </p:nvPicPr>
        <p:blipFill>
          <a:blip r:embed="rId1"/>
          <a:stretch/>
        </p:blipFill>
        <p:spPr>
          <a:xfrm>
            <a:off x="2011320" y="1357200"/>
            <a:ext cx="5224680" cy="54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928800" y="189000"/>
            <a:ext cx="8215200" cy="1556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. 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Пусть вновь Орёл расправит гордо крылья!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5" descr="http://www.thailand.mid.ru/download/Russia_COL.jpg"/>
          <p:cNvPicPr/>
          <p:nvPr/>
        </p:nvPicPr>
        <p:blipFill>
          <a:blip r:embed="rId1"/>
          <a:stretch/>
        </p:blipFill>
        <p:spPr>
          <a:xfrm>
            <a:off x="1785960" y="1500120"/>
            <a:ext cx="47862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Содержимое 5" descr="Скачать флаг рф анимация - Все для Семьи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245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одержимое 5" descr="http://k-istine.ru/images/morals/hymn_russ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gimn_-_gimn_rossii_so_slovami_(zaycev.net).mp3" descr=""/>
          <p:cNvPicPr/>
          <p:nvPr/>
        </p:nvPicPr>
        <p:blipFill>
          <a:blip r:embed="rId2"/>
          <a:stretch/>
        </p:blipFill>
        <p:spPr>
          <a:xfrm>
            <a:off x="64296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30962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Государство и граждан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0d0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 Black"/>
              </a:rPr>
              <a:t>Суверенитет</a:t>
            </a:r>
            <a:r>
              <a:rPr b="1" lang="ru-RU" sz="3200" spc="-1" strike="noStrike">
                <a:solidFill>
                  <a:srgbClr val="0d0d0d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0d0d0d"/>
                </a:solidFill>
                <a:latin typeface="Arial Black"/>
              </a:rPr>
              <a:t>защита общественного порядка, единая территория, налоги, сотрудничество с другими государствами, наличие верховной власти, обеспечение внешней безопасности, законотворческая деятельность, гражд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Содержимое 3" descr="http://900igr.net/datas/khimija/Zoloto-2/0029-029-Spasibo-za-vnimanie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адач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2884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очему защита Отечества является главной функцией государст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го можно назвать гражданином и патриотом стра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ак можно стать гражданином Росс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ачем нужно знать символы своей стра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одержимое 3" descr="http://www.gosrf.ru/images/112233/13121110/1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Федеральный Закон «О  гражданстве Российской Федерац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одержимое 3" descr="http://nevnov.ru/assets/images/proischestviya/pasport.jpg"/>
          <p:cNvPicPr/>
          <p:nvPr/>
        </p:nvPicPr>
        <p:blipFill>
          <a:blip r:embed="rId1"/>
          <a:stretch/>
        </p:blipFill>
        <p:spPr>
          <a:xfrm>
            <a:off x="1143000" y="1714680"/>
            <a:ext cx="69292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http://pol.rs.gov.ru/sites/pol.rs.gov.ru/files/images/russia_02082012_1_ukaz.jpg"/>
          <p:cNvPicPr/>
          <p:nvPr/>
        </p:nvPicPr>
        <p:blipFill>
          <a:blip r:embed="rId1"/>
          <a:stretch/>
        </p:blipFill>
        <p:spPr>
          <a:xfrm>
            <a:off x="785880" y="0"/>
            <a:ext cx="723276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1428840" y="5214960"/>
            <a:ext cx="70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62673"/>
                </a:solidFill>
                <a:latin typeface="Arial"/>
              </a:rPr>
              <a:t>«И пусть Орёл расправит гордо крылья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2"/>
          <p:cNvSpPr/>
          <p:nvPr/>
        </p:nvSpPr>
        <p:spPr>
          <a:xfrm>
            <a:off x="808200" y="1301760"/>
            <a:ext cx="183960" cy="3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5DDD-2134-47A1-975C-632FC734B6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042920" y="115920"/>
            <a:ext cx="6696000" cy="1008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Цели исследования</a:t>
            </a:r>
            <a:r>
              <a:rPr b="1" lang="ru-RU" sz="6000" spc="-1" strike="noStrike">
                <a:solidFill>
                  <a:srgbClr val="800080"/>
                </a:solidFill>
                <a:latin typeface="Comic Sans MS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0" y="1857240"/>
            <a:ext cx="9144000" cy="3993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 на гербе изображён двуглавый орё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гда ли герб нашей страны был так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 в центре герба изображена фигура Георгия Победонос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значат государственные символы для каждого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7"/>
          <p:cNvSpPr/>
          <p:nvPr/>
        </p:nvSpPr>
        <p:spPr>
          <a:xfrm>
            <a:off x="428760" y="357120"/>
            <a:ext cx="8715240" cy="2164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. 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История герба берёт свои истоки…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http://im1-tub-ru.yandex.net/i?id=dac29afd48c216c4d11afe7a80a64e23-72-144&amp;n=21"/>
          <p:cNvPicPr/>
          <p:nvPr/>
        </p:nvPicPr>
        <p:blipFill>
          <a:blip r:embed="rId1"/>
          <a:stretch/>
        </p:blipFill>
        <p:spPr>
          <a:xfrm>
            <a:off x="571680" y="1714680"/>
            <a:ext cx="2071440" cy="2589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http://im2-tub-ru.yandex.net/i?id=d5d3c1c323f633e0f7ab61ed999579b3-85-144&amp;n=21"/>
          <p:cNvPicPr/>
          <p:nvPr/>
        </p:nvPicPr>
        <p:blipFill>
          <a:blip r:embed="rId2"/>
          <a:stretch/>
        </p:blipFill>
        <p:spPr>
          <a:xfrm>
            <a:off x="3571920" y="1714680"/>
            <a:ext cx="2057400" cy="257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http://im0-tub-ru.yandex.net/i?id=90e27428acf3bf2f7e904481032606a9-80-144&amp;n=21"/>
          <p:cNvPicPr/>
          <p:nvPr/>
        </p:nvPicPr>
        <p:blipFill>
          <a:blip r:embed="rId3"/>
          <a:stretch/>
        </p:blipFill>
        <p:spPr>
          <a:xfrm>
            <a:off x="6643800" y="1285920"/>
            <a:ext cx="2000160" cy="25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http://im1-tub-ru.yandex.net/i?id=a3eefd4c8e412d2fbf2c57fe39f5e371-142-144&amp;n=21"/>
          <p:cNvPicPr/>
          <p:nvPr/>
        </p:nvPicPr>
        <p:blipFill>
          <a:blip r:embed="rId4"/>
          <a:stretch/>
        </p:blipFill>
        <p:spPr>
          <a:xfrm>
            <a:off x="3357720" y="4444920"/>
            <a:ext cx="252540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24000" y="214200"/>
            <a:ext cx="7891200" cy="1015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II. 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« Защитник слабого и христианской в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К святому лику он причислен первы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http://dreamworlds.ru/uploads/posts/2008-12/1229677063_22.jpg"/>
          <p:cNvPicPr/>
          <p:nvPr/>
        </p:nvPicPr>
        <p:blipFill>
          <a:blip r:embed="rId1"/>
          <a:stretch/>
        </p:blipFill>
        <p:spPr>
          <a:xfrm>
            <a:off x="928800" y="1357200"/>
            <a:ext cx="7461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0:37:39Z</dcterms:created>
  <dc:creator>Ильдар</dc:creator>
  <dc:description/>
  <dc:language>en-US</dc:language>
  <cp:lastModifiedBy>Admin</cp:lastModifiedBy>
  <dcterms:modified xsi:type="dcterms:W3CDTF">2015-02-13T13:05:50Z</dcterms:modified>
  <cp:revision>33</cp:revision>
  <dc:subject/>
  <dc:title>Шаблон для презентации</dc:title>
</cp:coreProperties>
</file>