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4BE-974F-44F7-AD9D-B91F1FB6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5BF-5B0F-43F2-A18C-C88C0163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2C0-EC78-4B77-9D76-4614B844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E14-CB1A-4FB1-B603-D98F9563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8F5-463F-44B4-8984-D1B06075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7A7-C10D-4E1B-B050-83D47E80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582-6958-49A6-A45D-3AD7668F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75F-687D-4FC6-BA90-082DADE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285-FF68-4F90-B00F-BC3AE9C8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FA7-FCC3-47F4-9E2A-7476958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3FB-80CD-443C-A6DD-0D763475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80B-D942-499E-A3B9-C9F7F38D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AEF-9CF1-475F-A4E4-EF36A834059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ХАПКИНА НАДЕЖДА НИКОЛАЕВ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ИЗОБРАЗИТЕЛЬНОГО ИСКУС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БОУ «СРЕДНЯЯ ШКОЛА № 35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 ДЗЕРЖИН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ЕГОРОД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76500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Изображ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едметного мира – </a:t>
            </a:r>
            <a:br>
              <a:rPr sz="4000"/>
            </a:b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юрмор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брахам ван Бейерен. Завтрак с ветчиной. Голландия. 17 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гличане называют натюрморт иначе – «тихая жизнь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ранные вместе предметы могут отражать духовный мир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и, которыми мы пользуемся, в натюрморте образуют свою среду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бы переносятся в иное измер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х значение в композиции, их смысловая нагрузка возрастаю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:\Users\germanich-o\Desktop\Рисунок9.png"/>
          <p:cNvPicPr/>
          <p:nvPr/>
        </p:nvPicPr>
        <p:blipFill>
          <a:blip r:embed="rId1"/>
          <a:stretch/>
        </p:blipFill>
        <p:spPr>
          <a:xfrm>
            <a:off x="1835280" y="981000"/>
            <a:ext cx="5619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РИ МАТИСС. КРАСНЫЕ РЫБКИ. 19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8000" y="1981080"/>
            <a:ext cx="353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юрморт может и просто радовать глаз игрой красок, давать душевный отдых. В Музее изобразительных искусств в Москве находится натюрморт Анри Матисса «Красные рыбки». Что может быть бесхитростнее? Красные рыбки плавают в аквариуме, и все. Но композиция пробуждает в нас чувство радости, пробуждает нашу активность и темпера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C:\Users\germanich-o\Desktop\Рисунок10.png"/>
          <p:cNvPicPr/>
          <p:nvPr/>
        </p:nvPicPr>
        <p:blipFill>
          <a:blip r:embed="rId1"/>
          <a:stretch/>
        </p:blipFill>
        <p:spPr>
          <a:xfrm>
            <a:off x="971640" y="836640"/>
            <a:ext cx="399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.С. Сарьян. Натюрморт. 20 век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80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четания простых предметов могут выраж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ые разные и сложные чув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C:\Users\germanich-o\Desktop\Рисунок11.png"/>
          <p:cNvPicPr/>
          <p:nvPr/>
        </p:nvPicPr>
        <p:blipFill>
          <a:blip r:embed="rId1"/>
          <a:stretch/>
        </p:blipFill>
        <p:spPr>
          <a:xfrm>
            <a:off x="1403280" y="1052640"/>
            <a:ext cx="64818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НСК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Л.А.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АС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ИЗОБРАЗИТЕЛЬНОЕ ИСКУССТВ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УССТВО В ЖИЗНИ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ники всегда любили изображать что-то необычайное, фантастическое, но гораздо больше во все времена их волновало изображение окружающей жизни. Изображая ее события и ее повседневное течение, художники раскрывают нам жизнь своего времени. В древности их изображения обычно служили для характеристики челове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значали его положение и род занят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germanich-o\Desktop\Рисунок1.png"/>
          <p:cNvPicPr/>
          <p:nvPr/>
        </p:nvPicPr>
        <p:blipFill>
          <a:blip r:embed="rId1"/>
          <a:stretch/>
        </p:blipFill>
        <p:spPr>
          <a:xfrm>
            <a:off x="1332000" y="692280"/>
            <a:ext cx="6591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ыли рисунки-обозначения, ясные и понятные для совреме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создавались в соответствии с системой изображения своей эпох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826920" y="620640"/>
            <a:ext cx="7310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стера Древней Греции создавали прекрасные произведения, но их живопись разрушилась от времени и до нас не дошла. Однако мы знаем, что в поздний период своей истории древние греки добивались такой техники передачи изображаемого, что порой их творения казались жив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1332000" y="692280"/>
            <a:ext cx="64436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за с фруктами. Фрагмент настенной росписи. Древний Рим. 2 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3716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ревнем Риме большую популярность приобрело украшение ст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ны вилл, жилых домов и общественных зданий покрывали росписями и мозаиками, достигая большой достоверности в изображении. Римляне любили изображать пиршества, блюда с плодами, рыбу, растения, птиц, проявляя тонкую наблюдательность, а иногда наделяя предметы символическим смыс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н ван Эйк. Благовещение. (1440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3280" y="1981080"/>
            <a:ext cx="368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ая эпоха, каждый народ имели свои излюбленные предметы, свои поводы и причины для их изображения. Искусство Средневековья было сосредоточено на сюжетах религиозного характера, его мастеров не интересовала материальность вещей. Искусство стремилось к противопоставлению  внешнего как поверхностного и внутренней духовной жизн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germanich-o\Desktop\Рисунок5.png"/>
          <p:cNvPicPr/>
          <p:nvPr/>
        </p:nvPicPr>
        <p:blipFill>
          <a:blip r:embed="rId1"/>
          <a:stretch/>
        </p:blipFill>
        <p:spPr>
          <a:xfrm>
            <a:off x="826920" y="981000"/>
            <a:ext cx="373248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н Вермеер. Доярка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6720" y="1981080"/>
            <a:ext cx="36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Возрождения у художников вновь появился интерес к материальному миру. Но в качестве самостоятельного жанра натюрморт появился в западноевропейском искусстве только в конце шестнадцатого, в начале семнадцатого ве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826920" y="1052640"/>
            <a:ext cx="4176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раваджо. Ваза с фруктами. 16 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юрморт превратился в картину, на которой изображены только вещ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веты и плоды, а изображение человека отсутствует. Хотя НАТЮРМОРТ – неподвижная, «мёртвая натура» (так переводится это слово), он состоит из предметов, которые являются частью живой, окружающей нас действи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:\Users\germanich-o\Desktop\Рисунок7.png"/>
          <p:cNvPicPr/>
          <p:nvPr/>
        </p:nvPicPr>
        <p:blipFill>
          <a:blip r:embed="rId1"/>
          <a:stretch/>
        </p:blipFill>
        <p:spPr>
          <a:xfrm>
            <a:off x="1763640" y="907920"/>
            <a:ext cx="6019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льтазар ван дер Аст, "Натюрморт", Голландия 17 век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ники всегда любили изображать что-то необычное, фантастическо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гораздо больше во все времена их волновало изображение окружающей жизни. Изображая её события и её повседневное течен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ники раскрывают нам жизнь своего време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ужающие вещи, предметы обихода изображались во все време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germanich-o\Desktop\Рисунок8.png"/>
          <p:cNvPicPr/>
          <p:nvPr/>
        </p:nvPicPr>
        <p:blipFill>
          <a:blip r:embed="rId1"/>
          <a:stretch/>
        </p:blipFill>
        <p:spPr>
          <a:xfrm>
            <a:off x="1403280" y="981000"/>
            <a:ext cx="6650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7:15:43Z</dcterms:created>
  <dc:creator>Admin</dc:creator>
  <dc:description/>
  <dc:language>en-US</dc:language>
  <cp:lastModifiedBy>germanich-o</cp:lastModifiedBy>
  <dcterms:modified xsi:type="dcterms:W3CDTF">2015-04-24T19:00:54Z</dcterms:modified>
  <cp:revision>14</cp:revision>
  <dc:subject/>
  <dc:title>Изображение предметного мира –  натюрморт</dc:title>
</cp:coreProperties>
</file>