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BE1E-C599-41C6-A879-42D66CA3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703-620B-4522-8EBB-32F95AD4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66B4-4C1F-4B61-9758-D6E18DBB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62D-DF92-493D-AA33-7CACECB3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ACA-DF06-46E0-8529-ADBBD011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89AC-6050-49FA-91B8-99D62BA2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1E1-3995-4B3D-A65E-E5717DC0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00A-D39D-4A80-AC8B-7A6946E7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EEA-D7B9-4D5E-839C-FAA7218D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A1C-A2C9-4665-87AB-4987F072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A3DD-3675-442A-8A54-25A2C927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E905-AC43-4EF1-A70B-D2628B6E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3F33-DBCA-4EF0-996E-356079BD830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ПОЛНИЛА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ХАПКИНА НАДЕЖДА НИКОЛАЕВН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ИЗОБРАЗИТЕЛЬНОГО ИСКУССТВ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БОУ «СРЕДНЯЯ ШКОЛА № 35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. ДЗЕРЖИНС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ЖЕГОРОДСКОЙ ОБЛА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765000"/>
            <a:ext cx="7772400" cy="288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Изображ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редметного мира – </a:t>
            </a:r>
            <a:br>
              <a:rPr sz="4000"/>
            </a:b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натюрмор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брахам ван Бейерен. Завтрак с ветчиной. Голландия. 17 в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гличане называют натюрморт иначе – «тихая жизнь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бранные вместе предметы могут отражать духовный мир челове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щи, которыми мы пользуемся, в натюрморте образуют свою среду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бы переносятся в иное измерен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х значение в композиции, их смысловая нагрузка возрастаю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C:\Users\germanich-o\Desktop\Рисунок9.png"/>
          <p:cNvPicPr/>
          <p:nvPr/>
        </p:nvPicPr>
        <p:blipFill>
          <a:blip r:embed="rId1"/>
          <a:stretch/>
        </p:blipFill>
        <p:spPr>
          <a:xfrm>
            <a:off x="1835280" y="981000"/>
            <a:ext cx="56196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РИ МАТИСС. КРАСНЫЕ РЫБКИ. 191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48000" y="1981080"/>
            <a:ext cx="353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тюрморт может и просто радовать глаз игрой красок, давать душевный отдых. В Музее изобразительных искусств в Москве находится натюрморт Анри Матисса «Красные рыбки». Что может быть бесхитростнее? Красные рыбки плавают в аквариуме, и все. Но композиция пробуждает в нас чувство радости, пробуждает нашу активность и темперамен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C:\Users\germanich-o\Desktop\Рисунок10.png"/>
          <p:cNvPicPr/>
          <p:nvPr/>
        </p:nvPicPr>
        <p:blipFill>
          <a:blip r:embed="rId1"/>
          <a:stretch/>
        </p:blipFill>
        <p:spPr>
          <a:xfrm>
            <a:off x="971640" y="836640"/>
            <a:ext cx="399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.С. Сарьян. Натюрморт. 20 век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80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четания простых предметов могут выража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ые разные и сложные чув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C:\Users\germanich-o\Desktop\Рисунок11.png"/>
          <p:cNvPicPr/>
          <p:nvPr/>
        </p:nvPicPr>
        <p:blipFill>
          <a:blip r:embed="rId1"/>
          <a:stretch/>
        </p:blipFill>
        <p:spPr>
          <a:xfrm>
            <a:off x="1403280" y="1052640"/>
            <a:ext cx="648180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1341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МЕНСК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Л.А.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ЛАС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ИЗОБРАЗИТЕЛЬНОЕ ИСКУССТВ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КУССТВО В ЖИЗНИ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2160" y="54936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01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удожники всегда любили изображать что-то необычайное, фантастическое, но гораздо больше во все времена их волновало изображение окружающей жизни. Изображая ее события и ее повседневное течение, художники раскрывают нам жизнь своего времени. В древности их изображения обычно служили для характеристики человек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означали его положение и род занят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C:\Users\germanich-o\Desktop\Рисунок1.png"/>
          <p:cNvPicPr/>
          <p:nvPr/>
        </p:nvPicPr>
        <p:blipFill>
          <a:blip r:embed="rId1"/>
          <a:stretch/>
        </p:blipFill>
        <p:spPr>
          <a:xfrm>
            <a:off x="1332000" y="692280"/>
            <a:ext cx="6591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733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были рисунки-обозначения, ясные и понятные для современ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и создавались в соответствии с системой изображения своей эпох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C:\Users\germanich-o\Desktop\Рисунок2.png"/>
          <p:cNvPicPr/>
          <p:nvPr/>
        </p:nvPicPr>
        <p:blipFill>
          <a:blip r:embed="rId1"/>
          <a:stretch/>
        </p:blipFill>
        <p:spPr>
          <a:xfrm>
            <a:off x="826920" y="620640"/>
            <a:ext cx="73105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300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стера Древней Греции создавали прекрасные произведения, но их живопись разрушилась от времени и до нас не дошла. Однако мы знаем, что в поздний период своей истории древние греки добивались такой техники передачи изображаемого, что порой их творения казались живы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C:\Users\germanich-o\Desktop\Рисунок3.png"/>
          <p:cNvPicPr/>
          <p:nvPr/>
        </p:nvPicPr>
        <p:blipFill>
          <a:blip r:embed="rId1"/>
          <a:stretch/>
        </p:blipFill>
        <p:spPr>
          <a:xfrm>
            <a:off x="1332000" y="692280"/>
            <a:ext cx="644364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за с фруктами. Фрагмент настенной росписи. Древний Рим. 2 в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437160" cy="3956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22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Древнем Риме большую популярность приобрело украшение сте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ены вилл, жилых домов и общественных зданий покрывали росписями и мозаиками, достигая большой достоверности в изображении. Римляне любили изображать пиршества, блюда с плодами, рыбу, растения, птиц, проявляя тонкую наблюдательность, а иногда наделяя предметы символическим смысл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н ван Эйк. Благовещение. (1440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03280" y="1981080"/>
            <a:ext cx="3683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ая эпоха, каждый народ имели свои излюбленные предметы, свои поводы и причины для их изображения. Искусство Средневековья было сосредоточено на сюжетах религиозного характера, его мастеров не интересовала материальность вещей. Искусство стремилось к противопоставлению  внешнего как поверхностного и внутренней духовной жизн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C:\Users\germanich-o\Desktop\Рисунок5.png"/>
          <p:cNvPicPr/>
          <p:nvPr/>
        </p:nvPicPr>
        <p:blipFill>
          <a:blip r:embed="rId1"/>
          <a:stretch/>
        </p:blipFill>
        <p:spPr>
          <a:xfrm>
            <a:off x="826920" y="981000"/>
            <a:ext cx="373248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н Вермеер. Доярка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6720" y="1981080"/>
            <a:ext cx="361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ериод Возрождения у художников вновь появился интерес к материальному миру. Но в качестве самостоятельного жанра натюрморт появился в западноевропейском искусстве только в конце шестнадцатого, в начале семнадцатого ве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C:\Users\germanich-o\Desktop\Рисунок6.png"/>
          <p:cNvPicPr/>
          <p:nvPr/>
        </p:nvPicPr>
        <p:blipFill>
          <a:blip r:embed="rId1"/>
          <a:stretch/>
        </p:blipFill>
        <p:spPr>
          <a:xfrm>
            <a:off x="826920" y="1052640"/>
            <a:ext cx="41767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раваджо. Ваза с фруктами. 16 в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тюрморт превратился в картину, на которой изображены только вещ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веты и плоды, а изображение человека отсутствует. Хотя НАТЮРМОРТ – неподвижная, «мёртвая натура» (так переводится это слово), он состоит из предметов, которые являются частью живой, окружающей нас действи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C:\Users\germanich-o\Desktop\Рисунок7.png"/>
          <p:cNvPicPr/>
          <p:nvPr/>
        </p:nvPicPr>
        <p:blipFill>
          <a:blip r:embed="rId1"/>
          <a:stretch/>
        </p:blipFill>
        <p:spPr>
          <a:xfrm>
            <a:off x="1763640" y="907920"/>
            <a:ext cx="60199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альтазар ван дер Аст, "Натюрморт", Голландия 17 век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удожники всегда любили изображать что-то необычное, фантастическо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гораздо больше во все времена их волновало изображение окружающей жизни. Изображая её события и её повседневное течени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удожники раскрывают нам жизнь своего време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ружающие вещи, предметы обихода изображались во все време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C:\Users\germanich-o\Desktop\Рисунок8.png"/>
          <p:cNvPicPr/>
          <p:nvPr/>
        </p:nvPicPr>
        <p:blipFill>
          <a:blip r:embed="rId1"/>
          <a:stretch/>
        </p:blipFill>
        <p:spPr>
          <a:xfrm>
            <a:off x="1403280" y="981000"/>
            <a:ext cx="66502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7:15:43Z</dcterms:created>
  <dc:creator>Admin</dc:creator>
  <dc:description/>
  <dc:language>en-US</dc:language>
  <cp:lastModifiedBy>germanich-o</cp:lastModifiedBy>
  <dcterms:modified xsi:type="dcterms:W3CDTF">2015-04-24T19:00:54Z</dcterms:modified>
  <cp:revision>14</cp:revision>
  <dc:subject/>
  <dc:title>Изображение предметного мира –  натюрморт</dc:title>
</cp:coreProperties>
</file>