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CD2-DCEE-4D28-967D-3A351D5C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218-3BCC-452F-8842-2F424833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265-AB22-4779-AF0A-B4BA3714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749-B3D2-4842-976A-5FA01454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6FB-4B15-4D9E-8F0C-F6E0F6B1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F55-12C7-4544-83ED-7FCAA730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B6D-DF0C-4666-B824-B51BED47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7C5-DBE0-4DFC-BB65-A60E8495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9AC-BB08-4FE3-A505-4B6902FB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B6D-CB5F-4120-9FCB-656028F0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8B2-1919-4088-869A-EA785D1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C26-9C32-4CD5-AEBD-343873F3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010B9-FA7E-4DA6-9211-4242F6D6E6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FC39524-8F2F-4F0D-89FD-6C7248052CAD}" type="slidenum">
              <a:rPr b="0" lang="ru-RU" sz="1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360" y="74160"/>
            <a:ext cx="8999640" cy="6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Комедия дель Арте    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76360" y="1041480"/>
            <a:ext cx="838656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удьба импровизированной комедии в средние века мало известна. Известно только, что она воскресла в эпоху Возрождения и во второй половине XVI века сделалась излюбленным итальянским зрелищем. Увлечение этой забавой охватило всю Италию, от Альп до Калабрии. И вслед за тем оно распространилось по всей Европе. Труппы итальянских комедиантов появляются в Германии, в Англии, в Испании. Комедия Дель Арте- вид итальянского народного театра ,сочетавший в себе черты веселого карнавала, народного фарса и «ученой комедии», сыгранной на буффонный лад. Это спектакли которого создавались методом импровизации, на основе сценария, содержащего краткую сюжетную схему предст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Диалекты                 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79280" y="1260360"/>
            <a:ext cx="94694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 Unicode MS"/>
              </a:rPr>
              <a:t>Диале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т был одним из необходимых элементов, характеризующих маску. В первую очередь,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 Unicode MS"/>
              </a:rPr>
              <a:t>это касается масок комических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и буффонных, так как благородные маски, дамы, кавалеры и влюблённые, говорят на литературном языке Италии, т.е. на тосканском диалекте в его римском произношении.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 Unicode MS"/>
              </a:rPr>
              <a:t>Диалект дополняет характеристику персонажа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указывая на его происхождение, а также даёт свой комический эффек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оме того, в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 Unicode MS"/>
              </a:rPr>
              <a:t>каждой области Италии создавалась своя мас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о своим местным диалектом (например, флорентийская маска Стентерелло). Такие маски, как правило, пользовались популярностью на небольших территориях, где был распространен тот или иной диалект, и их известность не выходила за эти г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9640" y="-7632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Участие принимали: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7840" y="1079640"/>
            <a:ext cx="9549000" cy="623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сения Фок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Понамор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295280" y="2124000"/>
            <a:ext cx="784728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79280" y="1979640"/>
            <a:ext cx="925380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В основе представления комедии Дель Арте была не пьеса, а краткий сценарий, текст же и отдельные ситуации артисты импровизировали прямо на глазах у зрителей. Герой и героиня говорили на литературном итальянском языке, лица их лишь частично были закрыты черной полумаской. Остальные персонажи общались на различных диалектах Италии, были одеты каждый в традиционный для этого образа костюм и маску, потому и назывались «масками». Театр просуществовал с середины XVI до конца XVIII вв., оказав при этом ключевое воздействие на дальнейшее развитие всего западноевропейского драматического театра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79280" y="900000"/>
            <a:ext cx="5872320" cy="66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руппы, игравшие комедии масок, были первыми в Европе профессиональными театральными труппами, где закладывались основы актёрского мастерства и где впервые присутствовали элементы режиссуры. К XIX веку комедия Дель Арте изживает себя, уступив место театру с писаным сценарием, но находит своё продолжение в пантомиме и мелодраме. В XX веке комедия служит моделью для синтетического театра Мейерхольда и Вахтангова, а также французов Жака Копо и Жана-Луи Барро, возрождавших выразительность сценического жеста и импровизации и придававших большое значение ансамблевой игре. Сейчас элементы приемов комедии Дель Арте используются на телевидении :принцип tipi fissi, в котором одни и те же персонажи (маски) участвуют в различных по содержанию сценариях, сегодня широко используется в создании комедийных телесериалов, а искусство импровизации -- в stand-up come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313320" y="1079640"/>
            <a:ext cx="304668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360" y="43920"/>
            <a:ext cx="89996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35000"/>
              </a:lnSpc>
              <a:spcAft>
                <a:spcPts val="10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Состовляющие элементы комедии Дель Арте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0" y="782640"/>
            <a:ext cx="1996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М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98760" y="1219320"/>
            <a:ext cx="8121600" cy="59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Кожаная маска была обязательным атрибутом, закрывающим лицо комического персонажа, и изначально понималась исключительно в этом смысле. Однако, со временем маской стали называть и всего персонажа. Актёр как правило играл одну и ту же маску. Актёру, игравшему Бригеллу, редко приходилось играть Панталоне, и наоборот. Часто менялись сценарии, но маска -- значительно реже. Маска становилась образом актёра, который он выбирал в начале карьеры, и играя его всю жизнь, дополнял своей артистической индивидуальностью. Ему не нужно было знать роль, достаточно - знать сценарий -- сюжет и предлагаемые обстоятельства. Всё остальное создавалось в процессе представления путём импровизации.Число масок, появлявшихся в комедии Дель Арте чрезвычайно велико - более сотни. Однако большинство из них было скорее вариантами нескольких основных масок. У комедии Дель Арте было два основных центра - Венеция и Неаполь. В соответствии с этим сложились и две группы мас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0360" y="36000"/>
            <a:ext cx="8999640" cy="6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ерсонажи комедии:   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2003400" y="900000"/>
            <a:ext cx="6816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еверный (венецианский) квартет масо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79280" y="1260360"/>
            <a:ext cx="97203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рлекин (Меццетино, Труффальдино, Табарино), -- второй дзанни, глупый сл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Бригелла (Скапино, Буффетто) -- первый дзанни, умный сл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Доктор (Доктор Баландзоне, Доктор Грациано)-- псевдо-учёный доктор права; стар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анталоне (Маньифико, Кассандро, Уберто)-- венецианский купец, скупой стар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260440" y="5884920"/>
            <a:ext cx="63010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42960" y="5651640"/>
            <a:ext cx="641340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жный ( неаполитанский) квартет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талья,- судья-за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рамучча-- хвастливый вояка, тр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ьелло-- первый дзанни, умный сл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льчинелла (Полишинель)--второй дзанни, глупый сл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итан -- хвастливый вояка, трус, северный аналог маски Скарамуч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лио (также, Орацио, Люцио, Флавио и т. п.)-- юный влюблё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елла (также, Лучинда, Витториа и т. п.-- юная влюблённая; часто героиню называли именем актрисы, игравшей эту 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омбина, Фантеска, Фьяметта, Смеральдина и т. п., -- служ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11240" y="1079640"/>
            <a:ext cx="56498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стройство труппы и канон спектакля Система сценического искусства комедии Дель Арте сформировалась к концу XVI в. и совершенствовалась в течение следующего столетия. В 1699 г. в Неаполе был издан наиболее полный кодекс комедии, «Dell'arte representiva, premediata e all'improviso», составленный Андреа Перуч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ектакль начинается и заканчивается парадом с участием всех актёров, с музыкой, танцем, с лацци (буффонными трюками) и дурачествами, состоит из трёх актов. В перерывах между актами исполнялись короткие интермедии. Действие должно быть ограничено во времени (двадцатичетырехчасовой кан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759280" y="870120"/>
            <a:ext cx="414036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60360" y="720720"/>
            <a:ext cx="63356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На севере маски строились с тем, чтобы сценарии сохранял какой-то драматургический кан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На юге больше заботились о том, чтобы сценарий санкционировал бурное веселье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афос южных сценариев был и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 Он определялся непрерывным фейерверком лацци, и маски должны были служить этой це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этому хотя на юге, как и на севере, присутствовали первый и второй дзани, их функции отличались тем, что буффонный элемент в них подчеркнут больше. И старики на юге играли не столь значительную роль, что, в свою очередь, приводило к убыстрению темпа предст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912000" y="1547640"/>
            <a:ext cx="2982960" cy="481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179280" y="1079640"/>
            <a:ext cx="9325080" cy="59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Основой спектакля в комед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Дель Арте является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сценар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(или канва)-- это очень краткое изложение по эпизодам сюжета с подробным описанием действующих лиц, порядка выхода на сцену, действий актёров, основных лацци и предметов реквиз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Большинство сценариев представляют собой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переделку существующих комедий, рассказов и новелл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для нужд отдельно взятой труппы (со своим набором масок), наскоро набросанный текст, вывешиваемый за кулисами на время спектак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ценарий, как правило,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комедийного характе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, но это может быть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и трагедия, и трагикомедия, и пастора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(в сборнике сценариев Фламинио Скала, которые играла на сцене труппа «Джелози» присутствуют трагедии; известно также, что странствующая по французской провинции труппа Мольера-Дюфрена иногда играла трагедии, впрочем, без особого успех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6:06:49Z</dcterms:created>
  <dc:creator/>
  <dc:description/>
  <dc:language>en-US</dc:language>
  <cp:lastModifiedBy>user</cp:lastModifiedBy>
  <dcterms:modified xsi:type="dcterms:W3CDTF">2015-04-24T10:52:45Z</dcterms:modified>
  <cp:revision>3</cp:revision>
  <dc:subject/>
  <dc:title>Комедия дель Арте             </dc:title>
</cp:coreProperties>
</file>