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0AF-41A9-4CDC-AFD1-16CFA0C2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E8F-D2A1-4BC8-BF36-3A83FBB8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3D9-DB25-406E-9F71-69C79A83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F1F-827E-4BE9-A6AD-051C1E7D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614-BED0-4FE4-AB80-B80C496B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20B-8BE7-4C2C-A8A1-1A01E50D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0DB-F6C1-4A83-B755-7A0E251E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1D7-69F4-4CEB-8D9A-C8B98DB8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41E-A6F8-4EB7-A2E7-24A748FD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926-D7F5-4785-A65D-99073DE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9D6-8180-409A-B0A0-6DA8947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156-2DDD-4C7A-8486-8AE60EB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6912-EE01-4106-AFD9-4C50B6D2D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россворд по тем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«Война 1812 го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57360" y="1728720"/>
            <a:ext cx="62546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КРОССВОРД 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Monotype Corsiva"/>
              </a:rPr>
              <a:t>«Отечественная война 1812 г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064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Инструк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Заполните кроссвордную се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Чтобы проверить правильность введенного слова, нажмите кнопку проверить. Если слово правильное – клетки окрасятся в розовый цвет, если – неправильное – слово исчез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1" descr="epolet_3"/>
          <p:cNvPicPr/>
          <p:nvPr/>
        </p:nvPicPr>
        <p:blipFill>
          <a:blip r:embed="rId1"/>
          <a:stretch/>
        </p:blipFill>
        <p:spPr>
          <a:xfrm>
            <a:off x="208080" y="3112920"/>
            <a:ext cx="1753920" cy="586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8" descr="kirasir_ШТАНДАРТ-ЮНКЕР КИРАСИРСКОГО"/>
          <p:cNvPicPr/>
          <p:nvPr/>
        </p:nvPicPr>
        <p:blipFill>
          <a:blip r:embed="rId2"/>
          <a:stretch/>
        </p:blipFill>
        <p:spPr>
          <a:xfrm>
            <a:off x="385920" y="728640"/>
            <a:ext cx="131760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gusar1812_14"/>
          <p:cNvPicPr/>
          <p:nvPr/>
        </p:nvPicPr>
        <p:blipFill>
          <a:blip r:embed="rId3"/>
          <a:stretch/>
        </p:blipFill>
        <p:spPr>
          <a:xfrm>
            <a:off x="2006640" y="4508640"/>
            <a:ext cx="1324080" cy="189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7" descr="kiver1812a"/>
          <p:cNvPicPr/>
          <p:nvPr/>
        </p:nvPicPr>
        <p:blipFill>
          <a:blip r:embed="rId4"/>
          <a:stretch/>
        </p:blipFill>
        <p:spPr>
          <a:xfrm>
            <a:off x="476280" y="4734000"/>
            <a:ext cx="781200" cy="1214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97360" y="98280"/>
            <a:ext cx="4356000" cy="6524640"/>
          </a:xfrm>
          <a:prstGeom prst="rect">
            <a:avLst/>
          </a:prstGeom>
          <a:gradFill rotWithShape="0">
            <a:gsLst>
              <a:gs pos="0">
                <a:srgbClr val="ffcc99">
                  <a:alpha val="60392"/>
                </a:srgbClr>
              </a:gs>
              <a:gs pos="100000">
                <a:srgbClr val="765e47">
                  <a:alpha val="2901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36504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 горизонтал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евые земляные укрепления в виде наконечника стрелы. Прикрывали пехоту и артиллер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войск, находящаяся впереди главных сил, передовой отря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тяжелой кавалерии в европейских армиях конца XVI -начала XX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репление сомкнутого вида, земляное, с валом и рвом, для круговой обор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вилегированная часть вой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 вертик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вание пехоты в ря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рубежных государ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лечные знаки различия военнослужащих, носились преимущественно офице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войск или флота, находящаяся позади главных сил и обеспечивающая безопасность ты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ий головной убор с козырьком и различными украше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легкой кавалерии в европейских, русской армиях в XVII-XX вв., в войне 1812 г.  было 12 пол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6" descr="RedutSmallAlfa"/>
          <p:cNvPicPr/>
          <p:nvPr/>
        </p:nvPicPr>
        <p:blipFill>
          <a:blip r:embed="rId5"/>
          <a:stretch/>
        </p:blipFill>
        <p:spPr>
          <a:xfrm>
            <a:off x="3357720" y="4508640"/>
            <a:ext cx="1620720" cy="114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9" descr="redanyRedutyFlashi"/>
          <p:cNvPicPr/>
          <p:nvPr/>
        </p:nvPicPr>
        <p:blipFill>
          <a:blip r:embed="rId6"/>
          <a:srcRect l="0" t="0" r="0" b="9818"/>
          <a:stretch/>
        </p:blipFill>
        <p:spPr>
          <a:xfrm>
            <a:off x="1285920" y="457200"/>
            <a:ext cx="3600360" cy="5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Reduty1"/>
          <p:cNvPicPr/>
          <p:nvPr/>
        </p:nvPicPr>
        <p:blipFill>
          <a:blip r:embed="rId7"/>
          <a:stretch/>
        </p:blipFill>
        <p:spPr>
          <a:xfrm>
            <a:off x="3716280" y="1089000"/>
            <a:ext cx="763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Oval 82"/>
          <p:cNvSpPr/>
          <p:nvPr/>
        </p:nvSpPr>
        <p:spPr>
          <a:xfrm>
            <a:off x="1916280" y="99864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3"/>
          <p:cNvSpPr/>
          <p:nvPr/>
        </p:nvSpPr>
        <p:spPr>
          <a:xfrm>
            <a:off x="3222720" y="99864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4"/>
          <p:cNvSpPr/>
          <p:nvPr/>
        </p:nvSpPr>
        <p:spPr>
          <a:xfrm>
            <a:off x="4527720" y="167328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5"/>
          <p:cNvSpPr/>
          <p:nvPr/>
        </p:nvSpPr>
        <p:spPr>
          <a:xfrm>
            <a:off x="2006640" y="203364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6"/>
          <p:cNvSpPr/>
          <p:nvPr/>
        </p:nvSpPr>
        <p:spPr>
          <a:xfrm>
            <a:off x="115920" y="239400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7"/>
          <p:cNvSpPr/>
          <p:nvPr/>
        </p:nvSpPr>
        <p:spPr>
          <a:xfrm>
            <a:off x="115920" y="3338640"/>
            <a:ext cx="315720" cy="315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8"/>
          <p:cNvSpPr/>
          <p:nvPr/>
        </p:nvSpPr>
        <p:spPr>
          <a:xfrm>
            <a:off x="2906640" y="3743280"/>
            <a:ext cx="316080" cy="316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9"/>
          <p:cNvSpPr/>
          <p:nvPr/>
        </p:nvSpPr>
        <p:spPr>
          <a:xfrm>
            <a:off x="971640" y="4329000"/>
            <a:ext cx="315720" cy="316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9:10:35Z</dcterms:created>
  <dc:creator>Пользователь</dc:creator>
  <dc:description/>
  <dc:language>en-US</dc:language>
  <cp:lastModifiedBy>panteleeva</cp:lastModifiedBy>
  <dcterms:modified xsi:type="dcterms:W3CDTF">2015-04-24T12:42:39Z</dcterms:modified>
  <cp:revision>25</cp:revision>
  <dc:subject/>
  <dc:title>КРОССВОРД  «Отечественная война 1812 г.»</dc:title>
</cp:coreProperties>
</file>