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668-EA83-4A82-9FA1-25A9E852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F10-3907-49A4-B01F-C730173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541-6EBB-4F42-99C5-5492218F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F46-95D5-4084-9EBC-CE2FEE93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052-75B0-4501-B044-AF616417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B1D6-AB1D-48D7-B5FE-107AFF4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365-FCE0-49A4-A657-4C5D88E0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4E11-DC6F-450D-90E5-53FF2E3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DB5-0E84-4FD1-B8C1-5BB4038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70A5-A1AF-4D95-A37B-5910CF48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55A-6E25-4A3D-AC7C-FEF6A88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CDC-199D-4A40-A762-87DA7C4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D1E-77F8-43A7-915F-685C5416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F18-94F6-4964-9401-638C9D9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5641-7C42-473A-8DDC-0ED6BA7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D700-9208-469D-87FD-A6247687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75C9-23EE-4C2D-93C0-DEB7A0CA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398-1D0D-496B-B23A-E3C3C5F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25C-6E23-4DD3-A1EC-EA4CE710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E81-5665-4D8E-AF4E-B412D1C8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5CA-9566-417E-AD09-96188AE6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560-771D-48A6-9293-2CBD7AD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3E3-9114-45AB-A860-4BCCF47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85-0DF3-497C-8488-826F615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9240-0434-4566-8970-DAA90D0D69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444-C824-4B13-87E3-4BF5766468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62336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006633"/>
                </a:solidFill>
                <a:latin typeface="Garamond"/>
              </a:rPr>
              <a:t>Mark Twain</a:t>
            </a:r>
            <a:endParaRPr b="0" lang="en-US" sz="10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ill in the missing word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Mark Twain is a famous America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… better known by his pen name Mark Tw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Mark Twain worked as …, …, …, …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His first success w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 Mark Twain had thre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 Mark Twain is famous for 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6633"/>
                </a:solidFill>
                <a:uFillTx/>
                <a:latin typeface="Garamond"/>
              </a:rPr>
              <a:t>Samuel Langhorne Cleme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tter known by his pen name Mark Twain, was an American author and humor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0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Childhood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born in Florida, Missouri, on November 30, 18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ain’s father was an attorney and a local j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18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Care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0424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8 he became a printer's appren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51, he began working as a typesetter and contributor of articles and humorous sketches for the Hannib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was 18, he left Hannibal and worked as a printer in New York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59 he received his steamboat pilot li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4 he worked as a journa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The first succes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irst success as a writer came when his humorous tall tale, "The Celebrated Jumping Frog of Calaveras County," was published in a New York weekly, The Saturday Press, on November 18,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4233960"/>
            <a:ext cx="2233440" cy="2165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32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amily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n February 18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muel Langhorne Clemens married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Olivia Lang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1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Family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daugh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usy Cleme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lara Cleme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Jean Clem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2095560" cy="2828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714680" cy="238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443640" y="2924280"/>
            <a:ext cx="1708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33"/>
                </a:solidFill>
                <a:latin typeface="Garamond"/>
              </a:rPr>
              <a:t>Later lif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07 Oxford University awarded Twain an honorary doctorate in let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ain died of a heart attack on April 21, 19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2095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The most famous novel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Adventures of Tom Sawyer (1876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Prince and the Pauper (1881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on the Mississippi (1883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entures of Huckleberry Finn (188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1830240" cy="252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3640" y="3789360"/>
            <a:ext cx="1917720" cy="244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1520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36:07Z</dcterms:created>
  <dc:creator>АлКон</dc:creator>
  <dc:description/>
  <dc:language>en-US</dc:language>
  <cp:lastModifiedBy>АлКон</cp:lastModifiedBy>
  <dcterms:modified xsi:type="dcterms:W3CDTF">2011-10-12T17:17:05Z</dcterms:modified>
  <cp:revision>2</cp:revision>
  <dc:subject/>
  <dc:title>Mark Twain</dc:title>
</cp:coreProperties>
</file>