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84CF6-1AF9-4529-826C-8929250D3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4B6D0-AF35-4583-839B-E89A1494F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43D64-BC8E-4D4F-BBF4-54E67EEB3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31A82-B819-4926-B478-52716B870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A61C2-3C81-48E9-85AB-174939CA8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39A1A-7586-4F06-99F1-6BD784D45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57072-74C9-409F-B6CE-D39CCC082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396DA-31C3-45C0-AEC0-0EDB43E9A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FE34D-A380-429E-9828-796934173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C5DC9-DB4E-4ED2-B35F-3064A2CA6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94C47-E19C-4E42-AF6F-23630A728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EA28A-0009-4F9B-9F2A-24B7CB337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3050E-8397-4ED1-8685-65A60E6B3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C800B-95E1-4094-AE56-D93D3A067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F3AC3-1747-4DD4-968D-A706A03D0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0E616-7640-4286-813F-9169F774B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8F61C-8CA1-45A5-80FA-F6C8EB194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F854C-BF21-468B-9EFE-1F7D9E3DC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096F3-1CFE-448B-A88A-36C33BC8E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B388D-9521-4A67-9165-BFABC0317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76B36-8546-42CA-998D-BDFEDC454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853CC-0F5E-4F92-AAEE-642A82EF0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D5DEE-98FD-47F7-9944-1E9B6C98B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FE9C9-B349-444E-80BC-3905A5A9B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4E5BA-3D22-41C7-BE2B-BD5D101A7F66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7BF53-B87F-4D1B-AC26-B65B829438E2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00000" y="981000"/>
            <a:ext cx="7623360" cy="168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900" spc="-1" strike="noStrike">
                <a:solidFill>
                  <a:srgbClr val="006633"/>
                </a:solidFill>
                <a:latin typeface="Garamond"/>
              </a:rPr>
              <a:t>Mark Twain</a:t>
            </a:r>
            <a:endParaRPr b="0" lang="en-US" sz="109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2771640" y="2637000"/>
            <a:ext cx="3529080" cy="36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33"/>
                </a:solidFill>
                <a:latin typeface="Garamond"/>
              </a:rPr>
              <a:t>Fill in the missing words</a:t>
            </a:r>
            <a:endParaRPr b="0" lang="en-US" sz="6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) Mark Twain is a famous American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)… better known by his pen name Mark Twai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) Mark Twain worked as …, …, …, …,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4) His first success was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5) Mark Twain had three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6) Mark Twain is famous for …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9280" y="277920"/>
            <a:ext cx="89647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6633"/>
                </a:solidFill>
                <a:uFillTx/>
                <a:latin typeface="Garamond"/>
              </a:rPr>
              <a:t>Samuel Langhorne Clemens</a:t>
            </a:r>
            <a:endParaRPr b="0" lang="en-US" sz="5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9647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etter known by his pen name Mark Twain, was an American author and humoris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6227640" y="3357720"/>
            <a:ext cx="208764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33"/>
                </a:solidFill>
                <a:latin typeface="Garamond"/>
              </a:rPr>
              <a:t>Childhood</a:t>
            </a:r>
            <a:endParaRPr b="0" lang="en-US" sz="6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24000" y="1599840"/>
            <a:ext cx="88200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as born in Florida, Missouri, on November 30, 183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wain’s father was an attorney and a local jud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5580000" y="3860640"/>
            <a:ext cx="2189160" cy="27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33"/>
                </a:solidFill>
                <a:latin typeface="Garamond"/>
              </a:rPr>
              <a:t>Career</a:t>
            </a:r>
            <a:endParaRPr b="0" lang="en-US" sz="6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8904240" cy="50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1848 he became a printer's apprentic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1851, he began working as a typesetter and contributor of articles and humorous sketches for the Hannibal Jour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he was 18, he left Hannibal and worked as a printer in New York C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1859 he received his steamboat pilot licen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1864 he worked as a journali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6633"/>
                </a:solidFill>
                <a:latin typeface="Garamond"/>
              </a:rPr>
              <a:t>The first success</a:t>
            </a:r>
            <a:endParaRPr b="0" lang="en-US" sz="5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87854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s first success as a writer came when his humorous tall tale, "The Celebrated Jumping Frog of Calaveras County," was published in a New York weekly, The Saturday Press, on November 18, 1865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258920" y="4233960"/>
            <a:ext cx="2233440" cy="21654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4716360" y="4365720"/>
            <a:ext cx="3240360" cy="21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33"/>
                </a:solidFill>
                <a:latin typeface="Garamond"/>
              </a:rPr>
              <a:t>Family</a:t>
            </a:r>
            <a:endParaRPr b="0" lang="en-US" sz="6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n February 1870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Samuel Langhorne Clemens married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Olivia Langd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3276720" y="2924280"/>
            <a:ext cx="219708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33"/>
                </a:solidFill>
                <a:latin typeface="Garamond"/>
              </a:rPr>
              <a:t>Family</a:t>
            </a:r>
            <a:endParaRPr b="0" lang="en-US" sz="6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6002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ree daught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Susy Clemen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Clara Clemen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Jean Cleme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755640" y="2781360"/>
            <a:ext cx="2095560" cy="28288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3708360" y="2924280"/>
            <a:ext cx="1714680" cy="238104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6443640" y="2924280"/>
            <a:ext cx="1708200" cy="249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6633"/>
                </a:solidFill>
                <a:latin typeface="Garamond"/>
              </a:rPr>
              <a:t>Later life </a:t>
            </a:r>
            <a:endParaRPr b="0" lang="en-US" sz="6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 1907 Oxford University awarded Twain an honorary doctorate in letter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ain died of a heart attack on April 21, 191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059280" y="3213000"/>
            <a:ext cx="2095200" cy="31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33"/>
                </a:solidFill>
                <a:latin typeface="Garamond"/>
              </a:rPr>
              <a:t>The most famous novels</a:t>
            </a:r>
            <a:endParaRPr b="0" lang="en-US" sz="6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e Adventures of Tom Sawyer (1876),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e Prince and the Pauper (1881),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Life on the Mississippi (1883),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dventures of Huckleberry Finn (1885)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684360" y="3716280"/>
            <a:ext cx="1830240" cy="252108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3203640" y="3789360"/>
            <a:ext cx="1917720" cy="244944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6372360" y="3789360"/>
            <a:ext cx="152064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2T15:36:07Z</dcterms:created>
  <dc:creator>АлКон</dc:creator>
  <dc:description/>
  <dc:language>en-US</dc:language>
  <cp:lastModifiedBy>АлКон</cp:lastModifiedBy>
  <dcterms:modified xsi:type="dcterms:W3CDTF">2011-10-12T17:17:05Z</dcterms:modified>
  <cp:revision>2</cp:revision>
  <dc:subject/>
  <dc:title>Mark Twain</dc:title>
</cp:coreProperties>
</file>