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7A2D-470E-4FAF-B1AC-09553D52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E899-7C31-4414-A8B8-51C71761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549-4978-458C-A50B-4F46B4A3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1AB-88F2-4ADA-97F1-E82F9BA4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BE3-ED93-421A-916C-284F9405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9C78-A761-4048-AA29-EF0977E2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BBD-E4BA-401F-9728-225864B4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7D8-9364-48CC-B1BE-407A56CB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2DA-B850-4039-9DB8-9A52E35D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F58-B7FE-4E53-B9EB-606852B7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B29-FC6B-4903-B7E9-3B8B4609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B54E-6BBA-45CC-A979-372F9818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5600-A54F-48E9-A015-A43E4E36E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50920" y="260280"/>
            <a:ext cx="84978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ногогранни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ногогранники вокруг н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де  возможно увидеть эти удивительные тела? В очень красивой книге немецкого биолога начала нашего века Э.Геккеля "Красота форм в природе" можно прочитать такие строки: "Природа вскармливает на своем лоне неисчерпаемое количество удивительных созданий, которые по красоте и разнообразию далеко превосходят все созданные искусством человека формы". Создания природы красивы и симметричны. Это неотделимое свойство природной гармонии. Но здесь мы видим и одноклеточные организмы - феодарии, форма которых точно передает икосаэдр. Чем же вызвана такая природная геометризация? Может быть, тем, что из всех многогранников с таким же количеством граней именно икосаэдр име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ьший объем и наименьшую площадь поверхност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Это геометрическое свойство помогает морскому микроорганизму   преодолевать давление водной тол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433080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нтересно и то, что именно икосаэдр оказался в центре внимания биологов в их спорах относительно формы вирусов. Вирус не может быть совершенно круглым, как считалось ранее. Чтобы установить его форму, брали различные многогранники, направляли на них свет под теми же углами, что и поток атомов на вирус. Оказалось, что только один многогранник дает точно такую же тень - икосаэдр. Его геометрические свойства, о которых говорилось выше, позволяют экономить генетическую информацию. Правильные многогранники - самые выгодные фигуры. И природа этим широко пользуется. Кристаллы некоторых знакомых нам веществ имеют форму правильных многогранников. Так, куб передает форму кристаллов поваренной соли NaCl, монокристалл алюминиево-калиевых квасцов (KAlSO4)2 12Н2О имеет форму октаэдра, кристалл сернистого колчедана FeS имеет форму додекаэдра, сурьменистый сернокислый натрий - тетраэдра, бор - икосаэдра. Правильные многогранники определяют форму кристаллических решеток некоторых   химических веще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796000" y="1557360"/>
            <a:ext cx="2773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деи Пифагора, Платона, И.Кеплера о связи правильных многогранников с гармоничным устройством мира уже в наше время нашли свое продолжение в интересной научной гипотезе, авторами которой (в начале 80-х годов) явились московские инженеры В.Макаров и В.Морозов. Они считают, что ядро Земли имеет форму и свойства растущего кристалла, оказывающего воздействие на развитие всех природных процессов, идущих на планете. Лучи этого кристалла, а точнее, его силовое поле, обусловливают икосаэдро-додекаэдрическую структуру Земли, проявляющуюся в том, что в земной коре как бы проступают проекции вписанных в земной шар правильных многогранников: икосаэдра и додекаэдра. Их 62 вершины и середины ребер, называемых авторами узлами, обладают рядом специфических свойств, позволяющих объяснить некоторые непонятные  я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292720" y="404640"/>
            <a:ext cx="33940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сли нанести на глобус очаги наиболее крупных и примечательных культур и цивилизаций Древнего мира, можно заметить закономерность в их расположении относительно географических полюсов и экватора планеты. Многие залежи полезных ископаемых тянутся вдоль икосаэдрово-додекаэдровой сетки. Еще более удивительные вещи происходят в местах пересечения этих ребер: тут располагаются очаги древнейших культур и цивилизаций: Перу, Северная Монголия, Гаити, Обская культура и другие. В этих точках наблюдаются максимумы и минимумы атмосферного давления, гигантские завихрения Мирового океана, здесь шотландское озеро Лох-Несс, Бермудский треугольник. Дальнейшие исследования Земли, возможно, определят отношение к этой красивой научной гипотезе, в которой, как видно, правильные многогранники занимают важное мест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4681440" cy="4535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859280" y="476280"/>
            <a:ext cx="38275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МНОГОГРАННИКИ В ИСКУС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авильные геометрические тела - многогранники - имели особое очарование для Эшера. В его многих работах многогранники являются главной фигурой и в еще большем количестве работ они встречаются в качестве вспомогательных элементов. Большое количество различных многогранников может быть получено объединением правильных многогранников, а также превращением многогранника в звезду. Для преобразования многогранника в звезду необходимо заменить каждую его грань пирамидой, основанием которой является грань многогранника. Изящный пример звездчатого додекаэдра можно найти в работе "Порядок и хаос". В данном случае звездчатый многогранник помещен внутрь стеклянной сфер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57160" y="479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032360" cy="3961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9640" y="4437000"/>
            <a:ext cx="4103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скетичная красота этой конструкции контрастирует с беспорядочно разбросанным по столу мусором. Заметим также, что анализируя картину можно догадаться о природе источника света для всей композиции - это окно, которое отражается левой верхней части сфе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580000" y="333000"/>
            <a:ext cx="3106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гуры, полученные объединением правильных многогранников, можно встретить во многих работах Эшера. Наиболее интересной среди них является гравюра "Звезды", на которой можно увидеть тела, полученные объединением тетраэдров, кубов и октаэдров. Если бы Эшер изобразил в данной работе лишь различные варианты многогранников, мы никогда бы не узнали о ней. Но он по какой-то причине поместил внутрь центральной фигуры хамелеонов, чтобы затруднить нам восприятие всей фигуры. Таким образом нам необходимо отвлечься от привычного восприятия картины и попытаться взглянуть на нее свежим взором, чтобы представить ее целиком. Этот аспект данной картины является еще одним предметом восхищения математиков творчеством Эш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7530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200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щие сведения о многогранни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97200" y="2491920"/>
            <a:ext cx="422244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Пирамида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ирамида - многогранник, основанием которого является многоугольник, а боковые грани - треугольники. n-угольная пирамида имеет n+1 граней Пирамида называется правильной, если в основании правильный многоугольник, а вершина проектируется в центр осн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959280" cy="424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1484280"/>
            <a:ext cx="820908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ногогранник - геометрическое тело, ограниченное плоскими многоугольниками.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лоские многоугольники называются гранями, стороны многоугольника - ребрами, вершины многоугольника - вершинами многогранника. Виды многогранников: пирамида, призма, параллелепипед и друг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708000" y="260280"/>
            <a:ext cx="4978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П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зма - многогранник, у которого боковые грани параллелограммы, а два основания равные многоугольники. У треугольной призмы в основании лежит треугольник, у четырехугольной - четырехугольник, у пятиугольной - пятиугольник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зма называется </a:t>
            </a:r>
            <a:r>
              <a:rPr b="0" i="1" lang="en-US" sz="2000" spc="-1" strike="noStrike" u="sng">
                <a:solidFill>
                  <a:srgbClr val="0099ff"/>
                </a:solidFill>
                <a:uFillTx/>
                <a:latin typeface="Arial"/>
              </a:rPr>
              <a:t>прямой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если ее боковые ребра перпендикулярны основаниям, и наклонной, если ее боковые ребра не перпендикулярны основаниям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зма называется </a:t>
            </a:r>
            <a:r>
              <a:rPr b="0" i="1" lang="en-US" sz="2000" spc="-1" strike="noStrike" u="sng">
                <a:solidFill>
                  <a:srgbClr val="0099ff"/>
                </a:solidFill>
                <a:uFillTx/>
                <a:latin typeface="Arial"/>
              </a:rPr>
              <a:t>правильной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если она прямая и основание ее правильный многоугольник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744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Параллелепипе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3024360" cy="3960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35280" y="1628640"/>
            <a:ext cx="518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это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изма, основанием которой является параллелограмм. Параллелепипед, основанием которого является прямоугольник или квадрат называется прямым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40360" y="260280"/>
            <a:ext cx="47527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7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араллелепип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ран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з которых составлен параллелепипед (ABCD) – параллелограммы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ебра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AB) – стороны параллелепипеда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Диагональ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– отрезок, соединяющий противоположные вершины. Параллелепипед имеет 6 граней, 12 ребер, 8 вершин и 4 диагона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войства параллелепипеда: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1. Противоположные грани параллелепипеда параллельны и равны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2. Диагонали параллелепипеда пересекаются с одной точке и делятся этой точкой пополам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окажем 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1-е свойство параллелепипеда: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окажем параллельность граней АВB1А1 и АDD1A1 . Так как ABCD и АDD1A1 – параллелограммы , то АВ II DC и АA1 II DD1. Таким образом, две пересекающиеся прямые АВ и АA1 одной грани соответственно параллельны двум пересекающимся прямым CD и DD1 другой грани. Отсюда по признаку параллельности плоскостей следует, что грани АВB1С1 и АDD1A1 параллель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еперь докажем равенство этих граней. Так как все грани параллелепипеда – параллелограммы, то АВ=DC и АА1=DD1. По этой же причине стороны углов А1АВ и D1DC соответственно сонаправлены и, значит, эти углы равны. Таким образом, две смежные стороны и угол между ними параллелограмма АВВ1А1соответственно равны двум смежным сторонам и углу между ними параллелограмма DCC1D1, поэтому эти параллелограммы равны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3744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16000" y="404640"/>
            <a:ext cx="397044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ажем второе свойств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ссмотрим четырехугольник A1D1CB, диагональ которого A1C и D1B являются диагоналями параллелепипеда. Так как A1D1¦BC и A1D1=BC, то A1D1CB – параллелограмм. Поэтому диагонали A1C и D1B пересекаются в некоторой точке О и этой точкой делятся пополам. Далее рассмотрим четырехугольник AD1C1B. Он также является параллелограммом и, следовательно, его диагонали АС1 и D1B пересекаются и точкой пересечения делятся пополам. Но серединой диагонали D1B является точка О. Таким образом, диагонали А1С, АС1 и D1B пересекаются в точке О и делятся этой точкой пополам. Наконец, рассматривая четырехугольник А1В1CD, точно так же устанавливаем, что и четвертая диагональ DB1 параллелепипеда проходит через точку О и делится ею попола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105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ногогранник называется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авильным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если все его грани - равны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авильны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ногоугольн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 каждой вершине правильного многогранника сходится одно и то же число рёб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умма плоских углов при вершине правильных многогранников не больше пяти. Все двугранные углы при рёбрах и все многогранные углы при вершинах правильного многогранника рав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оказано, что правильных многогранников только 5 тип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етырёхгранник (тетраэдр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шестигранник или куб ( гексаэдр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сьмигранник (октаэдр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венадцатигранник (додекаэдр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вадцатигранник (икосаэдр)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3898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ругих типов правильных многогранников не существует. Этот факт был известен уже древнегреческим геометрам и им посвящена заключительная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книга знаменитых начал Евклида. (Евклид доказал этот факт ещё в 3 веке до н.э.) Эти многогранники часто называют Платоновыми телами в идеалистической картине мира, данной       древнегреческим мыслителем Платоном. Четыре из них олицетворяли четыре стихии: тетраэдр-огонь, куб-земля, октаэдр-воздух, икосаэдр-вода, додекаэдр-все мироздание, его по латыни стали называть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uinta essentia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(«пятая сущность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0" y="549360"/>
          <a:ext cx="172872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49360"/>
                    <a:ext cx="172872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0" y="258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81640" y="37929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732720" y="549360"/>
          <a:ext cx="1726920" cy="20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549360"/>
                    <a:ext cx="172692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643280" y="4437000"/>
          <a:ext cx="1765440" cy="22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4437000"/>
                    <a:ext cx="176544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732720" y="4508640"/>
          <a:ext cx="1917720" cy="21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2720" y="4508640"/>
                    <a:ext cx="19177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651640" y="2637000"/>
          <a:ext cx="1441440" cy="165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51640" y="2637000"/>
                    <a:ext cx="144144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екарт, обнаружил удивительную закономерность, что е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- число верш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 - число ребе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 - число гран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-Р+Г=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43280" y="549360"/>
          <a:ext cx="4043160" cy="5327280"/>
        </p:xfrm>
        <a:graphic>
          <a:graphicData uri="http://schemas.openxmlformats.org/drawingml/2006/table">
            <a:tbl>
              <a:tblPr/>
              <a:tblGrid>
                <a:gridCol w="2086920"/>
                <a:gridCol w="719640"/>
                <a:gridCol w="650160"/>
                <a:gridCol w="586440"/>
              </a:tblGrid>
              <a:tr h="13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14:11:53Z</dcterms:created>
  <dc:creator>User</dc:creator>
  <dc:description/>
  <dc:language>en-US</dc:language>
  <cp:lastModifiedBy>HOME</cp:lastModifiedBy>
  <dcterms:modified xsi:type="dcterms:W3CDTF">2006-01-29T20:31:29Z</dcterms:modified>
  <cp:revision>23</cp:revision>
  <dc:subject/>
  <dc:title>Слайд 1</dc:title>
</cp:coreProperties>
</file>