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E0B7-DAFD-4325-B91C-502128FA5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7F63-A70F-496A-BE79-59BE60943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DD04-BADF-4FDA-8901-C62B62D53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F79-74FD-4294-9BD8-6B3813D2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DBE-B39C-4788-B70C-3CF89DE8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E16-2C5F-4DA0-BF63-8AA21B05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EA2-B40E-4755-A8E7-6DBF7DDA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AB5-736A-4934-A408-9CCAAC43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022-FAAC-46F7-B542-5E271ECD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7D8-8170-4365-9EB0-1B00A26D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20C-2DE5-4C28-B088-4F362103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36B-DDC1-42E7-ADEC-5BEEA76B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7AF-01E4-4F55-A893-3A66AE0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425-260E-4036-B28A-785E62C8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501-5C75-4D4B-A4E0-AFA2B8E6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1F5B-AA66-4524-9A04-C0C5688A8D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_5ed6_4003007c_L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306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arliament0302"/>
          <p:cNvPicPr/>
          <p:nvPr/>
        </p:nvPicPr>
        <p:blipFill>
          <a:blip r:embed="rId2"/>
          <a:stretch/>
        </p:blipFill>
        <p:spPr>
          <a:xfrm>
            <a:off x="3924360" y="3716280"/>
            <a:ext cx="4824360" cy="288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44101"/>
          <p:cNvPicPr/>
          <p:nvPr/>
        </p:nvPicPr>
        <p:blipFill>
          <a:blip r:embed="rId3"/>
          <a:stretch/>
        </p:blipFill>
        <p:spPr>
          <a:xfrm>
            <a:off x="395280" y="3716280"/>
            <a:ext cx="3241800" cy="2873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2124000" y="3284640"/>
            <a:ext cx="46087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3"/>
          <p:cNvSpPr txBox="1"/>
          <p:nvPr/>
        </p:nvSpPr>
        <p:spPr>
          <a:xfrm>
            <a:off x="1258920" y="62064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Monarchy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5" descr="1184276266"/>
          <p:cNvPicPr/>
          <p:nvPr/>
        </p:nvPicPr>
        <p:blipFill>
          <a:blip r:embed="rId1"/>
          <a:stretch/>
        </p:blipFill>
        <p:spPr>
          <a:xfrm>
            <a:off x="3995640" y="1989000"/>
            <a:ext cx="4969080" cy="367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-298290048"/>
          <p:cNvPicPr/>
          <p:nvPr/>
        </p:nvPicPr>
        <p:blipFill>
          <a:blip r:embed="rId2"/>
          <a:stretch/>
        </p:blipFill>
        <p:spPr>
          <a:xfrm>
            <a:off x="684360" y="1844640"/>
            <a:ext cx="2857320" cy="4000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Garamond"/>
              </a:rPr>
              <a:t>Символы Британской монарх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412036gCt8"/>
          <p:cNvPicPr/>
          <p:nvPr/>
        </p:nvPicPr>
        <p:blipFill>
          <a:blip r:embed="rId1"/>
          <a:stretch/>
        </p:blipFill>
        <p:spPr>
          <a:xfrm>
            <a:off x="1042920" y="2492280"/>
            <a:ext cx="2610000" cy="2533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4120357Khp"/>
          <p:cNvPicPr/>
          <p:nvPr/>
        </p:nvPicPr>
        <p:blipFill>
          <a:blip r:embed="rId2"/>
          <a:stretch/>
        </p:blipFill>
        <p:spPr>
          <a:xfrm>
            <a:off x="5435640" y="1989000"/>
            <a:ext cx="2619360" cy="31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Картинка 4 из 170"/>
          <p:cNvPicPr/>
          <p:nvPr/>
        </p:nvPicPr>
        <p:blipFill>
          <a:blip r:embed="rId1"/>
          <a:stretch/>
        </p:blipFill>
        <p:spPr>
          <a:xfrm>
            <a:off x="2627280" y="260280"/>
            <a:ext cx="3281400" cy="4824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250920" y="5302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Elizabeth II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Elizabeth Alexandra Mary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395280" y="1268280"/>
            <a:ext cx="18194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6443640" y="692280"/>
            <a:ext cx="230508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f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it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ing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2484360" y="5445000"/>
            <a:ext cx="46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эвид Кэмеро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2340000" y="404640"/>
            <a:ext cx="496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ime Minister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7" descr="OborneCam_1895947c"/>
          <p:cNvPicPr/>
          <p:nvPr/>
        </p:nvPicPr>
        <p:blipFill>
          <a:blip r:embed="rId1"/>
          <a:stretch/>
        </p:blipFill>
        <p:spPr>
          <a:xfrm>
            <a:off x="1835280" y="1484280"/>
            <a:ext cx="584172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В Британском парламен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4069"/>
          <p:cNvPicPr/>
          <p:nvPr/>
        </p:nvPicPr>
        <p:blipFill>
          <a:blip r:embed="rId1"/>
          <a:stretch/>
        </p:blipFill>
        <p:spPr>
          <a:xfrm>
            <a:off x="324000" y="1413000"/>
            <a:ext cx="4381200" cy="219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44072"/>
          <p:cNvPicPr/>
          <p:nvPr/>
        </p:nvPicPr>
        <p:blipFill>
          <a:blip r:embed="rId2"/>
          <a:stretch/>
        </p:blipFill>
        <p:spPr>
          <a:xfrm>
            <a:off x="4427640" y="4221000"/>
            <a:ext cx="4381560" cy="2190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entral_lobby"/>
          <p:cNvPicPr/>
          <p:nvPr/>
        </p:nvPicPr>
        <p:blipFill>
          <a:blip r:embed="rId3"/>
          <a:stretch/>
        </p:blipFill>
        <p:spPr>
          <a:xfrm>
            <a:off x="684360" y="4365720"/>
            <a:ext cx="3240000" cy="176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commons_chamber"/>
          <p:cNvPicPr/>
          <p:nvPr/>
        </p:nvPicPr>
        <p:blipFill>
          <a:blip r:embed="rId4"/>
          <a:stretch/>
        </p:blipFill>
        <p:spPr>
          <a:xfrm>
            <a:off x="5148360" y="1628640"/>
            <a:ext cx="3319200" cy="1811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И снова там ж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lords_chamber"/>
          <p:cNvPicPr/>
          <p:nvPr/>
        </p:nvPicPr>
        <p:blipFill>
          <a:blip r:embed="rId1"/>
          <a:stretch/>
        </p:blipFill>
        <p:spPr>
          <a:xfrm>
            <a:off x="395280" y="12682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embers_lobby"/>
          <p:cNvPicPr/>
          <p:nvPr/>
        </p:nvPicPr>
        <p:blipFill>
          <a:blip r:embed="rId2"/>
          <a:stretch/>
        </p:blipFill>
        <p:spPr>
          <a:xfrm>
            <a:off x="4500720" y="4005360"/>
            <a:ext cx="419076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peers_lobby"/>
          <p:cNvPicPr/>
          <p:nvPr/>
        </p:nvPicPr>
        <p:blipFill>
          <a:blip r:embed="rId3"/>
          <a:stretch/>
        </p:blipFill>
        <p:spPr>
          <a:xfrm>
            <a:off x="5003640" y="1413000"/>
            <a:ext cx="3679920" cy="2008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robing_room"/>
          <p:cNvPicPr/>
          <p:nvPr/>
        </p:nvPicPr>
        <p:blipFill>
          <a:blip r:embed="rId4"/>
          <a:stretch/>
        </p:blipFill>
        <p:spPr>
          <a:xfrm>
            <a:off x="755640" y="4221000"/>
            <a:ext cx="3311640" cy="1806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Вот так работает Британский парламент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44004"/>
          <p:cNvPicPr/>
          <p:nvPr/>
        </p:nvPicPr>
        <p:blipFill>
          <a:blip r:embed="rId1"/>
          <a:stretch/>
        </p:blipFill>
        <p:spPr>
          <a:xfrm>
            <a:off x="324000" y="1341360"/>
            <a:ext cx="438120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44048"/>
          <p:cNvPicPr/>
          <p:nvPr/>
        </p:nvPicPr>
        <p:blipFill>
          <a:blip r:embed="rId2"/>
          <a:stretch/>
        </p:blipFill>
        <p:spPr>
          <a:xfrm>
            <a:off x="4427640" y="4221000"/>
            <a:ext cx="4381560" cy="2190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44070"/>
          <p:cNvPicPr/>
          <p:nvPr/>
        </p:nvPicPr>
        <p:blipFill>
          <a:blip r:embed="rId3"/>
          <a:stretch/>
        </p:blipFill>
        <p:spPr>
          <a:xfrm>
            <a:off x="5003640" y="1557360"/>
            <a:ext cx="3559320" cy="177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44073"/>
          <p:cNvPicPr/>
          <p:nvPr/>
        </p:nvPicPr>
        <p:blipFill>
          <a:blip r:embed="rId4"/>
          <a:stretch/>
        </p:blipFill>
        <p:spPr>
          <a:xfrm>
            <a:off x="395280" y="4365720"/>
            <a:ext cx="3529080" cy="1765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И снова за работо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44006"/>
          <p:cNvPicPr/>
          <p:nvPr/>
        </p:nvPicPr>
        <p:blipFill>
          <a:blip r:embed="rId1"/>
          <a:stretch/>
        </p:blipFill>
        <p:spPr>
          <a:xfrm>
            <a:off x="250920" y="1268280"/>
            <a:ext cx="4381560" cy="2190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44008"/>
          <p:cNvPicPr/>
          <p:nvPr/>
        </p:nvPicPr>
        <p:blipFill>
          <a:blip r:embed="rId2"/>
          <a:stretch/>
        </p:blipFill>
        <p:spPr>
          <a:xfrm>
            <a:off x="4284720" y="4149720"/>
            <a:ext cx="4381560" cy="2190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44066"/>
          <p:cNvPicPr/>
          <p:nvPr/>
        </p:nvPicPr>
        <p:blipFill>
          <a:blip r:embed="rId3"/>
          <a:stretch/>
        </p:blipFill>
        <p:spPr>
          <a:xfrm>
            <a:off x="5003640" y="1413000"/>
            <a:ext cx="3673800" cy="183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44078"/>
          <p:cNvPicPr/>
          <p:nvPr/>
        </p:nvPicPr>
        <p:blipFill>
          <a:blip r:embed="rId4"/>
          <a:stretch/>
        </p:blipFill>
        <p:spPr>
          <a:xfrm>
            <a:off x="250920" y="4292640"/>
            <a:ext cx="3671640" cy="183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полните пропуски 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ime Minister is the head of the … in the United Kingd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government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Only members of the House of Commons are called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MPs – members of parlia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5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Margaret Thatcher, «The Iron Lady», was … from 1979 to 199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Prime Minister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… is the symbol of the power. It even has its own guard, who has a very big swor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M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br-f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1116000" y="2852640"/>
            <a:ext cx="691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ritish Parlia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oday the … has real political pow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elected House of Comm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British people vote for MPs at least every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5 year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6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The largest party in the Commons forms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govern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The main political parties are … and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Labour Party; the Conservative Party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онкие вопросы 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official name of the Houses of Parliament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Palace of Westminster is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has more real power: the House of Lords or the House of Commo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House of Commons doe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Who is the person who usually sits on the Woolsac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Lord Chancellor 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What is there inside the woolsac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re is wool in 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How many readings does the bill have to pa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3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dings does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How many members are there in the House does of Comm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65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Who presides over the House of Commo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Speaker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Who is the head of sta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Queen is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Which House represents the people of Brita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House of Commons do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How are the first two rows called in the House of Comm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frontbenches ar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олстые вопрос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Почему британский парламент состоит из двух пала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На ваш взгляд, почему английская королева не может самостоятельно принимать решени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Почему в палате общин только 437 мест, хотя депутатов 650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 вы думаете, почему депутаты британского парламента голосуют «ногами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одумайте, почему британский парламент действует по «неписаной» конституц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Почему Великобританию называют монархией, ведь реальная власть в стране принадлежит парламенту и премьер-министр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ак изменялась политическая система Брит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700280"/>
          <a:ext cx="8229600" cy="4481280"/>
        </p:xfrm>
        <a:graphic>
          <a:graphicData uri="http://schemas.openxmlformats.org/drawingml/2006/table">
            <a:tbl>
              <a:tblPr/>
              <a:tblGrid>
                <a:gridCol w="1485720"/>
                <a:gridCol w="67438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ннское завоевание Англ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Великой Хартии Воль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 сформирован первый парламент (какие слои общества были представлены в первом парламенте?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9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ри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ил себе парламен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9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ивер Кромвель возглавил палату общин, началось противостояние короля и парламен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0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ль и палата лордов утратили свое вли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лева и парламент действуют по конституции (когда была принята конституция Великобритании*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артинка 4 из 5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inquain Poe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inquain Poem focuses on one idea. It has five lines and follows a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1: One word as a title ( Nou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2: Two words describe the title (Adjectiv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3: Three words express action (Verb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4: Four words express a f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5:  One word (another word for the title) (Nou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-360" y="-360"/>
            <a:ext cx="40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1 : Parlia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mocratic,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ule, discuss, ex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’s a wonderfu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39640" y="227664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2 :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ermanent, non-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examine, revise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t is unfair system (or I don’t like this ho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lly  (or use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572000" y="46306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P3 : Com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elected,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discuss, make,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it’s the main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3023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ll  in the crossword puzzl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62864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MPs do with their fe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urname of one of the most famous British Prime Ministers (“the Iron Lady”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e Lord Chancellor sit 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embers of the House of  Commons cal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opens the Parlia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presides over the House of  Comm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2920" y="2133720"/>
            <a:ext cx="4038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ad the name of the river where the Palace of Westminster st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4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3816360" cy="180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homework is to read the text on the page 61-62 and choose new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crossword puzz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Спасибо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66ff"/>
                </a:solidFill>
                <a:latin typeface="Arial"/>
              </a:rPr>
              <a:t>за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внимание!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0_5ed6_4003007c_L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306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parliament0302"/>
          <p:cNvPicPr/>
          <p:nvPr/>
        </p:nvPicPr>
        <p:blipFill>
          <a:blip r:embed="rId2"/>
          <a:stretch/>
        </p:blipFill>
        <p:spPr>
          <a:xfrm>
            <a:off x="3924360" y="3716280"/>
            <a:ext cx="4824360" cy="2884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44101"/>
          <p:cNvPicPr/>
          <p:nvPr/>
        </p:nvPicPr>
        <p:blipFill>
          <a:blip r:embed="rId3"/>
          <a:stretch/>
        </p:blipFill>
        <p:spPr>
          <a:xfrm>
            <a:off x="395280" y="3716280"/>
            <a:ext cx="3241800" cy="287352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2124000" y="3284640"/>
            <a:ext cx="46087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ritish Parliament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5"/>
          <p:cNvSpPr/>
          <p:nvPr/>
        </p:nvSpPr>
        <p:spPr>
          <a:xfrm>
            <a:off x="3492360" y="2997360"/>
            <a:ext cx="208944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1258920" y="4076640"/>
            <a:ext cx="252108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the House of L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5292720" y="4076640"/>
            <a:ext cx="2089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the Hou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Com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2195640" y="765000"/>
            <a:ext cx="1655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gna C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6732720" y="2565360"/>
            <a:ext cx="158436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Chancel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4932360" y="1341360"/>
            <a:ext cx="223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Conservative p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3995640" y="5516640"/>
            <a:ext cx="1152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o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1763640" y="2637000"/>
            <a:ext cx="151308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2124000" y="5445000"/>
            <a:ext cx="136836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5219640" y="5229360"/>
            <a:ext cx="12970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ools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611280" y="1557360"/>
            <a:ext cx="1512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7343640" y="3429000"/>
            <a:ext cx="180036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he Lab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7451640" y="1557360"/>
            <a:ext cx="1440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he Qu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4067280" y="260280"/>
            <a:ext cx="187308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in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 flipH="1">
            <a:off x="3419640" y="378936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 flipH="1">
            <a:off x="3348000" y="3860640"/>
            <a:ext cx="936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2"/>
          <p:cNvSpPr/>
          <p:nvPr/>
        </p:nvSpPr>
        <p:spPr>
          <a:xfrm flipH="1">
            <a:off x="4500720" y="3860640"/>
            <a:ext cx="7128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>
            <a:off x="5148360" y="378936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4"/>
          <p:cNvSpPr/>
          <p:nvPr/>
        </p:nvSpPr>
        <p:spPr>
          <a:xfrm flipH="1" flipV="1">
            <a:off x="3203280" y="29970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>
            <a:off x="2124000" y="1989000"/>
            <a:ext cx="1871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>
            <a:off x="3635280" y="1773360"/>
            <a:ext cx="649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 flipH="1">
            <a:off x="4643280" y="1197000"/>
            <a:ext cx="144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8"/>
          <p:cNvSpPr/>
          <p:nvPr/>
        </p:nvSpPr>
        <p:spPr>
          <a:xfrm flipH="1">
            <a:off x="5076720" y="2276640"/>
            <a:ext cx="43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9"/>
          <p:cNvSpPr/>
          <p:nvPr/>
        </p:nvSpPr>
        <p:spPr>
          <a:xfrm>
            <a:off x="5580000" y="3429000"/>
            <a:ext cx="180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0"/>
          <p:cNvSpPr/>
          <p:nvPr/>
        </p:nvSpPr>
        <p:spPr>
          <a:xfrm flipV="1">
            <a:off x="5435640" y="2924280"/>
            <a:ext cx="1297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4859280" y="3860640"/>
            <a:ext cx="57636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3"/>
          <p:cNvSpPr/>
          <p:nvPr/>
        </p:nvSpPr>
        <p:spPr>
          <a:xfrm flipV="1">
            <a:off x="5148360" y="2204640"/>
            <a:ext cx="2376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еликая хартия вольност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l70959-1"/>
          <p:cNvPicPr/>
          <p:nvPr/>
        </p:nvPicPr>
        <p:blipFill>
          <a:blip r:embed="rId1"/>
          <a:stretch/>
        </p:blipFill>
        <p:spPr>
          <a:xfrm>
            <a:off x="1692360" y="1133640"/>
            <a:ext cx="57243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Magna Carta was an agreement between the King and his barons. It limited the K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’s po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Картинка 3 из 94"/>
          <p:cNvPicPr/>
          <p:nvPr/>
        </p:nvPicPr>
        <p:blipFill>
          <a:blip r:embed="rId1"/>
          <a:stretch/>
        </p:blipFill>
        <p:spPr>
          <a:xfrm>
            <a:off x="900000" y="1484280"/>
            <a:ext cx="7417080" cy="464832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1116000" y="549360"/>
            <a:ext cx="684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use of Commo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Картинка 12 из 111"/>
          <p:cNvPicPr/>
          <p:nvPr/>
        </p:nvPicPr>
        <p:blipFill>
          <a:blip r:embed="rId1"/>
          <a:stretch/>
        </p:blipFill>
        <p:spPr>
          <a:xfrm>
            <a:off x="1403280" y="1484280"/>
            <a:ext cx="5977080" cy="5111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3"/>
          <p:cNvSpPr txBox="1"/>
          <p:nvPr/>
        </p:nvSpPr>
        <p:spPr>
          <a:xfrm>
            <a:off x="1403280" y="404640"/>
            <a:ext cx="60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use of Lord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4:08:46Z</dcterms:created>
  <dc:creator>Влад</dc:creator>
  <dc:description/>
  <dc:language>en-US</dc:language>
  <cp:lastModifiedBy>НЕ</cp:lastModifiedBy>
  <dcterms:modified xsi:type="dcterms:W3CDTF">2015-04-24T14:46:56Z</dcterms:modified>
  <cp:revision>40</cp:revision>
  <dc:subject/>
  <dc:title>Слайд 1</dc:title>
</cp:coreProperties>
</file>