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51D2-46A6-49C2-8ABF-C8E747EAAD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1172-8322-43E0-B36A-3466F1C2F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7C40-699F-4020-B0F9-60E7BC9A95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8B5-4EBC-46B7-A43D-6588884D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C5E-3CD8-441C-A05F-7728E2F7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192-1A25-4678-B031-169FC783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93A-6D62-4E6A-ACCE-340C9CA9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F24-B9D5-49E7-A6B1-34E3035B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8F9-92B1-454F-BA73-EA3A5AB0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A8A-F12D-4246-908A-FE1B358A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C98-858B-4F12-A2D4-599129CC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E76-9B8C-4FBF-B459-98286A3B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D1B-7BDF-48DD-9C28-33706325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68C-4792-4DFF-A746-6D39CE19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AC05-54A8-4668-8949-B8936ACC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2C4E-6B57-4C2D-B679-E0429546C4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_5ed6_4003007c_L"/>
          <p:cNvPicPr/>
          <p:nvPr/>
        </p:nvPicPr>
        <p:blipFill>
          <a:blip r:embed="rId1"/>
          <a:stretch/>
        </p:blipFill>
        <p:spPr>
          <a:xfrm>
            <a:off x="179280" y="189000"/>
            <a:ext cx="8675640" cy="306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parliament0302"/>
          <p:cNvPicPr/>
          <p:nvPr/>
        </p:nvPicPr>
        <p:blipFill>
          <a:blip r:embed="rId2"/>
          <a:stretch/>
        </p:blipFill>
        <p:spPr>
          <a:xfrm>
            <a:off x="3924360" y="3716280"/>
            <a:ext cx="4824360" cy="2884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44101"/>
          <p:cNvPicPr/>
          <p:nvPr/>
        </p:nvPicPr>
        <p:blipFill>
          <a:blip r:embed="rId3"/>
          <a:stretch/>
        </p:blipFill>
        <p:spPr>
          <a:xfrm>
            <a:off x="395280" y="3716280"/>
            <a:ext cx="3241800" cy="287352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2124000" y="3284640"/>
            <a:ext cx="46087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3"/>
          <p:cNvSpPr txBox="1"/>
          <p:nvPr/>
        </p:nvSpPr>
        <p:spPr>
          <a:xfrm>
            <a:off x="1258920" y="62064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Monarchy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5" descr="1184276266"/>
          <p:cNvPicPr/>
          <p:nvPr/>
        </p:nvPicPr>
        <p:blipFill>
          <a:blip r:embed="rId1"/>
          <a:stretch/>
        </p:blipFill>
        <p:spPr>
          <a:xfrm>
            <a:off x="3995640" y="1989000"/>
            <a:ext cx="4969080" cy="367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-298290048"/>
          <p:cNvPicPr/>
          <p:nvPr/>
        </p:nvPicPr>
        <p:blipFill>
          <a:blip r:embed="rId2"/>
          <a:stretch/>
        </p:blipFill>
        <p:spPr>
          <a:xfrm>
            <a:off x="684360" y="1844640"/>
            <a:ext cx="2857320" cy="4000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Garamond"/>
              </a:rPr>
              <a:t>Символы Британской монарх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412036gCt8"/>
          <p:cNvPicPr/>
          <p:nvPr/>
        </p:nvPicPr>
        <p:blipFill>
          <a:blip r:embed="rId1"/>
          <a:stretch/>
        </p:blipFill>
        <p:spPr>
          <a:xfrm>
            <a:off x="1042920" y="2492280"/>
            <a:ext cx="2610000" cy="2533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4120357Khp"/>
          <p:cNvPicPr/>
          <p:nvPr/>
        </p:nvPicPr>
        <p:blipFill>
          <a:blip r:embed="rId2"/>
          <a:stretch/>
        </p:blipFill>
        <p:spPr>
          <a:xfrm>
            <a:off x="5435640" y="1989000"/>
            <a:ext cx="2619360" cy="311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Картинка 4 из 170"/>
          <p:cNvPicPr/>
          <p:nvPr/>
        </p:nvPicPr>
        <p:blipFill>
          <a:blip r:embed="rId1"/>
          <a:stretch/>
        </p:blipFill>
        <p:spPr>
          <a:xfrm>
            <a:off x="2627280" y="260280"/>
            <a:ext cx="3281400" cy="4824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250920" y="5302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Elizabeth II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Elizabeth Alexandra Mary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395280" y="1268280"/>
            <a:ext cx="181944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e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6443640" y="692280"/>
            <a:ext cx="2305080" cy="38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f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nit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Kingd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2484360" y="5445000"/>
            <a:ext cx="46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эвид Кэмеро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2340000" y="404640"/>
            <a:ext cx="4967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ime Minister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Picture 7" descr="OborneCam_1895947c"/>
          <p:cNvPicPr/>
          <p:nvPr/>
        </p:nvPicPr>
        <p:blipFill>
          <a:blip r:embed="rId1"/>
          <a:stretch/>
        </p:blipFill>
        <p:spPr>
          <a:xfrm>
            <a:off x="1835280" y="1484280"/>
            <a:ext cx="5841720" cy="3657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Garamond"/>
              </a:rPr>
              <a:t>В Британском парламен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44069"/>
          <p:cNvPicPr/>
          <p:nvPr/>
        </p:nvPicPr>
        <p:blipFill>
          <a:blip r:embed="rId1"/>
          <a:stretch/>
        </p:blipFill>
        <p:spPr>
          <a:xfrm>
            <a:off x="324000" y="1413000"/>
            <a:ext cx="4381200" cy="219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44072"/>
          <p:cNvPicPr/>
          <p:nvPr/>
        </p:nvPicPr>
        <p:blipFill>
          <a:blip r:embed="rId2"/>
          <a:stretch/>
        </p:blipFill>
        <p:spPr>
          <a:xfrm>
            <a:off x="4427640" y="4221000"/>
            <a:ext cx="4381560" cy="2190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central_lobby"/>
          <p:cNvPicPr/>
          <p:nvPr/>
        </p:nvPicPr>
        <p:blipFill>
          <a:blip r:embed="rId3"/>
          <a:stretch/>
        </p:blipFill>
        <p:spPr>
          <a:xfrm>
            <a:off x="684360" y="4365720"/>
            <a:ext cx="3240000" cy="1766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commons_chamber"/>
          <p:cNvPicPr/>
          <p:nvPr/>
        </p:nvPicPr>
        <p:blipFill>
          <a:blip r:embed="rId4"/>
          <a:stretch/>
        </p:blipFill>
        <p:spPr>
          <a:xfrm>
            <a:off x="5148360" y="1628640"/>
            <a:ext cx="3319200" cy="1811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Garamond"/>
              </a:rPr>
              <a:t>И снова там ж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lords_chamber"/>
          <p:cNvPicPr/>
          <p:nvPr/>
        </p:nvPicPr>
        <p:blipFill>
          <a:blip r:embed="rId1"/>
          <a:stretch/>
        </p:blipFill>
        <p:spPr>
          <a:xfrm>
            <a:off x="395280" y="12682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embers_lobby"/>
          <p:cNvPicPr/>
          <p:nvPr/>
        </p:nvPicPr>
        <p:blipFill>
          <a:blip r:embed="rId2"/>
          <a:stretch/>
        </p:blipFill>
        <p:spPr>
          <a:xfrm>
            <a:off x="4500720" y="4005360"/>
            <a:ext cx="419076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peers_lobby"/>
          <p:cNvPicPr/>
          <p:nvPr/>
        </p:nvPicPr>
        <p:blipFill>
          <a:blip r:embed="rId3"/>
          <a:stretch/>
        </p:blipFill>
        <p:spPr>
          <a:xfrm>
            <a:off x="5003640" y="1413000"/>
            <a:ext cx="3679920" cy="2008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robing_room"/>
          <p:cNvPicPr/>
          <p:nvPr/>
        </p:nvPicPr>
        <p:blipFill>
          <a:blip r:embed="rId4"/>
          <a:stretch/>
        </p:blipFill>
        <p:spPr>
          <a:xfrm>
            <a:off x="755640" y="4221000"/>
            <a:ext cx="3311640" cy="1806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Garamond"/>
              </a:rPr>
              <a:t>Вот так работает Британский парламент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44004"/>
          <p:cNvPicPr/>
          <p:nvPr/>
        </p:nvPicPr>
        <p:blipFill>
          <a:blip r:embed="rId1"/>
          <a:stretch/>
        </p:blipFill>
        <p:spPr>
          <a:xfrm>
            <a:off x="324000" y="1341360"/>
            <a:ext cx="4381200" cy="219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44048"/>
          <p:cNvPicPr/>
          <p:nvPr/>
        </p:nvPicPr>
        <p:blipFill>
          <a:blip r:embed="rId2"/>
          <a:stretch/>
        </p:blipFill>
        <p:spPr>
          <a:xfrm>
            <a:off x="4427640" y="4221000"/>
            <a:ext cx="4381560" cy="2190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44070"/>
          <p:cNvPicPr/>
          <p:nvPr/>
        </p:nvPicPr>
        <p:blipFill>
          <a:blip r:embed="rId3"/>
          <a:stretch/>
        </p:blipFill>
        <p:spPr>
          <a:xfrm>
            <a:off x="5003640" y="1557360"/>
            <a:ext cx="3559320" cy="177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44073"/>
          <p:cNvPicPr/>
          <p:nvPr/>
        </p:nvPicPr>
        <p:blipFill>
          <a:blip r:embed="rId4"/>
          <a:stretch/>
        </p:blipFill>
        <p:spPr>
          <a:xfrm>
            <a:off x="395280" y="4365720"/>
            <a:ext cx="3529080" cy="1765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Garamond"/>
              </a:rPr>
              <a:t>И снова за работо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44006"/>
          <p:cNvPicPr/>
          <p:nvPr/>
        </p:nvPicPr>
        <p:blipFill>
          <a:blip r:embed="rId1"/>
          <a:stretch/>
        </p:blipFill>
        <p:spPr>
          <a:xfrm>
            <a:off x="250920" y="1268280"/>
            <a:ext cx="4381560" cy="2190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44008"/>
          <p:cNvPicPr/>
          <p:nvPr/>
        </p:nvPicPr>
        <p:blipFill>
          <a:blip r:embed="rId2"/>
          <a:stretch/>
        </p:blipFill>
        <p:spPr>
          <a:xfrm>
            <a:off x="4284720" y="4149720"/>
            <a:ext cx="4381560" cy="2190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44066"/>
          <p:cNvPicPr/>
          <p:nvPr/>
        </p:nvPicPr>
        <p:blipFill>
          <a:blip r:embed="rId3"/>
          <a:stretch/>
        </p:blipFill>
        <p:spPr>
          <a:xfrm>
            <a:off x="5003640" y="1413000"/>
            <a:ext cx="3673800" cy="1836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44078"/>
          <p:cNvPicPr/>
          <p:nvPr/>
        </p:nvPicPr>
        <p:blipFill>
          <a:blip r:embed="rId4"/>
          <a:stretch/>
        </p:blipFill>
        <p:spPr>
          <a:xfrm>
            <a:off x="250920" y="4292640"/>
            <a:ext cx="3671640" cy="183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полните пропуски …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ime Minister is the head of the … in the United Kingd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government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Only members of the House of Commons are called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MPs – members of parlia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5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Margaret Thatcher, «The Iron Lady», was … from 1979 to 199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Prime Minister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… is the symbol of the power. It even has its own guard, who has a very big swor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the M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br-f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1116000" y="2852640"/>
            <a:ext cx="691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ritish Parlia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Today the … has real political pow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elected House of Comm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British people vote for MPs at least every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5 year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6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The largest party in the Commons forms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the govern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The main political parties are … and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the Labour Party; the Conservative Party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2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онкие вопросы …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official name of the Houses of Parliament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Palace of Westminster is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has more real power: the House of Lords or the House of Commo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the House of Commons doe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Who is the person who usually sits on the Woolsac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the Lord Chancellor 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What is there inside the woolsac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There is wool in i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How many readings does the bill have to pa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3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dings does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How many members are there in the House does of Comm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65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Who presides over the House of Commo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Speaker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Who is the head of sta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Queen is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Which House represents the people of Britai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The House of Commons do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How are the first two rows called in the House of Comm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frontbenches ar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олстые вопрос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Почему британский парламент состоит из двух пала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На ваш взгляд, почему английская королева не может самостоятельно принимать решения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Почему в палате общин только 437 мест, хотя депутатов 650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ак вы думаете, почему депутаты британского парламента голосуют «ногами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одумайте, почему британский парламент действует по «неписаной» конституц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Почему Великобританию называют монархией, ведь реальная власть в стране принадлежит парламенту и премьер-министр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ак изменялась политическая система Брит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700280"/>
          <a:ext cx="8229600" cy="4481280"/>
        </p:xfrm>
        <a:graphic>
          <a:graphicData uri="http://schemas.openxmlformats.org/drawingml/2006/table">
            <a:tbl>
              <a:tblPr/>
              <a:tblGrid>
                <a:gridCol w="1485720"/>
                <a:gridCol w="674388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ннское завоевание Англ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Великой Хартии Воль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 сформирован первый парламент (какие слои общества были представлены в первом парламенте?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9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ри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ил себе парламен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9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ивер Кромвель возглавил палату общин, началось противостояние короля и парламен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0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8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ль и палата лордов утратили свое влия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лева и парламент действуют по конституции (когда была принята конституция Великобритании*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Картинка 4 из 5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inquain Poe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inquain Poem focuses on one idea. It has five lines and follows a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1: One word as a title ( Nou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2: Two words describe the title (Adjectiv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3: Three words express action (Verb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4: Four words express a fel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5:  One word (another word for the title) (Nou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-360" y="-360"/>
            <a:ext cx="40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1 : Parlia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mocratic, st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ule, discuss, ex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’s a wonderfu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39640" y="2276640"/>
            <a:ext cx="777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2 : L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ermanent, non-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examine, revise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t is unfair system (or I don’t like this ho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lly  (or use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572000" y="46306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P3 : Com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elected,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discuss, make,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it’s the main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g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3023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ll  in the crossword puzzl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62864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MPs do with their fe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surname of one of the most famous British Prime Ministers (“the Iron Lady”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the Lord Chancellor sit 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embers of the House of  Commons call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opens the Parlia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presides over the House of  Comm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2920" y="2133720"/>
            <a:ext cx="4038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ad the name of the river where the Palace of Westminster st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4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3816360" cy="1800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homework is to read the text on the page 61-62 and choose new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crossword puzz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Спасибо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66ff"/>
                </a:solidFill>
                <a:latin typeface="Arial"/>
              </a:rPr>
              <a:t>за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6600"/>
                </a:solidFill>
                <a:latin typeface="Arial"/>
              </a:rPr>
              <a:t>внимание!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0_5ed6_4003007c_L"/>
          <p:cNvPicPr/>
          <p:nvPr/>
        </p:nvPicPr>
        <p:blipFill>
          <a:blip r:embed="rId1"/>
          <a:stretch/>
        </p:blipFill>
        <p:spPr>
          <a:xfrm>
            <a:off x="179280" y="189000"/>
            <a:ext cx="8675640" cy="306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parliament0302"/>
          <p:cNvPicPr/>
          <p:nvPr/>
        </p:nvPicPr>
        <p:blipFill>
          <a:blip r:embed="rId2"/>
          <a:stretch/>
        </p:blipFill>
        <p:spPr>
          <a:xfrm>
            <a:off x="3924360" y="3716280"/>
            <a:ext cx="4824360" cy="2884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44101"/>
          <p:cNvPicPr/>
          <p:nvPr/>
        </p:nvPicPr>
        <p:blipFill>
          <a:blip r:embed="rId3"/>
          <a:stretch/>
        </p:blipFill>
        <p:spPr>
          <a:xfrm>
            <a:off x="395280" y="3716280"/>
            <a:ext cx="3241800" cy="287352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2124000" y="3284640"/>
            <a:ext cx="46087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ritish Parliament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5"/>
          <p:cNvSpPr/>
          <p:nvPr/>
        </p:nvSpPr>
        <p:spPr>
          <a:xfrm>
            <a:off x="3492360" y="2997360"/>
            <a:ext cx="208944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1258920" y="4076640"/>
            <a:ext cx="252108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the House of L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5292720" y="4076640"/>
            <a:ext cx="2089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the Hou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Com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2195640" y="765000"/>
            <a:ext cx="165564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gna C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6732720" y="2565360"/>
            <a:ext cx="158436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Chancel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4932360" y="1341360"/>
            <a:ext cx="223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Conservative p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3995640" y="5516640"/>
            <a:ext cx="1152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o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2"/>
          <p:cNvSpPr/>
          <p:nvPr/>
        </p:nvSpPr>
        <p:spPr>
          <a:xfrm>
            <a:off x="1763640" y="2637000"/>
            <a:ext cx="151308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2124000" y="5445000"/>
            <a:ext cx="136836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5219640" y="5229360"/>
            <a:ext cx="12970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ools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5"/>
          <p:cNvSpPr/>
          <p:nvPr/>
        </p:nvSpPr>
        <p:spPr>
          <a:xfrm>
            <a:off x="611280" y="1557360"/>
            <a:ext cx="15127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7343640" y="3429000"/>
            <a:ext cx="180036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he Lab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7"/>
          <p:cNvSpPr/>
          <p:nvPr/>
        </p:nvSpPr>
        <p:spPr>
          <a:xfrm>
            <a:off x="7451640" y="1557360"/>
            <a:ext cx="1440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he Qu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8"/>
          <p:cNvSpPr/>
          <p:nvPr/>
        </p:nvSpPr>
        <p:spPr>
          <a:xfrm>
            <a:off x="4067280" y="260280"/>
            <a:ext cx="187308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Min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0"/>
          <p:cNvSpPr/>
          <p:nvPr/>
        </p:nvSpPr>
        <p:spPr>
          <a:xfrm flipH="1">
            <a:off x="3419640" y="3789360"/>
            <a:ext cx="504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1"/>
          <p:cNvSpPr/>
          <p:nvPr/>
        </p:nvSpPr>
        <p:spPr>
          <a:xfrm flipH="1">
            <a:off x="3348000" y="3860640"/>
            <a:ext cx="936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2"/>
          <p:cNvSpPr/>
          <p:nvPr/>
        </p:nvSpPr>
        <p:spPr>
          <a:xfrm flipH="1">
            <a:off x="4500720" y="3860640"/>
            <a:ext cx="7128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3"/>
          <p:cNvSpPr/>
          <p:nvPr/>
        </p:nvSpPr>
        <p:spPr>
          <a:xfrm>
            <a:off x="5148360" y="378936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4"/>
          <p:cNvSpPr/>
          <p:nvPr/>
        </p:nvSpPr>
        <p:spPr>
          <a:xfrm flipH="1" flipV="1">
            <a:off x="3203280" y="299700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5"/>
          <p:cNvSpPr/>
          <p:nvPr/>
        </p:nvSpPr>
        <p:spPr>
          <a:xfrm>
            <a:off x="2124000" y="1989000"/>
            <a:ext cx="187164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"/>
          <p:cNvSpPr/>
          <p:nvPr/>
        </p:nvSpPr>
        <p:spPr>
          <a:xfrm>
            <a:off x="3635280" y="1773360"/>
            <a:ext cx="6494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7"/>
          <p:cNvSpPr/>
          <p:nvPr/>
        </p:nvSpPr>
        <p:spPr>
          <a:xfrm flipH="1">
            <a:off x="4643280" y="1197000"/>
            <a:ext cx="144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8"/>
          <p:cNvSpPr/>
          <p:nvPr/>
        </p:nvSpPr>
        <p:spPr>
          <a:xfrm flipH="1">
            <a:off x="5076720" y="2276640"/>
            <a:ext cx="43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9"/>
          <p:cNvSpPr/>
          <p:nvPr/>
        </p:nvSpPr>
        <p:spPr>
          <a:xfrm>
            <a:off x="5580000" y="3429000"/>
            <a:ext cx="180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0"/>
          <p:cNvSpPr/>
          <p:nvPr/>
        </p:nvSpPr>
        <p:spPr>
          <a:xfrm flipV="1">
            <a:off x="5435640" y="2924280"/>
            <a:ext cx="12970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>
            <a:off x="4859280" y="3860640"/>
            <a:ext cx="57636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3"/>
          <p:cNvSpPr/>
          <p:nvPr/>
        </p:nvSpPr>
        <p:spPr>
          <a:xfrm flipV="1">
            <a:off x="5148360" y="2204640"/>
            <a:ext cx="2376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еликая хартия вольност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l70959-1"/>
          <p:cNvPicPr/>
          <p:nvPr/>
        </p:nvPicPr>
        <p:blipFill>
          <a:blip r:embed="rId1"/>
          <a:stretch/>
        </p:blipFill>
        <p:spPr>
          <a:xfrm>
            <a:off x="1692360" y="1133640"/>
            <a:ext cx="57243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Magna Carta was an agreement between the King and his barons. It limited the K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’s po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Картинка 3 из 94"/>
          <p:cNvPicPr/>
          <p:nvPr/>
        </p:nvPicPr>
        <p:blipFill>
          <a:blip r:embed="rId1"/>
          <a:stretch/>
        </p:blipFill>
        <p:spPr>
          <a:xfrm>
            <a:off x="900000" y="1484280"/>
            <a:ext cx="7417080" cy="4648320"/>
          </a:xfrm>
          <a:prstGeom prst="rect">
            <a:avLst/>
          </a:prstGeom>
          <a:ln w="0">
            <a:noFill/>
          </a:ln>
        </p:spPr>
      </p:pic>
      <p:sp>
        <p:nvSpPr>
          <p:cNvPr id="94" name="WordArt 4"/>
          <p:cNvSpPr txBox="1"/>
          <p:nvPr/>
        </p:nvSpPr>
        <p:spPr>
          <a:xfrm>
            <a:off x="1116000" y="549360"/>
            <a:ext cx="684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use of Common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Картинка 12 из 111"/>
          <p:cNvPicPr/>
          <p:nvPr/>
        </p:nvPicPr>
        <p:blipFill>
          <a:blip r:embed="rId1"/>
          <a:stretch/>
        </p:blipFill>
        <p:spPr>
          <a:xfrm>
            <a:off x="1403280" y="1484280"/>
            <a:ext cx="5977080" cy="5111640"/>
          </a:xfrm>
          <a:prstGeom prst="rect">
            <a:avLst/>
          </a:prstGeom>
          <a:ln w="0">
            <a:noFill/>
          </a:ln>
        </p:spPr>
      </p:pic>
      <p:sp>
        <p:nvSpPr>
          <p:cNvPr id="96" name="WordArt 3"/>
          <p:cNvSpPr txBox="1"/>
          <p:nvPr/>
        </p:nvSpPr>
        <p:spPr>
          <a:xfrm>
            <a:off x="1403280" y="404640"/>
            <a:ext cx="604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use of Lord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4:08:46Z</dcterms:created>
  <dc:creator>Влад</dc:creator>
  <dc:description/>
  <dc:language>en-US</dc:language>
  <cp:lastModifiedBy>НЕ</cp:lastModifiedBy>
  <dcterms:modified xsi:type="dcterms:W3CDTF">2015-04-24T14:46:56Z</dcterms:modified>
  <cp:revision>40</cp:revision>
  <dc:subject/>
  <dc:title>Слайд 1</dc:title>
</cp:coreProperties>
</file>