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BFF-7CE9-4407-9EDC-57B133B6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510-E3C1-4A00-9A42-4B8CB0C8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AE3-10B8-41CF-96E3-98175069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A19-3320-4CE4-8359-65BB07F8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8234-37F5-4540-9DCD-E681D3A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B779-3F78-4BAE-A2EC-1C6BAC3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1C92-557C-4DA4-B82E-2613518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4DD-4CA5-4620-8371-304626F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1C8-E770-47A7-9930-75BE8C88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48BC-D1CA-4E7E-A254-ABD03357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A36C-9623-4DC7-BE92-BB92552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A0D-964D-4205-AE16-B82DF13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231-973B-4FEF-9831-E2AE54B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EA2-240E-42CD-AB39-146FB43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98B-24EF-4CC0-AD0A-68577C4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FE6F-FD8C-4789-9321-0E49752A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FE1A-0077-41D1-8AA0-1FB2C3AF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E10-837E-4D09-A614-5406D6BA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14D-7C2F-4D02-AA22-62900C3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7CC-1606-499D-AFCB-9774FD0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0BD-7240-4C2E-BDA7-F02FF90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32B-72BC-44E9-AAB6-BD7D33B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81A-E450-4BB2-8946-ED6C409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6D2-B69C-40A3-8DD1-19D52615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41C-CBBD-433B-98D2-61339A41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75A-6C83-4790-89F7-5420CA373E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Arial"/>
              </a:rPr>
              <a:t>Познавательный урок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ОЛИМПИЙСКИЕ ИГР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1896 – 2010 г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1116000" y="2492280"/>
            <a:ext cx="2087640" cy="1944720"/>
          </a:xfrm>
          <a:prstGeom prst="ellipse">
            <a:avLst/>
          </a:prstGeom>
          <a:solidFill>
            <a:srgbClr val="0066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3564000" y="249228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012000" y="2492280"/>
            <a:ext cx="208728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4788000" y="378936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2268360" y="378936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Россия олимпийска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оссийский олимпийский комитет был создан лишь в 1911 год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вый олимпийский чемпион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иколай Панин-Коломенки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4" descr="ол4"/>
          <p:cNvPicPr/>
          <p:nvPr/>
        </p:nvPicPr>
        <p:blipFill>
          <a:blip r:embed="rId1"/>
          <a:stretch/>
        </p:blipFill>
        <p:spPr>
          <a:xfrm>
            <a:off x="2484360" y="1484280"/>
            <a:ext cx="4319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VII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гры - 1920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первые был поднят олимпийский флаг, прозвучал девиз олимпийцев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i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l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or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», то есть «БЫСТРЕЕ, ВЫШЕ, СИЛЬНЕЕ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200" y="291600"/>
            <a:ext cx="8077320" cy="62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«Особые» чемпио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ааво Нурм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финский бегун выступал на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IX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лимпийских играх и завоевал 9 золотых медал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жесси Оуэн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США) - четырёхкратный олимпийский чемпион (установил рекорд в прыжках в длину который продержался 20 ле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жон Вайсмюллер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США) -  пятикратный олимпийский чемпион в плав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анни Бланкерс-Ку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Нидерланды) –четырёхкратный олимпийский чемпион лёгкая атлет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асло Папп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Венгрия) – трёхкратный олимпийский чемпион по бокс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XV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гры - 1952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Играх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V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ады состоялся дебют советских спортсмен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первые ОЧ в истории спорта СССР стала метательница дис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на Пономарёв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(Ромашков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тех пор олимпий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ССР в течении поч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0 лет входил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число лидер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лимпийском спор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4" descr="ол5"/>
          <p:cNvPicPr/>
          <p:nvPr/>
        </p:nvPicPr>
        <p:blipFill>
          <a:blip r:embed="rId1"/>
          <a:stretch/>
        </p:blipFill>
        <p:spPr>
          <a:xfrm>
            <a:off x="4643280" y="2060640"/>
            <a:ext cx="3961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ельбурн – 1956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кордсменкой Игр по числу завоёванных золотых наград стала гимнаст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ариса Латынина –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ладательниц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восемнадцат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олимпийски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награ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ол6"/>
          <p:cNvPicPr/>
          <p:nvPr/>
        </p:nvPicPr>
        <p:blipFill>
          <a:blip r:embed="rId1"/>
          <a:stretch/>
        </p:blipFill>
        <p:spPr>
          <a:xfrm>
            <a:off x="4643280" y="1628640"/>
            <a:ext cx="3672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осква – 1980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лавный центр Игр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XX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лимпиады был, в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Москв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няло участие 5283 участника из 80 стр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ыграно 203 комплекта наград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ервое место стала наша команда: 80 золотых, 69 серебряных, 46 бронзовых медал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реди спортсменов по числу медалей стал наш гимнаст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лександр Дитяти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выигравший 3 золотые, 4 серебряные и 1 бронзовую наград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лимпийские игры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988, 1992, 1994,1998, 2002, 2006 год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лександр Карели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трёхкратный олимпийский чемпион (греко-римская борьб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ладимир Артем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спортивная гимнас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ол8"/>
          <p:cNvPicPr/>
          <p:nvPr/>
        </p:nvPicPr>
        <p:blipFill>
          <a:blip r:embed="rId1"/>
          <a:srcRect l="0" t="2536" r="3944" b="2536"/>
          <a:stretch/>
        </p:blipFill>
        <p:spPr>
          <a:xfrm>
            <a:off x="1979640" y="2133720"/>
            <a:ext cx="5256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Евгений Садовый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трёхкратный олимпийский чемпион (пла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лександр Поп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пла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танислав Поздняк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-четырёхкратный олимпийский чемпион(фехто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ол9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лексей Нем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- четырёхкратный олимпийский чемпион(спортивная гимнас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ветлана Мастерк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двукратная олимпийская чемпионка (лёгкая атле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ол10"/>
          <p:cNvPicPr/>
          <p:nvPr/>
        </p:nvPicPr>
        <p:blipFill>
          <a:blip r:embed="rId1"/>
          <a:srcRect l="2856" t="0" r="0" b="0"/>
          <a:stretch/>
        </p:blipFill>
        <p:spPr>
          <a:xfrm>
            <a:off x="1042920" y="1700280"/>
            <a:ext cx="7345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ндрей Лавров 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рёхкратный Олимпийский чемпион (гандбол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ол12"/>
          <p:cNvPicPr/>
          <p:nvPr/>
        </p:nvPicPr>
        <p:blipFill>
          <a:blip r:embed="rId1"/>
          <a:stretch/>
        </p:blipFill>
        <p:spPr>
          <a:xfrm>
            <a:off x="2050920" y="836640"/>
            <a:ext cx="49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О спорт! Ты – вызов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требуешь борь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ся сила наших мускул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осредоточена  в одном, на взры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охожем, слове – спор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– трубаду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вой пламенный, волнующий призы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Находит отклик в наших сердц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спрашиваешь у вышедших на старт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Зачем же сила, ловкость и провор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если не мечтать о победном финиш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утверждаешь – надо мечт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Надо сметь. Надо дерз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убеждаешь, требуешь, приказываеш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зовёшь людей помериться сил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реодолеть себя.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ьер де Куберте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ветлана Хорки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олимпийская чемпионка по гимнастик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ячеслав Еким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двукратный Олимпийский чемпион по велоспорт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ол14"/>
          <p:cNvPicPr/>
          <p:nvPr/>
        </p:nvPicPr>
        <p:blipFill>
          <a:blip r:embed="rId1"/>
          <a:srcRect l="0" t="4716" r="0" b="3103"/>
          <a:stretch/>
        </p:blipFill>
        <p:spPr>
          <a:xfrm>
            <a:off x="684360" y="2133720"/>
            <a:ext cx="78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Евгений Кафельников -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лимпийский чемпион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 теннис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льга Брусникина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ария Киселёва –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вукратные олимпий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емпионы (синхронное плава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ол13"/>
          <p:cNvPicPr/>
          <p:nvPr/>
        </p:nvPicPr>
        <p:blipFill>
          <a:blip r:embed="rId1"/>
          <a:srcRect l="4410" t="0" r="6662" b="3477"/>
          <a:stretch/>
        </p:blipFill>
        <p:spPr>
          <a:xfrm>
            <a:off x="5435640" y="0"/>
            <a:ext cx="2881440" cy="400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ол11"/>
          <p:cNvPicPr/>
          <p:nvPr/>
        </p:nvPicPr>
        <p:blipFill>
          <a:blip r:embed="rId2"/>
          <a:srcRect l="0" t="4261" r="0" b="0"/>
          <a:stretch/>
        </p:blipFill>
        <p:spPr>
          <a:xfrm>
            <a:off x="179280" y="3429000"/>
            <a:ext cx="597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имние игры 1956 – 2006 год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юбовь Баранова (Козырева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завоевавшая первую в истории олимпийское золото советского спорта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4" descr="ол15"/>
          <p:cNvPicPr/>
          <p:nvPr/>
        </p:nvPicPr>
        <p:blipFill>
          <a:blip r:embed="rId1"/>
          <a:stretch/>
        </p:blipFill>
        <p:spPr>
          <a:xfrm>
            <a:off x="4643280" y="1341360"/>
            <a:ext cx="3888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иса Сметанин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завоевавшая на 4-х олимпийских играх 3-золотые, 5 серебряных и 1 бронзовую медали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4" descr="ол17"/>
          <p:cNvPicPr/>
          <p:nvPr/>
        </p:nvPicPr>
        <p:blipFill>
          <a:blip r:embed="rId1"/>
          <a:stretch/>
        </p:blipFill>
        <p:spPr>
          <a:xfrm>
            <a:off x="2916360" y="1413000"/>
            <a:ext cx="3671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ладислав Третьяк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вратарь сборной команды СССР, трёхкратный олимпийский чемпио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ол16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юбовь Егоров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шестикратная олимпийская чемпионка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7" name="Picture 4" descr="ол19"/>
          <p:cNvPicPr/>
          <p:nvPr/>
        </p:nvPicPr>
        <p:blipFill>
          <a:blip r:embed="rId1"/>
          <a:srcRect l="0" t="2547" r="0" b="2510"/>
          <a:stretch/>
        </p:blipFill>
        <p:spPr>
          <a:xfrm>
            <a:off x="2238480" y="981000"/>
            <a:ext cx="5070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рина Роднина и Александр Зайце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двукратные олимпийские чемпион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фигурное кат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Picture 4" descr="ол18"/>
          <p:cNvPicPr/>
          <p:nvPr/>
        </p:nvPicPr>
        <p:blipFill>
          <a:blip r:embed="rId1"/>
          <a:srcRect l="0" t="0" r="3547" b="0"/>
          <a:stretch/>
        </p:blipFill>
        <p:spPr>
          <a:xfrm>
            <a:off x="611280" y="1628640"/>
            <a:ext cx="78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Евгений Гришин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- четырехкратный олимпийский чемпион (коньки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Лидия Скобликова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шестикратная олимпийская чемпионка (коньки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Клавдия Боярских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- трёх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Александр Тихонов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иколай Земято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четырехкратный олимпийский чемпион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нфиса Резц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трёх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ариса Лазути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пяти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катерина Гордеева и Сергей Гриньк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ксана Грищук и Евгений Плато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ксана Казакова и Артур Дмитрие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лимпийское движение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принципы, традиции, правил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Конституция олимпийского сообще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ременная Хартия, принята в 1991 году, открывается Основополагающими принципами, за которыми следуют пять раздел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ак рождался всемирный праз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рвым был ЗЕВС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может, сын Зевс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может, внук Зевс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ол26"/>
          <p:cNvPicPr/>
          <p:nvPr/>
        </p:nvPicPr>
        <p:blipFill>
          <a:blip r:embed="rId1"/>
          <a:srcRect l="7664" t="2603" r="0" b="2603"/>
          <a:stretch/>
        </p:blipFill>
        <p:spPr>
          <a:xfrm>
            <a:off x="5435640" y="1197000"/>
            <a:ext cx="3457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вый посвящен основным принципам организации, участникам. Олимпийским символам, эмблемам, флагу, олимпийскому огню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торой – порядке работы, правах и обязанностя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етий – о международных спортивных организациях по видам спор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твёртый – посвящен национальным олимпийским комитета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ятый – о самих Олимпийских играх порядке провед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ВОСЕМЬ ПРЕЗИДЕНТОВ МО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еметриус Викелас и Пьер де Куберте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4" descr="ол20"/>
          <p:cNvPicPr/>
          <p:nvPr/>
        </p:nvPicPr>
        <p:blipFill>
          <a:blip r:embed="rId1"/>
          <a:srcRect l="1837" t="3145" r="2800" b="3189"/>
          <a:stretch/>
        </p:blipFill>
        <p:spPr>
          <a:xfrm>
            <a:off x="826920" y="1268280"/>
            <a:ext cx="7417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63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нри де Байе–Латур и Зигфрид Эдстр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ол21"/>
          <p:cNvPicPr/>
          <p:nvPr/>
        </p:nvPicPr>
        <p:blipFill>
          <a:blip r:embed="rId1"/>
          <a:srcRect l="3489" t="4341" r="1726" b="4341"/>
          <a:stretch/>
        </p:blipFill>
        <p:spPr>
          <a:xfrm>
            <a:off x="684360" y="765000"/>
            <a:ext cx="7848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вери Брендедж и Майкл Киллани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ол22"/>
          <p:cNvPicPr/>
          <p:nvPr/>
        </p:nvPicPr>
        <p:blipFill>
          <a:blip r:embed="rId1"/>
          <a:srcRect l="3562" t="4282" r="3562" b="5699"/>
          <a:stretch/>
        </p:blipFill>
        <p:spPr>
          <a:xfrm>
            <a:off x="826920" y="476280"/>
            <a:ext cx="7490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уан Антонио Самаранч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был президентом МОК 21 г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ол23"/>
          <p:cNvPicPr/>
          <p:nvPr/>
        </p:nvPicPr>
        <p:blipFill>
          <a:blip r:embed="rId1"/>
          <a:srcRect l="3359" t="2761" r="8526" b="1403"/>
          <a:stretch/>
        </p:blipFill>
        <p:spPr>
          <a:xfrm>
            <a:off x="2843280" y="1484280"/>
            <a:ext cx="374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езидентом МОК с 16 июля 2001 года является известный бельгийский врач и спортивный деятел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Жак Рогг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ол24"/>
          <p:cNvPicPr/>
          <p:nvPr/>
        </p:nvPicPr>
        <p:blipFill>
          <a:blip r:embed="rId1"/>
          <a:srcRect l="4761" t="2702" r="6366" b="3558"/>
          <a:stretch/>
        </p:blipFill>
        <p:spPr>
          <a:xfrm>
            <a:off x="2556000" y="1700280"/>
            <a:ext cx="4032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ждународный олимпийский комите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Штаб – квартира МОК расположена в швейцарском городе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ЛОЗАНН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дача МОК – руководить олимпийским движ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езидент Российского Олимпийского комит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. Жуков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611280" y="404640"/>
            <a:ext cx="8208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АСНОЯРСК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ЛИПМПИЙСКИ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ЧЕМПИОН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ущин Эдуард Викторович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бронзовый призёр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IX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лимпийских игр в толкании ядр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4" descr="ал39"/>
          <p:cNvPicPr/>
          <p:nvPr/>
        </p:nvPicPr>
        <p:blipFill>
          <a:blip r:embed="rId1"/>
          <a:srcRect l="9284" t="2801" r="5565" b="0"/>
          <a:stretch/>
        </p:blipFill>
        <p:spPr>
          <a:xfrm>
            <a:off x="3276720" y="1484280"/>
            <a:ext cx="3311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ервый чемпио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вые Олимпийские игры состоялись в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776 году до н.э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мя победителя тех игр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КОРОИБ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ол"/>
          <p:cNvPicPr/>
          <p:nvPr/>
        </p:nvPicPr>
        <p:blipFill>
          <a:blip r:embed="rId1"/>
          <a:stretch/>
        </p:blipFill>
        <p:spPr>
          <a:xfrm>
            <a:off x="2411280" y="242100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Ярыгин Иван Сергеевич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вукратный Олимпийский чемпион 1972, 1976 гг.  по вольной борьб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4" descr="ал35"/>
          <p:cNvPicPr/>
          <p:nvPr/>
        </p:nvPicPr>
        <p:blipFill>
          <a:blip r:embed="rId1"/>
          <a:srcRect l="0" t="0" r="6774" b="3279"/>
          <a:stretch/>
        </p:blipFill>
        <p:spPr>
          <a:xfrm>
            <a:off x="2556000" y="1413000"/>
            <a:ext cx="396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ймушина Елена Аркадьевн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ая чемпионк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X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 по спортивной гимнасти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ал37"/>
          <p:cNvPicPr/>
          <p:nvPr/>
        </p:nvPicPr>
        <p:blipFill>
          <a:blip r:embed="rId1"/>
          <a:srcRect l="0" t="0" r="8151" b="4472"/>
          <a:stretch/>
        </p:blipFill>
        <p:spPr>
          <a:xfrm>
            <a:off x="2843280" y="177336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стеркова Светлана Александровн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вукратная олимпийская чемпионка по лёгкой атлетик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XV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гры 1996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4" descr="ал38"/>
          <p:cNvPicPr/>
          <p:nvPr/>
        </p:nvPicPr>
        <p:blipFill>
          <a:blip r:embed="rId1"/>
          <a:srcRect l="7589" t="3322" r="6759" b="5087"/>
          <a:stretch/>
        </p:blipFill>
        <p:spPr>
          <a:xfrm>
            <a:off x="2987640" y="1916280"/>
            <a:ext cx="324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Ромасько Ольга Владимировна-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ребренный призёр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VI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 игр по биатлону 1998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ал36"/>
          <p:cNvPicPr/>
          <p:nvPr/>
        </p:nvPicPr>
        <p:blipFill>
          <a:blip r:embed="rId1"/>
          <a:srcRect l="5253" t="2666" r="10477" b="5331"/>
          <a:stretch/>
        </p:blipFill>
        <p:spPr>
          <a:xfrm>
            <a:off x="3059280" y="1628640"/>
            <a:ext cx="345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айтиев Бувайсар Хами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 1996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4" descr="ал34"/>
          <p:cNvPicPr/>
          <p:nvPr/>
        </p:nvPicPr>
        <p:blipFill>
          <a:blip r:embed="rId1"/>
          <a:srcRect l="9105" t="3834" r="5444" b="3834"/>
          <a:stretch/>
        </p:blipFill>
        <p:spPr>
          <a:xfrm>
            <a:off x="4500720" y="1268280"/>
            <a:ext cx="338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айтиев Адам Хами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2000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4" descr="ал32"/>
          <p:cNvPicPr/>
          <p:nvPr/>
        </p:nvPicPr>
        <p:blipFill>
          <a:blip r:embed="rId1"/>
          <a:srcRect l="0" t="5536" r="3906" b="0"/>
          <a:stretch/>
        </p:blipFill>
        <p:spPr>
          <a:xfrm>
            <a:off x="3995640" y="162864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тазалиев Саид Магоме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2000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ал31"/>
          <p:cNvPicPr/>
          <p:nvPr/>
        </p:nvPicPr>
        <p:blipFill>
          <a:blip r:embed="rId1"/>
          <a:srcRect l="4737" t="1535" r="7136" b="9091"/>
          <a:stretch/>
        </p:blipFill>
        <p:spPr>
          <a:xfrm>
            <a:off x="4427640" y="1484280"/>
            <a:ext cx="352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одлинно всемирное движ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лимпийское движение заявляет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Никакой дискриминации в спорте – ни политической, ни религиозной, ни расовой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это значит, что все спортсмены равны, у всех равные условия для соревнования, для побе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лимпизм, культура, искусств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Чтобы победить, необходимо ещё оказаться умным, умелым, интересным и духовно развитым человеком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лимпийцы готовы к состязания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 в четыре года – эти интервалы времени как раз и именовались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ОЛИМПИАДАМИ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преддверии этого праздника прекращались все распри и вой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ступать на играх это большая че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бедители, олимпионики, награждались оливковой ветвью или лавровым венк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ьер де Фреди, барон де Кубертен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(1863-1937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ол1"/>
          <p:cNvPicPr/>
          <p:nvPr/>
        </p:nvPicPr>
        <p:blipFill>
          <a:blip r:embed="rId1"/>
          <a:stretch/>
        </p:blipFill>
        <p:spPr>
          <a:xfrm>
            <a:off x="2265480" y="1197000"/>
            <a:ext cx="439416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лексей Дмитриевич Бутовски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(1838-1917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ол2"/>
          <p:cNvPicPr/>
          <p:nvPr/>
        </p:nvPicPr>
        <p:blipFill>
          <a:blip r:embed="rId1"/>
          <a:srcRect l="0" t="3916" r="0" b="4718"/>
          <a:stretch/>
        </p:blipFill>
        <p:spPr>
          <a:xfrm>
            <a:off x="2484360" y="1557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ервые игры современности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896 год АФИ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частие приняло 14 стран и 245 спортсмен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встралия, Австрия, Болгария, Великобритания, Венгрия, Германия, Греция, Дания, Италия, США, Франция, Чили, Швейцария, Швец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Не было среди участников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Arial"/>
              </a:rPr>
              <a:t>Олимпийские игры современности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Афинах -14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Сент-Луисе -19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Лондоне -22 стра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Швеции -28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4:43:49Z</dcterms:created>
  <dc:creator>дом</dc:creator>
  <dc:description/>
  <dc:language>en-US</dc:language>
  <cp:lastModifiedBy>User</cp:lastModifiedBy>
  <dcterms:modified xsi:type="dcterms:W3CDTF">2011-03-19T05:54:44Z</dcterms:modified>
  <cp:revision>23</cp:revision>
  <dc:subject/>
  <dc:title>Познавательный урок</dc:title>
</cp:coreProperties>
</file>