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163-53AD-4297-AF20-654F76CF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8A8-639A-4A3C-BA67-388772DA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0A2-02C8-4BA9-A9BC-A79993F1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D3C-6E84-4D21-B7F9-0BD59EDB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0489-C6CA-450E-9A62-9E121737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9385-4C0D-4A54-9B2C-3C4DA634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F6BF-635F-43BC-9303-DC806B5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8B08-5122-4787-B6DA-31A0B64F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E0A1-A169-4106-B2C7-BD51D73F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B0AE-61DB-4DB9-971E-62CA4DEA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89CA-F6A1-49A4-8925-548F18E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FE8-8996-47CF-99B9-D7176682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DF7B-9EDF-4273-ACFC-BEDAD38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4ECB-C885-4605-830B-06010BD1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9E52-F274-4FAE-9299-149A5A39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7CF3-F0DA-4E94-AFC3-B22A5A16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EFBE-CE80-4EBC-9DD6-FB2504C9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8A1-DE68-4369-A052-CC6156C7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E84-337E-48B0-9AFA-6F2D86B9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0B1-5D62-4F38-B914-03AA7CE5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206-506C-447D-90E6-E954C8D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41C-CCAD-40D8-83D4-33E216F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5AA-F0DC-4CA4-9536-F5628BCD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EEC-4C43-4314-B5D5-C3197237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6738-39E9-40C5-8DED-B8F99FBF5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82E8-6E9C-4B08-A82B-A4A32797C0F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Arial"/>
              </a:rPr>
              <a:t>Познавательный урок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569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ОЛИМПИЙСКИЕ ИГР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1896 – 2010 г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1116000" y="2492280"/>
            <a:ext cx="2087640" cy="1944720"/>
          </a:xfrm>
          <a:prstGeom prst="ellipse">
            <a:avLst/>
          </a:prstGeom>
          <a:solidFill>
            <a:srgbClr val="00666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3564000" y="2492280"/>
            <a:ext cx="2087640" cy="1944720"/>
          </a:xfrm>
          <a:prstGeom prst="ellipse">
            <a:avLst/>
          </a:prstGeom>
          <a:solidFill>
            <a:srgbClr val="0066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6012000" y="2492280"/>
            <a:ext cx="2087280" cy="1944720"/>
          </a:xfrm>
          <a:prstGeom prst="ellipse">
            <a:avLst/>
          </a:prstGeom>
          <a:solidFill>
            <a:srgbClr val="006666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4788000" y="3789360"/>
            <a:ext cx="2087640" cy="1944720"/>
          </a:xfrm>
          <a:prstGeom prst="ellipse">
            <a:avLst/>
          </a:prstGeom>
          <a:solidFill>
            <a:srgbClr val="006666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2268360" y="3789360"/>
            <a:ext cx="2087640" cy="1944720"/>
          </a:xfrm>
          <a:prstGeom prst="ellipse">
            <a:avLst/>
          </a:prstGeom>
          <a:solidFill>
            <a:srgbClr val="006666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Россия олимпийска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оссийский олимпийский комитет был создан лишь в 1911 год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вый олимпийский чемпион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иколай Панин-Коломенки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4" descr="ол4"/>
          <p:cNvPicPr/>
          <p:nvPr/>
        </p:nvPicPr>
        <p:blipFill>
          <a:blip r:embed="rId1"/>
          <a:stretch/>
        </p:blipFill>
        <p:spPr>
          <a:xfrm>
            <a:off x="2484360" y="1484280"/>
            <a:ext cx="43196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VII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гры - 1920 го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первые был поднят олимпийский флаг, прозвучал девиз олимпийцев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itius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ltius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ortius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», то есть «БЫСТРЕЕ, ВЫШЕ, СИЛЬНЕЕ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6200" y="291600"/>
            <a:ext cx="8077320" cy="62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«Особые» чемпион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ааво Нурм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– финский бегун выступал на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I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II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IX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лимпийских играх и завоевал 9 золотых медале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жесси Оуэн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(США) - четырёхкратный олимпийский чемпион (установил рекорд в прыжках в длину который продержался 20 ле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жон Вайсмюллер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(США) -  пятикратный олимпийский чемпион в плава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анни Бланкерс-Ку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(Нидерланды) –четырёхкратный олимпийский чемпион лёгкая атлети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асло Папп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(Венгрия) – трёхкратный олимпийский чемпион по бокс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XV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гры - 1952 го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Играх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V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ады состоялся дебют советских спортсмен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первые ОЧ в истории спорта СССР стала метательница диск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на Пономарёв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(Ромашков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тех пор олимпий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ССР в течении поч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0 лет входил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число лидер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олимпийском спорт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4" descr="ол5"/>
          <p:cNvPicPr/>
          <p:nvPr/>
        </p:nvPicPr>
        <p:blipFill>
          <a:blip r:embed="rId1"/>
          <a:stretch/>
        </p:blipFill>
        <p:spPr>
          <a:xfrm>
            <a:off x="4643280" y="2060640"/>
            <a:ext cx="39610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Мельбурн – 1956 го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екордсменкой Игр по числу завоёванных золотых наград стала гимнастк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ариса Латынина –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ладательниц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восемнадцат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олимпийски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наград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ол6"/>
          <p:cNvPicPr/>
          <p:nvPr/>
        </p:nvPicPr>
        <p:blipFill>
          <a:blip r:embed="rId1"/>
          <a:stretch/>
        </p:blipFill>
        <p:spPr>
          <a:xfrm>
            <a:off x="4643280" y="1628640"/>
            <a:ext cx="3672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Москва – 1980 го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Главный центр Игр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XXII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лимпиады был, в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Verdana"/>
              </a:rPr>
              <a:t>Москв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няло участие 5283 участника из 80 стр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ыграно 203 комплекта наград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ервое место стала наша команда: 80 золотых, 69 серебряных, 46 бронзовых медале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реди спортсменов по числу медалей стал наш гимнаст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лександр Дитяти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выигравший 3 золотые, 4 серебряные и 1 бронзовую наград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лимпийские игры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988, 1992, 1994,1998, 2002, 2006 год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Александр Карелин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трёхкратный олимпийский чемпион (греко-римская борьб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ладимир Артемов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четырёхкратный олимпийский чемпион (спортивная гимнастик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4" descr="ол8"/>
          <p:cNvPicPr/>
          <p:nvPr/>
        </p:nvPicPr>
        <p:blipFill>
          <a:blip r:embed="rId1"/>
          <a:srcRect l="0" t="2536" r="3944" b="2536"/>
          <a:stretch/>
        </p:blipFill>
        <p:spPr>
          <a:xfrm>
            <a:off x="1979640" y="2133720"/>
            <a:ext cx="52563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Евгений Садовый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трёхкратный олимпийский чемпион (плава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Александр Попов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четырёхкратный олимпийский чемпион (плава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танислав Поздняков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-четырёхкратный олимпийский чемпион(фехтова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ол9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лексей Нем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- четырёхкратный олимпийский чемпион(спортивная гимнастик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ветлана Мастерк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двукратная олимпийская чемпионка (лёгкая атлетика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ол10"/>
          <p:cNvPicPr/>
          <p:nvPr/>
        </p:nvPicPr>
        <p:blipFill>
          <a:blip r:embed="rId1"/>
          <a:srcRect l="2856" t="0" r="0" b="0"/>
          <a:stretch/>
        </p:blipFill>
        <p:spPr>
          <a:xfrm>
            <a:off x="1042920" y="1700280"/>
            <a:ext cx="73454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Андрей Лавров 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трёхкратный Олимпийский чемпион (гандбол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ол12"/>
          <p:cNvPicPr/>
          <p:nvPr/>
        </p:nvPicPr>
        <p:blipFill>
          <a:blip r:embed="rId1"/>
          <a:stretch/>
        </p:blipFill>
        <p:spPr>
          <a:xfrm>
            <a:off x="2050920" y="836640"/>
            <a:ext cx="49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О спорт! Ты – вызов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требуешь борьб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Вся сила наших мускул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сосредоточена  в одном, на взры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охожем, слове – спор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– трубаду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вой пламенный, волнующий призы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Находит отклик в наших сердц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спрашиваешь у вышедших на старт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Зачем же сила, ловкость и провор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если не мечтать о победном финише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утверждаешь – надо мечт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Надо сметь. Надо дерз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убеждаешь, требуешь, приказываеш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ы зовёшь людей помериться сило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реодолеть себя.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Пьер де Кубертен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ветлана Хорки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олимпийская чемпионка по гимнастик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ячеслав Еким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двукратный Олимпийский чемпион по велоспорт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4" descr="ол14"/>
          <p:cNvPicPr/>
          <p:nvPr/>
        </p:nvPicPr>
        <p:blipFill>
          <a:blip r:embed="rId1"/>
          <a:srcRect l="0" t="4716" r="0" b="3103"/>
          <a:stretch/>
        </p:blipFill>
        <p:spPr>
          <a:xfrm>
            <a:off x="684360" y="2133720"/>
            <a:ext cx="784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Евгений Кафельников -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лимпийский чемпион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о теннис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Ольга Брусникина 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Мария Киселёва –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двукратные олимпийск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Чемпионы (синхронное плавание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ол13"/>
          <p:cNvPicPr/>
          <p:nvPr/>
        </p:nvPicPr>
        <p:blipFill>
          <a:blip r:embed="rId1"/>
          <a:srcRect l="4410" t="0" r="6662" b="3477"/>
          <a:stretch/>
        </p:blipFill>
        <p:spPr>
          <a:xfrm>
            <a:off x="5435640" y="0"/>
            <a:ext cx="2881440" cy="400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ол11"/>
          <p:cNvPicPr/>
          <p:nvPr/>
        </p:nvPicPr>
        <p:blipFill>
          <a:blip r:embed="rId2"/>
          <a:srcRect l="0" t="4261" r="0" b="0"/>
          <a:stretch/>
        </p:blipFill>
        <p:spPr>
          <a:xfrm>
            <a:off x="179280" y="3429000"/>
            <a:ext cx="597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Зимние игры 1956 – 2006 год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Любовь Баранова (Козырева)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завоевавшая первую в истории олимпийское золото советского спорта (лыжный спор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4" descr="ол15"/>
          <p:cNvPicPr/>
          <p:nvPr/>
        </p:nvPicPr>
        <p:blipFill>
          <a:blip r:embed="rId1"/>
          <a:stretch/>
        </p:blipFill>
        <p:spPr>
          <a:xfrm>
            <a:off x="4643280" y="1341360"/>
            <a:ext cx="3888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иса Сметанин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завоевавшая на 4-х олимпийских играх 3-золотые, 5 серебряных и 1 бронзовую медали (лыжный спор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4" descr="ол17"/>
          <p:cNvPicPr/>
          <p:nvPr/>
        </p:nvPicPr>
        <p:blipFill>
          <a:blip r:embed="rId1"/>
          <a:stretch/>
        </p:blipFill>
        <p:spPr>
          <a:xfrm>
            <a:off x="2916360" y="1413000"/>
            <a:ext cx="3671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ладислав Третьяк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вратарь сборной команды СССР, трёхкратный олимпийский чемпион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4" descr="ол16"/>
          <p:cNvPicPr/>
          <p:nvPr/>
        </p:nvPicPr>
        <p:blipFill>
          <a:blip r:embed="rId1"/>
          <a:stretch/>
        </p:blipFill>
        <p:spPr>
          <a:xfrm>
            <a:off x="395280" y="1341360"/>
            <a:ext cx="820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Любовь Егоров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шестикратная олимпийская чемпионка (лыжный спор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7" name="Picture 4" descr="ол19"/>
          <p:cNvPicPr/>
          <p:nvPr/>
        </p:nvPicPr>
        <p:blipFill>
          <a:blip r:embed="rId1"/>
          <a:srcRect l="0" t="2547" r="0" b="2510"/>
          <a:stretch/>
        </p:blipFill>
        <p:spPr>
          <a:xfrm>
            <a:off x="2238480" y="981000"/>
            <a:ext cx="5070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рина Роднина и Александр Зайцев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двукратные олимпийские чемпионы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(фигурное ката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0" name="Picture 4" descr="ол18"/>
          <p:cNvPicPr/>
          <p:nvPr/>
        </p:nvPicPr>
        <p:blipFill>
          <a:blip r:embed="rId1"/>
          <a:srcRect l="0" t="0" r="3547" b="0"/>
          <a:stretch/>
        </p:blipFill>
        <p:spPr>
          <a:xfrm>
            <a:off x="611280" y="1628640"/>
            <a:ext cx="784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Евгений Гришин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- четырехкратный олимпийский чемпион (коньки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Лидия Скобликова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– шестикратная олимпийская чемпионка (коньки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Клавдия Боярских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- трёхкратная олимпийская чемпионка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Александр Тихонов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– четырёхкратный олимпийский чемпион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иколай Земятов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– четырехкратный олимпийский чемпион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нфиса Резц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- трёхкратная олимпийская чемпионка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Лариса Лазути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- пятикратная олимпийская чемпионка (лыжный спорт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Екатерина Гордеева и Сергей Гриньк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- двукратные олимпийские чемпионы (фигурное катание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ксана Грищук и Евгений Платов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- двукратные олимпийские чемпионы (фигурное катание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ксана Казакова и Артур Дмитриев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- двукратные олимпийские чемпионы (фигурное катание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Олимпийское движение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принципы, традиции, правил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Конституция олимпийского сообще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временная Хартия, принята в 1991 году, открывается Основополагающими принципами, за которыми следуют пять раздел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Как рождался всемирный праз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рвым был ЗЕВС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может, сын Зевс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может, внук Зевс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ол26"/>
          <p:cNvPicPr/>
          <p:nvPr/>
        </p:nvPicPr>
        <p:blipFill>
          <a:blip r:embed="rId1"/>
          <a:srcRect l="7664" t="2603" r="0" b="2603"/>
          <a:stretch/>
        </p:blipFill>
        <p:spPr>
          <a:xfrm>
            <a:off x="5435640" y="1197000"/>
            <a:ext cx="3457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рвый посвящен основным принципам организации, участникам. Олимпийским символам, эмблемам, флагу, олимпийскому огню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торой – порядке работы, правах и обязанностя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ретий – о международных спортивных организациях по видам спорт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Четвёртый – посвящен национальным олимпийским комитета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ятый – о самих Олимпийских играх порядке провед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ВОСЕМЬ ПРЕЗИДЕНТОВ МО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еметриус Викелас и Пьер де Куберте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4" descr="ол20"/>
          <p:cNvPicPr/>
          <p:nvPr/>
        </p:nvPicPr>
        <p:blipFill>
          <a:blip r:embed="rId1"/>
          <a:srcRect l="1837" t="3145" r="2800" b="3189"/>
          <a:stretch/>
        </p:blipFill>
        <p:spPr>
          <a:xfrm>
            <a:off x="826920" y="1268280"/>
            <a:ext cx="7417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630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нри де Байе–Латур и Зигфрид Эдстре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4" descr="ол21"/>
          <p:cNvPicPr/>
          <p:nvPr/>
        </p:nvPicPr>
        <p:blipFill>
          <a:blip r:embed="rId1"/>
          <a:srcRect l="3489" t="4341" r="1726" b="4341"/>
          <a:stretch/>
        </p:blipFill>
        <p:spPr>
          <a:xfrm>
            <a:off x="684360" y="765000"/>
            <a:ext cx="7848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вери Брендедж и Майкл Киллани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ол22"/>
          <p:cNvPicPr/>
          <p:nvPr/>
        </p:nvPicPr>
        <p:blipFill>
          <a:blip r:embed="rId1"/>
          <a:srcRect l="3562" t="4282" r="3562" b="5699"/>
          <a:stretch/>
        </p:blipFill>
        <p:spPr>
          <a:xfrm>
            <a:off x="826920" y="476280"/>
            <a:ext cx="7490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Хуан Антонио Самаранч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обыл президентом МОК 21 г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4" descr="ол23"/>
          <p:cNvPicPr/>
          <p:nvPr/>
        </p:nvPicPr>
        <p:blipFill>
          <a:blip r:embed="rId1"/>
          <a:srcRect l="3359" t="2761" r="8526" b="1403"/>
          <a:stretch/>
        </p:blipFill>
        <p:spPr>
          <a:xfrm>
            <a:off x="2843280" y="1484280"/>
            <a:ext cx="374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езидентом МОК с 16 июля 2001 года является известный бельгийский врач и спортивный деятель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Жак Рогг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ол24"/>
          <p:cNvPicPr/>
          <p:nvPr/>
        </p:nvPicPr>
        <p:blipFill>
          <a:blip r:embed="rId1"/>
          <a:srcRect l="4761" t="2702" r="6366" b="3558"/>
          <a:stretch/>
        </p:blipFill>
        <p:spPr>
          <a:xfrm>
            <a:off x="2556000" y="1700280"/>
            <a:ext cx="4032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еждународный олимпийский комите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Штаб – квартира МОК расположена в швейцарском городе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ЛОЗАНН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дача МОК – руководить олимпийским движ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езидент Российского Олимпийского комите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. Жуков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611280" y="404640"/>
            <a:ext cx="820872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КРАСНОЯРСК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ОЛИПМПИЙСКИЕ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ЧЕМПИОН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ущин Эдуард Викторович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– бронзовый призёр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IX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лимпийских игр в толкании ядр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3" name="Picture 4" descr="ал39"/>
          <p:cNvPicPr/>
          <p:nvPr/>
        </p:nvPicPr>
        <p:blipFill>
          <a:blip r:embed="rId1"/>
          <a:srcRect l="9284" t="2801" r="5565" b="0"/>
          <a:stretch/>
        </p:blipFill>
        <p:spPr>
          <a:xfrm>
            <a:off x="3276720" y="1484280"/>
            <a:ext cx="3311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Первый чемпио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рвые Олимпийские игры состоялись в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776 году до н.э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мя победителя тех игр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КОРОИБ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ол"/>
          <p:cNvPicPr/>
          <p:nvPr/>
        </p:nvPicPr>
        <p:blipFill>
          <a:blip r:embed="rId1"/>
          <a:stretch/>
        </p:blipFill>
        <p:spPr>
          <a:xfrm>
            <a:off x="2411280" y="2421000"/>
            <a:ext cx="42483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Ярыгин Иван Сергеевич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вукратный Олимпийский чемпион 1972, 1976 гг.  по вольной борьб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4" descr="ал35"/>
          <p:cNvPicPr/>
          <p:nvPr/>
        </p:nvPicPr>
        <p:blipFill>
          <a:blip r:embed="rId1"/>
          <a:srcRect l="0" t="0" r="6774" b="3279"/>
          <a:stretch/>
        </p:blipFill>
        <p:spPr>
          <a:xfrm>
            <a:off x="2556000" y="1413000"/>
            <a:ext cx="396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35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ймушина Елена Аркадьевн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ая чемпионк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XI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гр по спортивной гимнастик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ал37"/>
          <p:cNvPicPr/>
          <p:nvPr/>
        </p:nvPicPr>
        <p:blipFill>
          <a:blip r:embed="rId1"/>
          <a:srcRect l="0" t="0" r="8151" b="4472"/>
          <a:stretch/>
        </p:blipFill>
        <p:spPr>
          <a:xfrm>
            <a:off x="2843280" y="177336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астеркова Светлана Александровн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вукратная олимпийская чемпионка по лёгкой атлетике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XV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гры 1996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9" name="Picture 4" descr="ал38"/>
          <p:cNvPicPr/>
          <p:nvPr/>
        </p:nvPicPr>
        <p:blipFill>
          <a:blip r:embed="rId1"/>
          <a:srcRect l="7589" t="3322" r="6759" b="5087"/>
          <a:stretch/>
        </p:blipFill>
        <p:spPr>
          <a:xfrm>
            <a:off x="2987640" y="1916280"/>
            <a:ext cx="3240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Ромасько Ольга Владимировна-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еребренный призёр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VII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и игр по биатлону 1998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1" name="Picture 4" descr="ал36"/>
          <p:cNvPicPr/>
          <p:nvPr/>
        </p:nvPicPr>
        <p:blipFill>
          <a:blip r:embed="rId1"/>
          <a:srcRect l="5253" t="2666" r="10477" b="5331"/>
          <a:stretch/>
        </p:blipFill>
        <p:spPr>
          <a:xfrm>
            <a:off x="3059280" y="1628640"/>
            <a:ext cx="345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айтиев Бувайсар Хамидович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ий чемпион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XXV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гр 1996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 вольной борьб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4" descr="ал34"/>
          <p:cNvPicPr/>
          <p:nvPr/>
        </p:nvPicPr>
        <p:blipFill>
          <a:blip r:embed="rId1"/>
          <a:srcRect l="9105" t="3834" r="5444" b="3834"/>
          <a:stretch/>
        </p:blipFill>
        <p:spPr>
          <a:xfrm>
            <a:off x="4500720" y="1268280"/>
            <a:ext cx="3384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айтиев Адам Хамидович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ий чемпион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XXVI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гр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2000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 вольной борьб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4" descr="ал32"/>
          <p:cNvPicPr/>
          <p:nvPr/>
        </p:nvPicPr>
        <p:blipFill>
          <a:blip r:embed="rId1"/>
          <a:srcRect l="0" t="5536" r="3906" b="0"/>
          <a:stretch/>
        </p:blipFill>
        <p:spPr>
          <a:xfrm>
            <a:off x="3995640" y="1628640"/>
            <a:ext cx="3529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утазалиев Саид Магомедович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лимпийский чемпион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XXVII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гр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2000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 вольной борьб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4" descr="ал31"/>
          <p:cNvPicPr/>
          <p:nvPr/>
        </p:nvPicPr>
        <p:blipFill>
          <a:blip r:embed="rId1"/>
          <a:srcRect l="4737" t="1535" r="7136" b="9091"/>
          <a:stretch/>
        </p:blipFill>
        <p:spPr>
          <a:xfrm>
            <a:off x="4427640" y="1484280"/>
            <a:ext cx="352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Подлинно всемирное движе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Олимпийское движение заявляет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Никакой дискриминации в спорте – ни политической, ни религиозной, ни расовой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 это значит, что все спортсмены равны, у всех равные условия для соревнования, для побед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лимпизм, культура, искусств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Чтобы победить, необходимо ещё оказаться умным, умелым, интересным и духовно развитым человеком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лимпийцы готовы к состязания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 в четыре года – эти интервалы времени как раз и именовались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ОЛИМПИАДАМИ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преддверии этого праздника прекращались все распри и войн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ыступать на играх это большая че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бедители, олимпионики, награждались оливковой ветвью или лавровым венк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ьер де Фреди, барон де Кубертен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(1863-1937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ол1"/>
          <p:cNvPicPr/>
          <p:nvPr/>
        </p:nvPicPr>
        <p:blipFill>
          <a:blip r:embed="rId1"/>
          <a:stretch/>
        </p:blipFill>
        <p:spPr>
          <a:xfrm>
            <a:off x="2265480" y="1197000"/>
            <a:ext cx="439416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Алексей Дмитриевич Бутовски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(1838-1917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ол2"/>
          <p:cNvPicPr/>
          <p:nvPr/>
        </p:nvPicPr>
        <p:blipFill>
          <a:blip r:embed="rId1"/>
          <a:srcRect l="0" t="3916" r="0" b="4718"/>
          <a:stretch/>
        </p:blipFill>
        <p:spPr>
          <a:xfrm>
            <a:off x="2484360" y="155736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Первые игры современности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896 год АФИН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частие приняло 14 стран и 245 спортсмен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встралия, Австрия, Болгария, Великобритания, Венгрия, Германия, Греция, Дания, Италия, США, Франция, Чили, Швейцария, Швеци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Не было среди участников РОСС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cc"/>
                </a:solidFill>
                <a:latin typeface="Arial"/>
              </a:rPr>
              <a:t>Олимпийские игры современности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гры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лимпиады состоялись в Афинах -14 стр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гры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лимпиады состоялись в Сент-Луисе -19 стр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гры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лимпиады состоялись в Лондоне -22 стра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Игры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лимпиады состоялись в Швеции -28 стр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4:43:49Z</dcterms:created>
  <dc:creator>дом</dc:creator>
  <dc:description/>
  <dc:language>en-US</dc:language>
  <cp:lastModifiedBy>User</cp:lastModifiedBy>
  <dcterms:modified xsi:type="dcterms:W3CDTF">2011-03-19T05:54:44Z</dcterms:modified>
  <cp:revision>23</cp:revision>
  <dc:subject/>
  <dc:title>Познавательный урок</dc:title>
</cp:coreProperties>
</file>