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A6F-2282-49FD-A537-7FB4CE3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D06-088E-45D8-BFA6-2695434E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C76-3183-424D-9698-A238D5E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44D-A347-4DE1-B351-E25581F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0C7-8B59-4348-88B5-10C7E4C8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446-C16A-4D80-97D9-5CBC09A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BFAF-87FC-46E2-9334-BA06117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D3B-F7C6-4076-A65B-D143E8CB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84C0-A91A-4873-A530-DC9BD68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CCAC-A92C-4404-BDBC-EF9521F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748-7B68-4E8E-9B61-330973A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E25-A767-4747-8830-E709FCC3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EECF-DBA8-40CD-9019-75DA429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553-BBEB-4A87-B9A1-F507BA9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2213-C8B7-4E9C-8F5B-2932EC41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5DED-6ADE-493D-8886-423DE8F5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888B-27F7-4261-9012-06DF22A1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2EB0-7222-408E-94EE-13ACC8D9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BAA1-C979-49D2-87F2-59DB09C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494A-BE65-4FC5-A021-B9F12CB9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193D-AB91-4D0C-8BC9-1CD08D1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D92A-62AA-466F-80AB-1DAD223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2D5-8931-4859-AEEB-260EC52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988A-712D-4BD8-A3D8-D181ACD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4ACB-E828-4BDF-8FCA-75FEF35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2718-980A-42FD-9CA3-7BC28F0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E92D-361E-4511-8374-C05D75C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8FD2-20E4-4753-9F4B-CD7FA100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C179-99CB-4360-9157-B3E867A7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A539-9A84-47E1-B809-00CC4B56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326-F64B-457F-BEC4-2D91736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1F9-766F-42EC-999A-2EED104A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86C-9D4E-40A1-8B8E-816ADEE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E0D-97FB-40FA-B991-797CD96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443-411A-40C0-B4F6-177733B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DCD-E843-49AB-B7E0-D00FAAD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8756-8649-407F-85CA-42FFA82BA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3C3-6D32-4E17-9097-E99A1492B3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5C8-F99B-4D47-8D55-81E0630418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b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исследов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Нареч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Маша"/>
          <p:cNvPicPr/>
          <p:nvPr/>
        </p:nvPicPr>
        <p:blipFill>
          <a:blip r:embed="rId1"/>
          <a:stretch/>
        </p:blipFill>
        <p:spPr>
          <a:xfrm>
            <a:off x="1619280" y="3933720"/>
            <a:ext cx="1334880" cy="2233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Алёша2"/>
          <p:cNvPicPr/>
          <p:nvPr/>
        </p:nvPicPr>
        <p:blipFill>
          <a:blip r:embed="rId2"/>
          <a:stretch/>
        </p:blipFill>
        <p:spPr>
          <a:xfrm>
            <a:off x="7524720" y="476280"/>
            <a:ext cx="125424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: Т.А.Т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ООШ № 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У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зуйте наре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 – (где?) вн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ёкий – (откуда?) изда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 – (как?) чи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ый – (куда?)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248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с наречиями, поставьте к ним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ал (когда?)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хож (где?) вдал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ится  (как?) светло и радо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Петя"/>
          <p:cNvPicPr/>
          <p:nvPr/>
        </p:nvPicPr>
        <p:blipFill>
          <a:blip r:embed="rId1"/>
          <a:stretch/>
        </p:blipFill>
        <p:spPr>
          <a:xfrm>
            <a:off x="2916360" y="4581360"/>
            <a:ext cx="1670040" cy="227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3800" y="132840"/>
            <a:ext cx="609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6183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альчики оближешь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ус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итый час -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г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нём с огнём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 наплакал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край света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л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уть свет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снег на голову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жидан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0" descr="Маша"/>
          <p:cNvPicPr/>
          <p:nvPr/>
        </p:nvPicPr>
        <p:blipFill>
          <a:blip r:embed="rId1"/>
          <a:stretch/>
        </p:blipFill>
        <p:spPr>
          <a:xfrm>
            <a:off x="7308720" y="3141720"/>
            <a:ext cx="1335240" cy="223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те свою работу, используя нареч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мне было ……, потому ч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работал (как?)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Петя"/>
          <p:cNvPicPr/>
          <p:nvPr/>
        </p:nvPicPr>
        <p:blipFill>
          <a:blip r:embed="rId1"/>
          <a:stretch/>
        </p:blipFill>
        <p:spPr>
          <a:xfrm>
            <a:off x="6977160" y="3697200"/>
            <a:ext cx="1670040" cy="27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 выбор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74278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и выпишите из литературных произведений 3-5 предложений  с наречиями и подчеркн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 184 из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звонок 1"/>
          <p:cNvPicPr/>
          <p:nvPr/>
        </p:nvPicPr>
        <p:blipFill>
          <a:blip r:embed="rId1"/>
          <a:stretch/>
        </p:blipFill>
        <p:spPr>
          <a:xfrm>
            <a:off x="7164360" y="476280"/>
            <a:ext cx="1401840" cy="138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Алёша2"/>
          <p:cNvPicPr/>
          <p:nvPr/>
        </p:nvPicPr>
        <p:blipFill>
          <a:blip r:embed="rId2"/>
          <a:stretch/>
        </p:blipFill>
        <p:spPr>
          <a:xfrm>
            <a:off x="7889760" y="3645000"/>
            <a:ext cx="1254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" descr="2d3b1a7435a6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6589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762120" y="304920"/>
            <a:ext cx="7772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Impact"/>
              </a:rPr>
              <a:t>Желаю удачи!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49400" y="1628280"/>
            <a:ext cx="4243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ня «Ты да я, да мы с тоб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0000" cy="3240360"/>
          </a:xfrm>
          <a:prstGeom prst="rect">
            <a:avLst/>
          </a:prstGeom>
          <a:ln w="0">
            <a:noFill/>
          </a:ln>
        </p:spPr>
      </p:pic>
      <p:pic>
        <p:nvPicPr>
          <p:cNvPr id="198" name="Ты да я, да мы стобой..mp3" descr=""/>
          <p:cNvPicPr/>
          <p:nvPr/>
        </p:nvPicPr>
        <p:blipFill>
          <a:blip r:embed="rId2"/>
          <a:stretch/>
        </p:blipFill>
        <p:spPr>
          <a:xfrm>
            <a:off x="111600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Алёша2"/>
          <p:cNvPicPr/>
          <p:nvPr/>
        </p:nvPicPr>
        <p:blipFill>
          <a:blip r:embed="rId3"/>
          <a:stretch/>
        </p:blipFill>
        <p:spPr>
          <a:xfrm>
            <a:off x="7524720" y="3645000"/>
            <a:ext cx="125424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Маша"/>
          <p:cNvPicPr/>
          <p:nvPr/>
        </p:nvPicPr>
        <p:blipFill>
          <a:blip r:embed="rId4"/>
          <a:stretch/>
        </p:blipFill>
        <p:spPr>
          <a:xfrm>
            <a:off x="5508720" y="3716280"/>
            <a:ext cx="133488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усский язык в умелых уроках и опытных устах – красив, певуч, выразителен, гибок, послушен, ловок и вместителен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А.И.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3816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щ.               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абрь        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дь        лёгк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ал           чуд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г.     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ить      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совать   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 мороз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Петя"/>
          <p:cNvPicPr/>
          <p:nvPr/>
        </p:nvPicPr>
        <p:blipFill>
          <a:blip r:embed="rId1"/>
          <a:stretch/>
        </p:blipFill>
        <p:spPr>
          <a:xfrm>
            <a:off x="6977160" y="3697200"/>
            <a:ext cx="1670040" cy="27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2376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ЕЧ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6" descr="Маша"/>
          <p:cNvPicPr/>
          <p:nvPr/>
        </p:nvPicPr>
        <p:blipFill>
          <a:blip r:embed="rId1"/>
          <a:stretch/>
        </p:blipFill>
        <p:spPr>
          <a:xfrm>
            <a:off x="684360" y="3789360"/>
            <a:ext cx="1334880" cy="2233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206028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ОБОЗНАЧА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КАКИЕ ВОПРОСЫ ОТВЕЧА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ИЗМЕНЯЕТС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ИНТАКСИЧЕСКАЯ РОЛЬ  В ПРЕДЛОЖЕН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АКУЮ РОЛЬ ВЫПОЛНЯЕТ В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549000"/>
            <a:ext cx="777240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 исследования части ре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6" descr="Маша"/>
          <p:cNvPicPr/>
          <p:nvPr/>
        </p:nvPicPr>
        <p:blipFill>
          <a:blip r:embed="rId1"/>
          <a:stretch/>
        </p:blipFill>
        <p:spPr>
          <a:xfrm>
            <a:off x="7380360" y="3500280"/>
            <a:ext cx="1334880" cy="22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9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усский язы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ыкновенно богат наречиями, которые делают нашу речь точн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ной, выразительной 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427640" y="3212640"/>
            <a:ext cx="424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горький"/>
          <p:cNvPicPr/>
          <p:nvPr/>
        </p:nvPicPr>
        <p:blipFill>
          <a:blip r:embed="rId1"/>
          <a:stretch/>
        </p:blipFill>
        <p:spPr>
          <a:xfrm>
            <a:off x="971640" y="3500280"/>
            <a:ext cx="205092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"наречие" - очень старое,  оно встречается в древнерусском языке. Корень /речь/ как бы связывает его с глаголом. Древние римляне называли эту часть речи «ПРИГЛАГОЛИЕМ». Русские грамматисты назвали её точно так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Маша"/>
          <p:cNvPicPr/>
          <p:nvPr/>
        </p:nvPicPr>
        <p:blipFill>
          <a:blip r:embed="rId1"/>
          <a:stretch/>
        </p:blipFill>
        <p:spPr>
          <a:xfrm>
            <a:off x="539640" y="260280"/>
            <a:ext cx="1335240" cy="223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зуйте наре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 – (где?)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ёкий – (откуда?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 – (как?)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ый – (куда?)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248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с наречиями, поставьте к ним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ыпал пушистый сне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далеке он похож на мягкий ков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душе становится светло и радо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етя"/>
          <p:cNvPicPr/>
          <p:nvPr/>
        </p:nvPicPr>
        <p:blipFill>
          <a:blip r:embed="rId1"/>
          <a:stretch/>
        </p:blipFill>
        <p:spPr>
          <a:xfrm>
            <a:off x="3132000" y="4365720"/>
            <a:ext cx="1670040" cy="22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58:33Z</dcterms:created>
  <dc:creator>-</dc:creator>
  <dc:description/>
  <dc:language>en-US</dc:language>
  <cp:lastModifiedBy>Гончарова</cp:lastModifiedBy>
  <dcterms:modified xsi:type="dcterms:W3CDTF">2015-04-24T19:07:02Z</dcterms:modified>
  <cp:revision>18</cp:revision>
  <dc:subject/>
  <dc:title>Урок русского языка в 4 классе Тема: Наречие  УМК «Начальная школа XXI века»</dc:title>
</cp:coreProperties>
</file>