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6368-576E-477F-AB6E-948C755C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4E39-1D0A-4799-9D58-48AA26D1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8533-254C-4DFA-8EA4-17FDA09A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BE0-FCD9-4F47-924A-DA70B91B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CE9E-66CC-43CF-8296-8A6C7257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645E-8F7C-4890-A021-EA36D124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4996-8DE6-4043-B45C-5FA04C4F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ED6A-24F8-4340-BD7C-F44DCDA8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8566-D2FE-4431-A540-17BA3F54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DBFD-C7A8-40A6-BD51-43F87180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8A5E-7989-40B5-BFBF-E1950B74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65A8-EB36-40A8-B0FE-ACA57FA9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F5A1-C8F0-47CB-AA9D-97FB64AC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8310-8CD2-4443-B6B5-A6B501D8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13A1-36A0-4B95-9C7E-BAB5892A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859B-9FE6-4C5B-83F3-1B93098F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BD39-ADDB-4CE9-814D-F6C3E08E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D86C0-131E-4E39-BC26-1AD0BDDC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5A7B6-455A-40C4-A209-ACCD1B2E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C5E33-D21D-47CF-B752-D06F1AB5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99E5E-89E9-4025-9035-69164CC2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2697D-5BB8-46FE-AA7E-38A27163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0851-ED1E-4AF6-97E1-114797FD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49F6E-3724-450F-A52C-D5CAA315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6DB4D-ABB6-4615-BFFC-2B0AA419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34B19-33C1-4C97-8471-2321EC55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972DA-B49A-4F2F-BEEF-BDAD3A97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6EF1B-230E-440A-9AE6-EAFD164A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AA130-3ECC-46F0-B22A-F20FD56D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31A2C-F430-4767-9714-E0F037B2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6277-E004-46CB-A4B7-D958A98C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1C1C-85A2-4440-B101-4E2C8A20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2436-F696-4FFB-A759-15B83DFA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B679-9313-4E11-BABE-0B7E48BC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96C9-0CEA-4AF9-8A40-9F55C63D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1525-E380-41C0-A852-18EF4541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9A4E-1C38-4B3C-8CB8-5E743108F0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8E4D-D601-477D-A259-A28D0EC7087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0760" y="4661280"/>
              <a:ext cx="998640" cy="4633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6640" y="4640040"/>
              <a:ext cx="995400" cy="4586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4760" y="4626000"/>
              <a:ext cx="660240" cy="4190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951B-6105-49C3-8418-673E37E026A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6bc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384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– исследован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: Наречи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Маша"/>
          <p:cNvPicPr/>
          <p:nvPr/>
        </p:nvPicPr>
        <p:blipFill>
          <a:blip r:embed="rId1"/>
          <a:stretch/>
        </p:blipFill>
        <p:spPr>
          <a:xfrm>
            <a:off x="1619280" y="3933720"/>
            <a:ext cx="1334880" cy="2233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Алёша2"/>
          <p:cNvPicPr/>
          <p:nvPr/>
        </p:nvPicPr>
        <p:blipFill>
          <a:blip r:embed="rId2"/>
          <a:stretch/>
        </p:blipFill>
        <p:spPr>
          <a:xfrm>
            <a:off x="7524720" y="476280"/>
            <a:ext cx="1254240" cy="23763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л: Т.А.Тан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«ООШ № 8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Ух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7040" cy="431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бразуйте нареч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з – (где?) вни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ёкий – (откуда?) издал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тый – (как?) чи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вый – (куда?) вле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9760" y="1125000"/>
            <a:ext cx="4037040" cy="424836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пишите словосочетания с наречиями, поставьте к ним вопр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пал (когда?) сего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хож (где?) вдале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новится  (как?) светло и радос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Петя"/>
          <p:cNvPicPr/>
          <p:nvPr/>
        </p:nvPicPr>
        <p:blipFill>
          <a:blip r:embed="rId1"/>
          <a:stretch/>
        </p:blipFill>
        <p:spPr>
          <a:xfrm>
            <a:off x="2916360" y="4581360"/>
            <a:ext cx="1670040" cy="2276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23800" y="132840"/>
            <a:ext cx="6095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5640" y="980640"/>
            <a:ext cx="76183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альчики оближешь –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кусн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битый час -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лг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днём с огнём –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удн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от наплакал –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л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 край света –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лек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уть свет –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н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ак снег на голову -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ожиданн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7" name="Picture 10" descr="Маша"/>
          <p:cNvPicPr/>
          <p:nvPr/>
        </p:nvPicPr>
        <p:blipFill>
          <a:blip r:embed="rId1"/>
          <a:stretch/>
        </p:blipFill>
        <p:spPr>
          <a:xfrm>
            <a:off x="7308720" y="3141720"/>
            <a:ext cx="1335240" cy="2233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цените свою работу, используя нареч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уроке мне было ……, потому что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работал (как?)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Петя"/>
          <p:cNvPicPr/>
          <p:nvPr/>
        </p:nvPicPr>
        <p:blipFill>
          <a:blip r:embed="rId1"/>
          <a:stretch/>
        </p:blipFill>
        <p:spPr>
          <a:xfrm>
            <a:off x="6977160" y="3697200"/>
            <a:ext cx="1670040" cy="2756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по выбору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2276280"/>
            <a:ext cx="742788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и выпишите из литературных произведений 3-5 предложений  с наречиями и подчеркните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жнение 184 из учеб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звонок 1"/>
          <p:cNvPicPr/>
          <p:nvPr/>
        </p:nvPicPr>
        <p:blipFill>
          <a:blip r:embed="rId1"/>
          <a:stretch/>
        </p:blipFill>
        <p:spPr>
          <a:xfrm>
            <a:off x="7164360" y="476280"/>
            <a:ext cx="1401840" cy="1384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Алёша2"/>
          <p:cNvPicPr/>
          <p:nvPr/>
        </p:nvPicPr>
        <p:blipFill>
          <a:blip r:embed="rId2"/>
          <a:stretch/>
        </p:blipFill>
        <p:spPr>
          <a:xfrm>
            <a:off x="7889760" y="3645000"/>
            <a:ext cx="12542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0" descr="2d3b1a7435a6"/>
          <p:cNvPicPr/>
          <p:nvPr/>
        </p:nvPicPr>
        <p:blipFill>
          <a:blip r:embed="rId1"/>
          <a:stretch/>
        </p:blipFill>
        <p:spPr>
          <a:xfrm>
            <a:off x="152280" y="268200"/>
            <a:ext cx="8686800" cy="6589800"/>
          </a:xfrm>
          <a:prstGeom prst="rect">
            <a:avLst/>
          </a:prstGeom>
          <a:ln w="0">
            <a:noFill/>
          </a:ln>
        </p:spPr>
      </p:pic>
      <p:sp>
        <p:nvSpPr>
          <p:cNvPr id="236" name="WordArt 4"/>
          <p:cNvSpPr txBox="1"/>
          <p:nvPr/>
        </p:nvSpPr>
        <p:spPr>
          <a:xfrm>
            <a:off x="762120" y="304920"/>
            <a:ext cx="77724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66ff66"/>
                    </a:gs>
                    <a:gs pos="100000">
                      <a:srgbClr val="ffff66"/>
                    </a:gs>
                  </a:gsLst>
                  <a:lin ang="2700000"/>
                </a:gradFill>
                <a:latin typeface="Impact"/>
              </a:rPr>
              <a:t>Желаю удачи!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66ff66"/>
                  </a:gs>
                  <a:gs pos="100000">
                    <a:srgbClr val="ffff66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649400" y="1628280"/>
            <a:ext cx="4243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сня «Ты да я, да мы с тоб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240000" cy="3240360"/>
          </a:xfrm>
          <a:prstGeom prst="rect">
            <a:avLst/>
          </a:prstGeom>
          <a:ln w="0">
            <a:noFill/>
          </a:ln>
        </p:spPr>
      </p:pic>
      <p:pic>
        <p:nvPicPr>
          <p:cNvPr id="198" name="Ты да я, да мы стобой..mp3" descr=""/>
          <p:cNvPicPr/>
          <p:nvPr/>
        </p:nvPicPr>
        <p:blipFill>
          <a:blip r:embed="rId2"/>
          <a:stretch/>
        </p:blipFill>
        <p:spPr>
          <a:xfrm>
            <a:off x="1116000" y="5516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Алёша2"/>
          <p:cNvPicPr/>
          <p:nvPr/>
        </p:nvPicPr>
        <p:blipFill>
          <a:blip r:embed="rId3"/>
          <a:stretch/>
        </p:blipFill>
        <p:spPr>
          <a:xfrm>
            <a:off x="7524720" y="3645000"/>
            <a:ext cx="1254240" cy="2376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Маша"/>
          <p:cNvPicPr/>
          <p:nvPr/>
        </p:nvPicPr>
        <p:blipFill>
          <a:blip r:embed="rId4"/>
          <a:stretch/>
        </p:blipFill>
        <p:spPr>
          <a:xfrm>
            <a:off x="5508720" y="3716280"/>
            <a:ext cx="1334880" cy="223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57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Русский язык в умелых уроках и опытных устах – красив, певуч, выразителен, гибок, послушен, ловок и вместителен»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      А.И.Куп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им себ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7040" cy="38163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ущ.               пр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кабрь        рус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традь        лёгки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нал           чудес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9760" y="1125000"/>
            <a:ext cx="40370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лаг.                  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юбить       хорош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исовать    аккура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мотреть  морозно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Петя"/>
          <p:cNvPicPr/>
          <p:nvPr/>
        </p:nvPicPr>
        <p:blipFill>
          <a:blip r:embed="rId1"/>
          <a:stretch/>
        </p:blipFill>
        <p:spPr>
          <a:xfrm>
            <a:off x="6977160" y="3697200"/>
            <a:ext cx="1670040" cy="2756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237636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РЕЧ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6" descr="Маша"/>
          <p:cNvPicPr/>
          <p:nvPr/>
        </p:nvPicPr>
        <p:blipFill>
          <a:blip r:embed="rId1"/>
          <a:stretch/>
        </p:blipFill>
        <p:spPr>
          <a:xfrm>
            <a:off x="684360" y="3789360"/>
            <a:ext cx="1334880" cy="2233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22160" y="2060280"/>
            <a:ext cx="7772400" cy="37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ЧТО ОБОЗНАЧАЕТ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НА КАКИЕ ВОПРОСЫ ОТВЕЧАЕТ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АК ИЗМЕНЯЕТСЯ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СИНТАКСИЧЕСКАЯ РОЛЬ  В ПРЕДЛОЖЕНИ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КАКУЮ РОЛЬ ВЫПОЛНЯЕТ В РЕЧ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22160" y="549000"/>
            <a:ext cx="7772400" cy="1366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лан исследования части реч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6" descr="Маша"/>
          <p:cNvPicPr/>
          <p:nvPr/>
        </p:nvPicPr>
        <p:blipFill>
          <a:blip r:embed="rId1"/>
          <a:stretch/>
        </p:blipFill>
        <p:spPr>
          <a:xfrm>
            <a:off x="7380360" y="3500280"/>
            <a:ext cx="1334880" cy="2233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25923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Русский язык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ыкновенно богат наречиями, которые делают нашу речь точной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ной, выразительной 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427640" y="3212640"/>
            <a:ext cx="4248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.Гор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горький"/>
          <p:cNvPicPr/>
          <p:nvPr/>
        </p:nvPicPr>
        <p:blipFill>
          <a:blip r:embed="rId1"/>
          <a:stretch/>
        </p:blipFill>
        <p:spPr>
          <a:xfrm>
            <a:off x="971640" y="3500280"/>
            <a:ext cx="2050920" cy="26528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 "наречие" - очень старое,  оно встречается в древнерусском языке. Корень /речь/ как бы связывает его с глаголом. Древние римляне называли эту часть речи «ПРИГЛАГОЛИЕМ». Русские грамматисты назвали её точно так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Маша"/>
          <p:cNvPicPr/>
          <p:nvPr/>
        </p:nvPicPr>
        <p:blipFill>
          <a:blip r:embed="rId1"/>
          <a:stretch/>
        </p:blipFill>
        <p:spPr>
          <a:xfrm>
            <a:off x="539640" y="260280"/>
            <a:ext cx="1335240" cy="2233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7040" cy="431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бразуйте нареч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з – (где?)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ёкий – (откуда?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тый – (как?)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вый – (куда?) 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9760" y="1125000"/>
            <a:ext cx="4037040" cy="424836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пишите словосочетания с наречиями, поставьте к ним вопр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годня выпал пушистый снеж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далеке он похож на мягкий ковё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душе становится светло и радос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Петя"/>
          <p:cNvPicPr/>
          <p:nvPr/>
        </p:nvPicPr>
        <p:blipFill>
          <a:blip r:embed="rId1"/>
          <a:stretch/>
        </p:blipFill>
        <p:spPr>
          <a:xfrm>
            <a:off x="3132000" y="4365720"/>
            <a:ext cx="1670040" cy="2276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20:58:33Z</dcterms:created>
  <dc:creator>-</dc:creator>
  <dc:description/>
  <dc:language>en-US</dc:language>
  <cp:lastModifiedBy>Гончарова</cp:lastModifiedBy>
  <dcterms:modified xsi:type="dcterms:W3CDTF">2015-04-24T19:07:02Z</dcterms:modified>
  <cp:revision>18</cp:revision>
  <dc:subject/>
  <dc:title>Урок русского языка в 4 классе Тема: Наречие  УМК «Начальная школа XXI века»</dc:title>
</cp:coreProperties>
</file>