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43D-8422-441D-8A13-39029370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6FA-5807-4B2A-8A8E-1BA8DE79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C01-A7E2-4131-BE64-5BA26B4F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EFF2-35F2-41D3-927B-2989D2B9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6F592-979D-4D94-87E7-B1645573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51C1F-CA07-4A56-A1B4-C5F0E43D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759B7-3210-45AA-AECE-585A1ED4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2F3DE-AEBB-4B54-98C9-299FB6BF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323FD-510F-4821-8A46-3C4554FE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65B2A-87E7-429E-9084-E7793994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92FAE-8C2B-4C33-986B-24293E30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D454-16CD-4F1A-9C88-6935E48D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6D865-8958-49DE-8E22-698789A3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A04A5-06C8-4FCC-BDDE-59225E86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392D2-37BD-4588-AB90-4B5ACF5B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2FD61-3D23-48AC-9C6A-AC387C9D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CCDD6-C271-44AA-9916-014D0236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C01-E33E-4D73-BF42-8541EE12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E81-58E8-4EC4-9582-C9FD6C34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9D91-1152-4818-B56D-3CC6B1EE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31DD-10C2-4A79-9432-276DBD29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AA2-2B36-44F0-9807-F84245F9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EBD-655D-4434-A899-5E46D4EC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306-0D00-48DD-A048-5ADD95C0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03D6-3528-478B-8045-57E2D6CFC1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ACCC-B0C3-4873-AA7D-BFF76764BB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10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1.jpeg"/><Relationship Id="rId21" Type="http://schemas.openxmlformats.org/officeDocument/2006/relationships/image" Target="../media/image11.jpeg"/><Relationship Id="rId22" Type="http://schemas.openxmlformats.org/officeDocument/2006/relationships/image" Target="../media/image11.jpeg"/><Relationship Id="rId2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54;&#1090;&#1082;&#1088;&#1099;&#1090;&#1099;&#1081;%20&#1091;&#1088;&#1086;&#1082;%20&#1087;&#1086;%20&#1075;&#1077;&#1086;&#1084;&#1077;&#1090;&#1088;&#1080;&#1080;%208%20&#1082;&#1083;&#1072;&#1089;&#1089;%20&#1082;%20&#1072;&#1090;&#1090;&#1077;&#1089;&#1090;&#1072;&#1094;&#1080;&#1080;.doc" TargetMode="External"/><Relationship Id="rId2" Type="http://schemas.openxmlformats.org/officeDocument/2006/relationships/hyperlink" Target="file:///&#1083;&#1086;&#1082;_1.doc" TargetMode="External"/><Relationship Id="rId3" Type="http://schemas.openxmlformats.org/officeDocument/2006/relationships/hyperlink" Target="file:///&#1083;&#1086;&#1082;%202.docx" TargetMode="External"/><Relationship Id="rId4" Type="http://schemas.openxmlformats.org/officeDocument/2006/relationships/hyperlink" Target="file:///&#1083;&#1086;&#1082;_3.doc" TargetMode="External"/><Relationship Id="rId5" Type="http://schemas.openxmlformats.org/officeDocument/2006/relationships/hyperlink" Target="file:///&#1083;&#1086;&#1082;_4.doc" TargetMode="External"/><Relationship Id="rId6" Type="http://schemas.openxmlformats.org/officeDocument/2006/relationships/hyperlink" Target="file:///&#1083;&#1086;&#1082;_5.doc" TargetMode="External"/><Relationship Id="rId7" Type="http://schemas.openxmlformats.org/officeDocument/2006/relationships/hyperlink" Target="file:///&#1083;&#1086;&#1082;_6.doc" TargetMode="External"/><Relationship Id="rId8" Type="http://schemas.openxmlformats.org/officeDocument/2006/relationships/hyperlink" Target="file:///&#1055;&#1088;&#1077;&#1079;&#1077;&#1085;&#1090;&#1072;&#1094;&#1080;&#1103;%20&#1053;&#1054;&#1059;%20&#1075;&#1086;&#1088;&#1086;&#1076;&#1089;&#1082;&#1086;&#1077;%20&#1071;&#1085;&#1072;&#1088;&#1089;&#1072;&#1085;&#1086;&#1074;&#1072;%20&#1047;&#1072;&#1088;&#1077;&#1084;&#1072;.pptx" TargetMode="External"/><Relationship Id="rId9" Type="http://schemas.openxmlformats.org/officeDocument/2006/relationships/hyperlink" Target="file:///&#1058;&#1077;&#1089;&#1090;%20&#1095;&#1077;&#1090;&#1099;&#1088;&#1077;&#1093;&#1091;&#1075;&#1086;&#1083;&#1100;&#1085;&#1080;&#1082;&#1080;.docx" TargetMode="External"/><Relationship Id="rId10" Type="http://schemas.openxmlformats.org/officeDocument/2006/relationships/hyperlink" Target="file:///&#1050;&#1054;&#1053;&#1058;&#1056;&#1054;&#1051;&#1068;&#1053;&#1040;&#1071;%20&#1088;&#1072;&#1073;&#1086;&#1090;&#1072;%20&#8470;1.docx" TargetMode="External"/><Relationship Id="rId11" Type="http://schemas.openxmlformats.org/officeDocument/2006/relationships/hyperlink" Target="file:///&#1047;&#1072;&#1095;&#1077;&#1090;%20&#8470;1%20(&#1087;&#1088;&#1077;&#1079;&#1077;&#1085;&#1090;&#1072;&#1094;&#1080;&#1080;%20&#1076;&#1077;&#1090;&#1077;&#1081;)" TargetMode="External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Муниципальное бюджетное образовательное учреждение средняя общеобразовательная школа №1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26920" y="4076280"/>
            <a:ext cx="481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H:\DSC_9411.JPG"/>
          <p:cNvPicPr/>
          <p:nvPr/>
        </p:nvPicPr>
        <p:blipFill>
          <a:blip r:embed="rId1"/>
          <a:stretch/>
        </p:blipFill>
        <p:spPr>
          <a:xfrm>
            <a:off x="357120" y="2000160"/>
            <a:ext cx="2230560" cy="334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2714760" y="1928880"/>
            <a:ext cx="621504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1227"/>
                </a:solidFill>
                <a:latin typeface="Times New Roman"/>
              </a:rPr>
              <a:t>Образование:</a:t>
            </a:r>
            <a:r>
              <a:rPr b="0" lang="ru-RU" sz="1600" spc="-1" strike="noStrike">
                <a:solidFill>
                  <a:srgbClr val="031227"/>
                </a:solidFill>
                <a:latin typeface="Times New Roman"/>
              </a:rPr>
              <a:t> Нижегородский государственный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1227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31227"/>
                </a:solidFill>
                <a:latin typeface="Times New Roman"/>
              </a:rPr>
              <a:t>педагогический институт им. М.Горького, математическ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1227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31227"/>
                </a:solidFill>
                <a:latin typeface="Times New Roman"/>
              </a:rPr>
              <a:t>факультет, 1993 г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1227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31227"/>
                </a:solidFill>
                <a:latin typeface="Times New Roman"/>
              </a:rPr>
              <a:t>Специальность:</a:t>
            </a:r>
            <a:r>
              <a:rPr b="0" lang="ru-RU" sz="1600" spc="-1" strike="noStrike">
                <a:solidFill>
                  <a:srgbClr val="031227"/>
                </a:solidFill>
                <a:latin typeface="Times New Roman"/>
              </a:rPr>
              <a:t> учитель математики, информатики и вычислительной тех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1227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31227"/>
                </a:solidFill>
                <a:latin typeface="Times New Roman"/>
              </a:rPr>
              <a:t>Педагогический стаж</a:t>
            </a:r>
            <a:r>
              <a:rPr b="0" lang="ru-RU" sz="1600" spc="-1" strike="noStrike">
                <a:solidFill>
                  <a:srgbClr val="031227"/>
                </a:solidFill>
                <a:latin typeface="Times New Roman"/>
              </a:rPr>
              <a:t> – 20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1227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31227"/>
                </a:solidFill>
                <a:latin typeface="Times New Roman"/>
              </a:rPr>
              <a:t>Квалификационная категория</a:t>
            </a:r>
            <a:r>
              <a:rPr b="0" lang="ru-RU" sz="1600" spc="-1" strike="noStrike">
                <a:solidFill>
                  <a:srgbClr val="031227"/>
                </a:solidFill>
                <a:latin typeface="Times New Roman"/>
              </a:rPr>
              <a:t> – высшая, 2009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1227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31227"/>
                </a:solidFill>
                <a:latin typeface="Times New Roman"/>
              </a:rPr>
              <a:t>Награды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четная грамота Администрации Московского райо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. Нижнего Новгорода 2011г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лагодарственное письмо Администрации Московского района города Нижнего  Новгорода 2011 г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четная грамота Министерства образования Нижегородской области 2012 г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ff3300"/>
                </a:solidFill>
                <a:latin typeface="Times New Roman"/>
              </a:rPr>
              <a:t>Учащиеся должны уметь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85480" y="928800"/>
            <a:ext cx="8643960" cy="428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ьзоваться языком геомет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285840" y="1357200"/>
            <a:ext cx="8643960" cy="39888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познавать различные виды четырехуголь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285840" y="1785960"/>
            <a:ext cx="8643960" cy="337680"/>
          </a:xfrm>
          <a:prstGeom prst="rect">
            <a:avLst/>
          </a:prstGeom>
          <a:solidFill>
            <a:srgbClr val="ccffff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ображать различные виды четырехугольников на   плоск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285840" y="2143080"/>
            <a:ext cx="8643960" cy="3376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ять чертежи по условию задач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8"/>
          <p:cNvSpPr/>
          <p:nvPr/>
        </p:nvSpPr>
        <p:spPr>
          <a:xfrm>
            <a:off x="285840" y="2500200"/>
            <a:ext cx="86439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ть переводить условия задачи на математиче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9"/>
          <p:cNvSpPr/>
          <p:nvPr/>
        </p:nvSpPr>
        <p:spPr>
          <a:xfrm>
            <a:off x="285840" y="2928960"/>
            <a:ext cx="8643960" cy="53244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знавать на чертежах, моделях, в окружающей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становке виды основных четырех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285840" y="3500280"/>
            <a:ext cx="864396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одить рассуждения при решении задач, опираясь на известные свойства и признаки  данных четырехуголь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11"/>
          <p:cNvSpPr/>
          <p:nvPr/>
        </p:nvSpPr>
        <p:spPr>
          <a:xfrm>
            <a:off x="285840" y="4214880"/>
            <a:ext cx="7715160" cy="7038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шать геометрические задачи с применением свойств и признаков изучаемых четырехуголь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12"/>
          <p:cNvSpPr/>
          <p:nvPr/>
        </p:nvSpPr>
        <p:spPr>
          <a:xfrm>
            <a:off x="285840" y="4929120"/>
            <a:ext cx="671508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шать задачи на построение с помощью циркуля и линейки, применяя знания по разделу «Четырехугольник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90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Times New Roman"/>
              </a:rPr>
              <a:t>Учащиеся должны разви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97164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ние выполнять творческие задания с применением полученных знаний и навы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500040" y="2714760"/>
            <a:ext cx="8215200" cy="45972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ние работать в группах, парах, индивидуа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500040" y="3357720"/>
            <a:ext cx="8215200" cy="82548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ние самостоятельно оценивать ситуацию и принимать верные ре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Учащиеся получат возможнос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владеть методами решения задач на вычисления и доказатель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обрести опыт применения алгебраического аппарата при решении геометрических задач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владеть традиционной схемой решения задач на построение с помощью циркуля и линей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обрести опыт исследования свойств четырехугольников с помощью компьютерных програм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обрести опыт выполнения проектов по теме «Геометрические преобразования на плоскости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42800" y="356760"/>
            <a:ext cx="278604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хнологии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506160" y="785880"/>
            <a:ext cx="230076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овые технолог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5361120" y="1785960"/>
            <a:ext cx="6775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К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6220800" y="714240"/>
            <a:ext cx="23965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блемное обуч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654480" y="1785960"/>
            <a:ext cx="348012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фференцированное обуч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Стрелка вправо 10"/>
          <p:cNvSpPr/>
          <p:nvPr/>
        </p:nvSpPr>
        <p:spPr>
          <a:xfrm>
            <a:off x="5929200" y="714240"/>
            <a:ext cx="28584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Стрелка влево 11"/>
          <p:cNvSpPr/>
          <p:nvPr/>
        </p:nvSpPr>
        <p:spPr>
          <a:xfrm>
            <a:off x="2786040" y="714240"/>
            <a:ext cx="35712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Стрелка вниз 12"/>
          <p:cNvSpPr/>
          <p:nvPr/>
        </p:nvSpPr>
        <p:spPr>
          <a:xfrm>
            <a:off x="3214800" y="1500120"/>
            <a:ext cx="48420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Стрелка вниз 13"/>
          <p:cNvSpPr/>
          <p:nvPr/>
        </p:nvSpPr>
        <p:spPr>
          <a:xfrm>
            <a:off x="5429160" y="1500120"/>
            <a:ext cx="48420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14"/>
          <p:cNvSpPr/>
          <p:nvPr/>
        </p:nvSpPr>
        <p:spPr>
          <a:xfrm>
            <a:off x="3500280" y="2571840"/>
            <a:ext cx="2000520" cy="1739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тоды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15"/>
          <p:cNvSpPr/>
          <p:nvPr/>
        </p:nvSpPr>
        <p:spPr>
          <a:xfrm>
            <a:off x="642960" y="2571840"/>
            <a:ext cx="2357280" cy="64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яснительно-иллюстратив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16"/>
          <p:cNvSpPr/>
          <p:nvPr/>
        </p:nvSpPr>
        <p:spPr>
          <a:xfrm>
            <a:off x="642960" y="3429000"/>
            <a:ext cx="235728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продуктив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17"/>
          <p:cNvSpPr/>
          <p:nvPr/>
        </p:nvSpPr>
        <p:spPr>
          <a:xfrm>
            <a:off x="6009480" y="2571840"/>
            <a:ext cx="2378160" cy="368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астично-поисков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18"/>
          <p:cNvSpPr/>
          <p:nvPr/>
        </p:nvSpPr>
        <p:spPr>
          <a:xfrm>
            <a:off x="6072120" y="3357720"/>
            <a:ext cx="2357640" cy="368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следователь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19"/>
          <p:cNvSpPr/>
          <p:nvPr/>
        </p:nvSpPr>
        <p:spPr>
          <a:xfrm>
            <a:off x="2801880" y="4143240"/>
            <a:ext cx="3301920" cy="368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ктико – ориентирован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Стрелка вниз 20"/>
          <p:cNvSpPr/>
          <p:nvPr/>
        </p:nvSpPr>
        <p:spPr>
          <a:xfrm>
            <a:off x="4357800" y="3786120"/>
            <a:ext cx="484200" cy="35712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Стрелка вправо 21"/>
          <p:cNvSpPr/>
          <p:nvPr/>
        </p:nvSpPr>
        <p:spPr>
          <a:xfrm>
            <a:off x="5500800" y="2500200"/>
            <a:ext cx="500040" cy="484200"/>
          </a:xfrm>
          <a:prstGeom prst="rightArrow">
            <a:avLst>
              <a:gd name="adj1" fmla="val 50000"/>
              <a:gd name="adj2" fmla="val 49996"/>
            </a:avLst>
          </a:prstGeom>
          <a:blipFill rotWithShape="0">
            <a:blip r:embed="rId13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Стрелка вправо 22"/>
          <p:cNvSpPr/>
          <p:nvPr/>
        </p:nvSpPr>
        <p:spPr>
          <a:xfrm>
            <a:off x="5500800" y="3286080"/>
            <a:ext cx="500040" cy="484200"/>
          </a:xfrm>
          <a:prstGeom prst="rightArrow">
            <a:avLst>
              <a:gd name="adj1" fmla="val 50000"/>
              <a:gd name="adj2" fmla="val 49996"/>
            </a:avLst>
          </a:prstGeom>
          <a:blipFill rotWithShape="0">
            <a:blip r:embed="rId14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Стрелка влево 23"/>
          <p:cNvSpPr/>
          <p:nvPr/>
        </p:nvSpPr>
        <p:spPr>
          <a:xfrm>
            <a:off x="3000240" y="2643120"/>
            <a:ext cx="500040" cy="484200"/>
          </a:xfrm>
          <a:prstGeom prst="leftArrow">
            <a:avLst>
              <a:gd name="adj1" fmla="val 50000"/>
              <a:gd name="adj2" fmla="val 49996"/>
            </a:avLst>
          </a:prstGeom>
          <a:blipFill rotWithShape="0">
            <a:blip r:embed="rId15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Стрелка влево 24"/>
          <p:cNvSpPr/>
          <p:nvPr/>
        </p:nvSpPr>
        <p:spPr>
          <a:xfrm>
            <a:off x="3000240" y="3357720"/>
            <a:ext cx="500040" cy="484200"/>
          </a:xfrm>
          <a:prstGeom prst="leftArrow">
            <a:avLst>
              <a:gd name="adj1" fmla="val 50000"/>
              <a:gd name="adj2" fmla="val 49996"/>
            </a:avLst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оугольник 25"/>
          <p:cNvSpPr/>
          <p:nvPr/>
        </p:nvSpPr>
        <p:spPr>
          <a:xfrm>
            <a:off x="3791880" y="4786200"/>
            <a:ext cx="1596600" cy="6426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р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26"/>
          <p:cNvSpPr/>
          <p:nvPr/>
        </p:nvSpPr>
        <p:spPr>
          <a:xfrm>
            <a:off x="5862240" y="5357880"/>
            <a:ext cx="1632960" cy="3682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тная раб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27"/>
          <p:cNvSpPr/>
          <p:nvPr/>
        </p:nvSpPr>
        <p:spPr>
          <a:xfrm>
            <a:off x="863280" y="4786200"/>
            <a:ext cx="2218320" cy="3682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28"/>
          <p:cNvSpPr/>
          <p:nvPr/>
        </p:nvSpPr>
        <p:spPr>
          <a:xfrm>
            <a:off x="857160" y="5429160"/>
            <a:ext cx="2428920" cy="3682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дактическая иг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29"/>
          <p:cNvSpPr/>
          <p:nvPr/>
        </p:nvSpPr>
        <p:spPr>
          <a:xfrm>
            <a:off x="5875200" y="4786200"/>
            <a:ext cx="2608560" cy="368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традиционные уро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30"/>
          <p:cNvSpPr/>
          <p:nvPr/>
        </p:nvSpPr>
        <p:spPr>
          <a:xfrm>
            <a:off x="2643120" y="5857920"/>
            <a:ext cx="3286080" cy="3682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Стрелка вправо 31"/>
          <p:cNvSpPr/>
          <p:nvPr/>
        </p:nvSpPr>
        <p:spPr>
          <a:xfrm>
            <a:off x="5429160" y="471492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Стрелка вправо 32"/>
          <p:cNvSpPr/>
          <p:nvPr/>
        </p:nvSpPr>
        <p:spPr>
          <a:xfrm>
            <a:off x="5429160" y="535788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Стрелка влево 34"/>
          <p:cNvSpPr/>
          <p:nvPr/>
        </p:nvSpPr>
        <p:spPr>
          <a:xfrm>
            <a:off x="3357720" y="4786200"/>
            <a:ext cx="42840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Стрелка влево 35"/>
          <p:cNvSpPr/>
          <p:nvPr/>
        </p:nvSpPr>
        <p:spPr>
          <a:xfrm>
            <a:off x="3286080" y="5286240"/>
            <a:ext cx="42876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Стрелка вниз 36"/>
          <p:cNvSpPr/>
          <p:nvPr/>
        </p:nvSpPr>
        <p:spPr>
          <a:xfrm>
            <a:off x="4357800" y="542916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6000"/>
                            </p:stCondLst>
                            <p:childTnLst>
                              <p:par>
                                <p:cTn id="4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7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9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истема знаний и система деятельност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642960" y="1285920"/>
            <a:ext cx="2046240" cy="368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знаватель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4"/>
          <p:cNvSpPr/>
          <p:nvPr/>
        </p:nvSpPr>
        <p:spPr>
          <a:xfrm>
            <a:off x="719280" y="2214720"/>
            <a:ext cx="1598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еучеб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5"/>
          <p:cNvSpPr/>
          <p:nvPr/>
        </p:nvSpPr>
        <p:spPr>
          <a:xfrm>
            <a:off x="722520" y="3214800"/>
            <a:ext cx="1869480" cy="368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образующ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6"/>
          <p:cNvSpPr/>
          <p:nvPr/>
        </p:nvSpPr>
        <p:spPr>
          <a:xfrm>
            <a:off x="795240" y="4429080"/>
            <a:ext cx="226260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моорганизующ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оугольник 7"/>
          <p:cNvSpPr/>
          <p:nvPr/>
        </p:nvSpPr>
        <p:spPr>
          <a:xfrm>
            <a:off x="2928960" y="1285920"/>
            <a:ext cx="6072120" cy="368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мение видеть проблему, умение выдвигать гипотез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8"/>
          <p:cNvSpPr/>
          <p:nvPr/>
        </p:nvSpPr>
        <p:spPr>
          <a:xfrm>
            <a:off x="3148200" y="2214720"/>
            <a:ext cx="3465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мение понимать информац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9"/>
          <p:cNvSpPr/>
          <p:nvPr/>
        </p:nvSpPr>
        <p:spPr>
          <a:xfrm>
            <a:off x="3143160" y="2857680"/>
            <a:ext cx="5857920" cy="916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мение искать оригинальные решения, преобразовывать информацию, создавать математическую мод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10"/>
          <p:cNvSpPr/>
          <p:nvPr/>
        </p:nvSpPr>
        <p:spPr>
          <a:xfrm>
            <a:off x="3143160" y="4143240"/>
            <a:ext cx="4572000" cy="1191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мение организовывать свою учебную деятельность, оценивать её результат, определять причины трудностей и пути их реш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500"/>
                            </p:stCondLst>
                            <p:childTnLst>
                              <p:par>
                                <p:cTn id="5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4000"/>
                            </p:stCondLst>
                            <p:childTnLst>
                              <p:par>
                                <p:cTn id="5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лендарно-тематическое план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42920" y="369720"/>
          <a:ext cx="8799480" cy="6488280"/>
        </p:xfrm>
        <a:graphic>
          <a:graphicData uri="http://schemas.openxmlformats.org/drawingml/2006/table">
            <a:tbl>
              <a:tblPr/>
              <a:tblGrid>
                <a:gridCol w="446040"/>
                <a:gridCol w="2625840"/>
                <a:gridCol w="2000160"/>
                <a:gridCol w="3000240"/>
                <a:gridCol w="727200"/>
              </a:tblGrid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п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держание 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перечень того, что изучаетс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ы  контро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27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ырёхугольники (15 час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огоуголь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изучения нового матери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огоугольник, элементы многоугольника, выпуклый многоугольник, сумма углов выпуклого многоуголь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7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огоуголь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стоятельная работа №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бинированный ур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/р №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ограмм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йства параллелограм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"/>
                        </a:rPr>
                        <a:t>Урок изучения нового матери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ырехугольник, параллелограмм, свойства параллелограмм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"/>
                        </a:rPr>
                        <a:t>ЛОК №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йства параллелограм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бинированный ур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28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ки параллелограм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стоятельная работа №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изучения нового матери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ограмм, свойства параллелограмма, признаки параллелограм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3"/>
                        </a:rPr>
                        <a:t>ЛОК №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/р №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6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ки параллелограм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совершенствования знаний, умений и навы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пе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изучения нового матери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пеция, элементы трапеции, равнобедренная и прямоугольная трапе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4"/>
                        </a:rPr>
                        <a:t>ЛОК №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8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пе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стоятельная работа №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бинированный ур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пеция, элементы трапеции, равнобедренная и прямоугольная трапе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/р №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ямоугольн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бинированный ур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ямоугольник, свойства прямоугольника, признак прямоуголь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5"/>
                        </a:rPr>
                        <a:t>ЛОК №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мб и квадр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изучения нового матери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мб, квадрат, свойство ромба и квадр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6"/>
                        </a:rPr>
                        <a:t>ЛОК №5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7"/>
                        </a:rPr>
                        <a:t>ЛОК №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27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мб и квадрат. Самостоятельная работа №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бинированный ур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/р №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8"/>
                        </a:rPr>
                        <a:t>Осевая и центральная симмет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бинированный ур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евая и центральная симметрии, ось симметрии, центр симмет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ение зада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9"/>
                        </a:rPr>
                        <a:t>Самостоятельная работа №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 совершенствования знаний, умений и навы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ограмм, трапеция, прямоугольник, ромб, квадрат, осевая и центральная симмет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/р №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6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ная работа №1 «Четырехугольник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0"/>
                        </a:rPr>
                        <a:t>Контроль знаний и ум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ограмм, трапеция, прямоугольник, ромб, квадрат, осевая и центральная симмет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/р №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28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чет №1 «Четырехугольник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1"/>
                        </a:rPr>
                        <a:t>Контроль знаний и ум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ограмм, трапеция, прямоугольник, ромб, квадрат, осевая и центральная симмет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med">
    <p:wipe dir="d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иагностика уровня усвоения знаний по теме «Четырехугольники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Содержимое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Список  литерату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Прямоугольник 3"/>
          <p:cNvSpPr/>
          <p:nvPr/>
        </p:nvSpPr>
        <p:spPr>
          <a:xfrm>
            <a:off x="285840" y="1000080"/>
            <a:ext cx="864396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ометрия:   учеб,   для   7—9 кл. / Л.С. Атанасян,   В.Ф. Бутузов, С.В. Кадомцев и др. — М.: Просвещение, 20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ометрия. Дополнительные главы к школьному учебнику 8 класса; Л. С. Атанасян, В.Ф. Бутузов и др. М.: Вита – Пресс, 200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ив Б.Г. Геометрия:   Дидактические   материалы  для   8 кл. / Б. Г. Зив, В.М. Мейлер. — М.: Просвещение, 20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ение геометрии в 7, 8, 9 классах: метод, рекомендации: кн. для учителя / Л.С. Атанасян, В.Ф. Бутузов, Ю.А. Глазков и др. - М.: Просвещение, 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.С. Атанасян, В.Ф. Бутузов, Ю.А. Глазков и др. Рабочая тетрадь для 8 класса, - М.: Просвещение, 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ександров А.Д. и др. Геометрия для 8–9 классов: Учеб. пособие для учащихся шк. и классов с углубл. изуч. математики/А.Д. Александров, А.Л. Зернер, В.И. Рыжик – М.: Просвещение, 1991. – 415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щенко Т.М. Геометрия в таблицах: 7–9 классы.– М.: АСТ. Астрель. Транзиткнига , 2005. – 40 с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.М. Рабинович. Математика: Задачи и упражнения на готовых чертежах: Геометрия. 7–9 классы. Москва – Харьков: Илекса, 1998. – 64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рмистрова Т.А. Геометрия. Программы общеобразовательных учреждений.   М.: « Просвещение» 2009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. Еженедельное учебно – методическое приложение к газете “1 сентября” №31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9г, №48- 96г, №29-2000г, №14-99г.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imes New Roman"/>
              </a:rPr>
              <a:t>Урок №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Тема урок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«Параллелограмм. Свойства параллелограмм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Тип урока: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к ознакомления с новым материал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Метод обуче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эвристический (постановка учебной задач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УМ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д редакцией Л.С.Атанася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Клас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8а, 2013-2014 учебный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Оборудован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ьютер, проектор, интерактивная до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Главная проблема урока: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еометрия полна приключений, потому что за каждой задачей скрывается приключение мысли. Решить задачу - это значит пережить приключение.» (В.В. Произвол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28880" y="274680"/>
            <a:ext cx="5572080" cy="7970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Скругленный прямоугольник 3"/>
          <p:cNvSpPr/>
          <p:nvPr/>
        </p:nvSpPr>
        <p:spPr>
          <a:xfrm>
            <a:off x="428760" y="1714680"/>
            <a:ext cx="2500200" cy="3143160"/>
          </a:xfrm>
          <a:custGeom>
            <a:avLst/>
            <a:gdLst>
              <a:gd name="textAreaLeft" fmla="*/ 122040 w 2500200"/>
              <a:gd name="textAreaRight" fmla="*/ 2378160 w 2500200"/>
              <a:gd name="textAreaTop" fmla="*/ 122040 h 3143160"/>
              <a:gd name="textAreaBottom" fmla="*/ 3021120 h 3143160"/>
            </a:gdLst>
            <a:ahLst/>
            <a:rect l="textAreaLeft" t="textAreaTop" r="textAreaRight" b="textAreaBottom"/>
            <a:pathLst>
              <a:path w="21600" h="27154">
                <a:moveTo>
                  <a:pt x="3600" y="0"/>
                </a:moveTo>
                <a:arcTo wR="3600" hR="3600" stAng="16200000" swAng="-5400000"/>
                <a:lnTo>
                  <a:pt x="0" y="23554"/>
                </a:lnTo>
                <a:arcTo wR="3600" hR="3600" stAng="10800000" swAng="-5400000"/>
                <a:lnTo>
                  <a:pt x="18000" y="27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Скругленный прямоугольник 4"/>
          <p:cNvSpPr/>
          <p:nvPr/>
        </p:nvSpPr>
        <p:spPr>
          <a:xfrm>
            <a:off x="3429000" y="1714680"/>
            <a:ext cx="2500200" cy="3214440"/>
          </a:xfrm>
          <a:custGeom>
            <a:avLst/>
            <a:gdLst>
              <a:gd name="textAreaLeft" fmla="*/ 122040 w 2500200"/>
              <a:gd name="textAreaRight" fmla="*/ 2378160 w 2500200"/>
              <a:gd name="textAreaTop" fmla="*/ 122040 h 3214440"/>
              <a:gd name="textAreaBottom" fmla="*/ 3092400 h 3214440"/>
            </a:gdLst>
            <a:ahLst/>
            <a:rect l="textAreaLeft" t="textAreaTop" r="textAreaRight" b="textAreaBottom"/>
            <a:pathLst>
              <a:path w="21600" h="27770">
                <a:moveTo>
                  <a:pt x="3600" y="0"/>
                </a:moveTo>
                <a:arcTo wR="3600" hR="3600" stAng="16200000" swAng="-5400000"/>
                <a:lnTo>
                  <a:pt x="0" y="24170"/>
                </a:lnTo>
                <a:arcTo wR="3600" hR="3600" stAng="10800000" swAng="-5400000"/>
                <a:lnTo>
                  <a:pt x="18000" y="277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Скругленный прямоугольник 6"/>
          <p:cNvSpPr/>
          <p:nvPr/>
        </p:nvSpPr>
        <p:spPr>
          <a:xfrm>
            <a:off x="6286680" y="1714680"/>
            <a:ext cx="2500200" cy="3214440"/>
          </a:xfrm>
          <a:custGeom>
            <a:avLst/>
            <a:gdLst>
              <a:gd name="textAreaLeft" fmla="*/ 122040 w 2500200"/>
              <a:gd name="textAreaRight" fmla="*/ 2378160 w 2500200"/>
              <a:gd name="textAreaTop" fmla="*/ 122040 h 3214440"/>
              <a:gd name="textAreaBottom" fmla="*/ 3092400 h 3214440"/>
            </a:gdLst>
            <a:ahLst/>
            <a:rect l="textAreaLeft" t="textAreaTop" r="textAreaRight" b="textAreaBottom"/>
            <a:pathLst>
              <a:path w="21600" h="27770">
                <a:moveTo>
                  <a:pt x="3600" y="0"/>
                </a:moveTo>
                <a:arcTo wR="3600" hR="3600" stAng="16200000" swAng="-5400000"/>
                <a:lnTo>
                  <a:pt x="0" y="24170"/>
                </a:lnTo>
                <a:arcTo wR="3600" hR="3600" stAng="10800000" swAng="-5400000"/>
                <a:lnTo>
                  <a:pt x="18000" y="277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7"/>
          <p:cNvSpPr/>
          <p:nvPr/>
        </p:nvSpPr>
        <p:spPr>
          <a:xfrm>
            <a:off x="500040" y="1928880"/>
            <a:ext cx="235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тельна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знакомиться с понятием параллелограмм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формулировать и доказать его свойств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учиться применять полученные знания при решении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8"/>
          <p:cNvSpPr/>
          <p:nvPr/>
        </p:nvSpPr>
        <p:spPr>
          <a:xfrm>
            <a:off x="3500280" y="1928880"/>
            <a:ext cx="2286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оспитательна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вать инициативность, взаимопонимание, творческую активность, умение работать в команд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6429240" y="1928880"/>
            <a:ext cx="21434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азвивающа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вать наблюдательность, умение анализировать, сравнивать, делать выводы, контролировать свои действ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Выгнутая влево стрелка 13"/>
          <p:cNvSpPr/>
          <p:nvPr/>
        </p:nvSpPr>
        <p:spPr>
          <a:xfrm>
            <a:off x="1143000" y="571680"/>
            <a:ext cx="731880" cy="121572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5720"/>
              <a:gd name="textAreaBottom" fmla="*/ 888840 h 121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Выгнутая вправо стрелка 14"/>
          <p:cNvSpPr/>
          <p:nvPr/>
        </p:nvSpPr>
        <p:spPr>
          <a:xfrm>
            <a:off x="7572240" y="50004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Стрелка вниз 15"/>
          <p:cNvSpPr/>
          <p:nvPr/>
        </p:nvSpPr>
        <p:spPr>
          <a:xfrm>
            <a:off x="4500720" y="1143000"/>
            <a:ext cx="484200" cy="5716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000"/>
                            </p:stCondLst>
                            <p:childTnLst>
                              <p:par>
                                <p:cTn id="6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8036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Департамент образования и науки Нижегородской области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ГОУ ДПО НИРО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«Нижегородский институт развития образования»</a:t>
            </a:r>
            <a:br>
              <a:rPr sz="2000"/>
            </a:br>
            <a:r>
              <a:rPr b="0" lang="ru-RU" sz="2000" spc="-1" strike="noStrike">
                <a:solidFill>
                  <a:srgbClr val="0d0d0d"/>
                </a:solidFill>
                <a:latin typeface="Franklin Gothic Book"/>
              </a:rPr>
              <a:t>Кафедра теории и методики обучения математи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Компьютерная презентация методической разработки раздела образовательной программы «Четырехугольни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Franklin Gothic Book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Franklin Gothic Book"/>
              </a:rPr>
              <a:t>учитель МБОУ СОШ №13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Franklin Gothic Book"/>
              </a:rPr>
              <a:t>Белогородцева Елена Александ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28760" y="428760"/>
            <a:ext cx="85723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Times New Roman"/>
              </a:rPr>
              <a:t>Методы: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ъяснительно-иллюстративный метод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продуктивный метод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од проблемного излож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ично-поисковы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Times New Roman"/>
              </a:rPr>
              <a:t>Предполагаемый результат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нание определения параллелограмм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нание формулировки теорем, выражающих свойства параллелограмм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ение доказывать свойства параллелограмм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ение применять определение и свойства параллелограмма при решении зада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Franklin Gothic Book"/>
              </a:rPr>
              <a:t>Структура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рка домашнего зад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ктуализация опорных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ировка проблемы, постановка учебной задач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ановка темы и целей уро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крытие новых знаний и способов действ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ичное осмысление изученного и его применение в стандартных ситуаци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нос знаний и их применение в новых, видоизмененных ситуаци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общение и систематизация новых знаний, способов действ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флексия учеником своих действий и самооце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ведение итог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ановка домашнего зад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3000"/>
                            </p:stCondLst>
                            <p:childTnLst>
                              <p:par>
                                <p:cTn id="7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000"/>
                            </p:stCondLst>
                            <p:childTnLst>
                              <p:par>
                                <p:cTn id="7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0"/>
                            </p:stCondLst>
                            <p:childTnLst>
                              <p:par>
                                <p:cTn id="7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6000"/>
                            </p:stCondLst>
                            <p:childTnLst>
                              <p:par>
                                <p:cTn id="7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000"/>
                            </p:stCondLst>
                            <p:childTnLst>
                              <p:par>
                                <p:cTn id="7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8000"/>
                            </p:stCondLst>
                            <p:childTnLst>
                              <p:par>
                                <p:cTn id="7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9000"/>
                            </p:stCondLst>
                            <p:childTnLst>
                              <p:par>
                                <p:cTn id="7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Актуализация опорных зн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03"/>
          <p:cNvPicPr/>
          <p:nvPr/>
        </p:nvPicPr>
        <p:blipFill>
          <a:blip r:embed="rId1"/>
          <a:stretch/>
        </p:blipFill>
        <p:spPr>
          <a:xfrm>
            <a:off x="642960" y="714240"/>
            <a:ext cx="7786800" cy="6143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03"/>
          <p:cNvPicPr/>
          <p:nvPr/>
        </p:nvPicPr>
        <p:blipFill>
          <a:blip r:embed="rId2"/>
          <a:stretch/>
        </p:blipFill>
        <p:spPr>
          <a:xfrm>
            <a:off x="642960" y="714240"/>
            <a:ext cx="7786800" cy="6143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80"/>
                </a:solidFill>
                <a:latin typeface="Times New Roman"/>
              </a:rPr>
              <a:t>1 и 2 свойства параллелограмм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У параллелограмма противолежащие стороны равны, противолежащие углы рав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4" descr="0700206"/>
          <p:cNvPicPr/>
          <p:nvPr/>
        </p:nvPicPr>
        <p:blipFill>
          <a:blip r:embed="rId1"/>
          <a:stretch/>
        </p:blipFill>
        <p:spPr>
          <a:xfrm>
            <a:off x="4859280" y="2060640"/>
            <a:ext cx="4032360" cy="3025800"/>
          </a:xfrm>
          <a:prstGeom prst="rect">
            <a:avLst/>
          </a:prstGeom>
          <a:ln w="0">
            <a:noFill/>
          </a:ln>
        </p:spPr>
      </p:pic>
      <p:sp>
        <p:nvSpPr>
          <p:cNvPr id="197" name="Line 6"/>
          <p:cNvSpPr/>
          <p:nvPr/>
        </p:nvSpPr>
        <p:spPr>
          <a:xfrm flipV="1">
            <a:off x="5364000" y="2852280"/>
            <a:ext cx="648000" cy="129708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7"/>
          <p:cNvSpPr/>
          <p:nvPr/>
        </p:nvSpPr>
        <p:spPr>
          <a:xfrm flipV="1">
            <a:off x="7524720" y="2852280"/>
            <a:ext cx="647640" cy="129708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826920" y="4653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АВ = 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24000" y="4508640"/>
            <a:ext cx="4176720" cy="2016000"/>
          </a:xfrm>
          <a:prstGeom prst="rect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5364000" y="4149720"/>
            <a:ext cx="216072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6012000" y="2852640"/>
            <a:ext cx="216036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2627280" y="4653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AD =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1116000" y="522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∟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BAD = ∟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1116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∟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ABC = ∟C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3"/>
          <p:cNvSpPr/>
          <p:nvPr/>
        </p:nvSpPr>
        <p:spPr>
          <a:xfrm flipV="1">
            <a:off x="5364000" y="2852280"/>
            <a:ext cx="648000" cy="129708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5364000" y="4149720"/>
            <a:ext cx="216072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6012000" y="2852640"/>
            <a:ext cx="216036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27"/>
          <p:cNvSpPr/>
          <p:nvPr/>
        </p:nvSpPr>
        <p:spPr>
          <a:xfrm flipV="1">
            <a:off x="7524720" y="2852280"/>
            <a:ext cx="647640" cy="129708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3500"/>
                            </p:stCondLst>
                            <p:childTnLst>
                              <p:par>
                                <p:cTn id="7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4000"/>
                            </p:stCondLst>
                            <p:childTnLst>
                              <p:par>
                                <p:cTn id="7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0"/>
                            </p:stCondLst>
                            <p:childTnLst>
                              <p:par>
                                <p:cTn id="7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0"/>
                            </p:stCondLst>
                            <p:childTnLst>
                              <p:par>
                                <p:cTn id="7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60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7000"/>
                            </p:stCondLst>
                            <p:childTnLst>
                              <p:par>
                                <p:cTn id="8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8000"/>
                            </p:stCondLst>
                            <p:childTnLst>
                              <p:par>
                                <p:cTn id="8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8000"/>
                            </p:stCondLst>
                            <p:childTnLst>
                              <p:par>
                                <p:cTn id="8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000"/>
                            </p:stCondLst>
                            <p:childTnLst>
                              <p:par>
                                <p:cTn id="8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9000"/>
                            </p:stCondLst>
                            <p:childTnLst>
                              <p:par>
                                <p:cTn id="8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9000"/>
                            </p:stCondLst>
                            <p:childTnLst>
                              <p:par>
                                <p:cTn id="8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9000"/>
                            </p:stCondLst>
                            <p:childTnLst>
                              <p:par>
                                <p:cTn id="8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80"/>
                </a:solidFill>
                <a:latin typeface="Times New Roman"/>
              </a:rPr>
              <a:t>4 свойство параллелограмм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23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Диагонали параллелограмма пересекаются и точкой пресечения делятся попола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14"/>
          <p:cNvGrpSpPr/>
          <p:nvPr/>
        </p:nvGrpSpPr>
        <p:grpSpPr>
          <a:xfrm>
            <a:off x="4788000" y="1916280"/>
            <a:ext cx="3960720" cy="3025440"/>
            <a:chOff x="4788000" y="1916280"/>
            <a:chExt cx="3960720" cy="3025440"/>
          </a:xfrm>
        </p:grpSpPr>
        <p:pic>
          <p:nvPicPr>
            <p:cNvPr id="213" name="Picture 9" descr="ts0701"/>
            <p:cNvPicPr/>
            <p:nvPr/>
          </p:nvPicPr>
          <p:blipFill>
            <a:blip r:embed="rId1"/>
            <a:stretch/>
          </p:blipFill>
          <p:spPr>
            <a:xfrm>
              <a:off x="4788000" y="1916280"/>
              <a:ext cx="3960720" cy="30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11"/>
            <p:cNvSpPr/>
            <p:nvPr/>
          </p:nvSpPr>
          <p:spPr>
            <a:xfrm>
              <a:off x="5508720" y="3189240"/>
              <a:ext cx="215640" cy="21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6227640" y="4221000"/>
              <a:ext cx="432000" cy="287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Line 15"/>
          <p:cNvSpPr/>
          <p:nvPr/>
        </p:nvSpPr>
        <p:spPr>
          <a:xfrm flipV="1">
            <a:off x="5364000" y="3389040"/>
            <a:ext cx="1465560" cy="73476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6"/>
          <p:cNvSpPr/>
          <p:nvPr/>
        </p:nvSpPr>
        <p:spPr>
          <a:xfrm flipV="1">
            <a:off x="6851520" y="2666880"/>
            <a:ext cx="1440000" cy="72072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1258920" y="465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AO = 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8"/>
          <p:cNvSpPr/>
          <p:nvPr/>
        </p:nvSpPr>
        <p:spPr>
          <a:xfrm>
            <a:off x="6180120" y="2666880"/>
            <a:ext cx="665280" cy="76212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9"/>
          <p:cNvSpPr/>
          <p:nvPr/>
        </p:nvSpPr>
        <p:spPr>
          <a:xfrm>
            <a:off x="6831000" y="3429000"/>
            <a:ext cx="647640" cy="72072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1332000" y="5300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BO = 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500"/>
                            </p:stCondLst>
                            <p:childTnLst>
                              <p:par>
                                <p:cTn id="8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3500"/>
                            </p:stCondLst>
                            <p:childTnLst>
                              <p:par>
                                <p:cTn id="8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4500"/>
                            </p:stCondLst>
                            <p:childTnLst>
                              <p:par>
                                <p:cTn id="9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500"/>
                            </p:stCondLst>
                            <p:childTnLst>
                              <p:par>
                                <p:cTn id="9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4500"/>
                            </p:stCondLst>
                            <p:childTnLst>
                              <p:par>
                                <p:cTn id="9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500"/>
                            </p:stCondLst>
                            <p:childTnLst>
                              <p:par>
                                <p:cTn id="9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500"/>
                            </p:stCondLst>
                            <p:childTnLst>
                              <p:par>
                                <p:cTn id="9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6500"/>
                            </p:stCondLst>
                            <p:childTnLst>
                              <p:par>
                                <p:cTn id="9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ервичное осмысление изученного и его применение в стандартных ситуац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999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На рисунке &lt;1=&lt;2, &lt;3=&lt;4. Является ли четырехугольник параллелограммом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араллелограмм 3"/>
          <p:cNvSpPr/>
          <p:nvPr/>
        </p:nvSpPr>
        <p:spPr>
          <a:xfrm>
            <a:off x="1357200" y="1643040"/>
            <a:ext cx="2643480" cy="714240"/>
          </a:xfrm>
          <a:prstGeom prst="parallelogram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7"/>
          <p:cNvSpPr/>
          <p:nvPr/>
        </p:nvSpPr>
        <p:spPr>
          <a:xfrm>
            <a:off x="1500120" y="1643040"/>
            <a:ext cx="228600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8"/>
          <p:cNvSpPr/>
          <p:nvPr/>
        </p:nvSpPr>
        <p:spPr>
          <a:xfrm>
            <a:off x="1502280" y="1785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3574080" y="20001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10"/>
          <p:cNvSpPr/>
          <p:nvPr/>
        </p:nvSpPr>
        <p:spPr>
          <a:xfrm>
            <a:off x="2288160" y="16430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2645280" y="20718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928800" y="250020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 На рисунк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1=&lt;2=&lt;3. Является ли четырехугольник параллелограммом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14"/>
          <p:cNvSpPr/>
          <p:nvPr/>
        </p:nvSpPr>
        <p:spPr>
          <a:xfrm>
            <a:off x="1285920" y="3214800"/>
            <a:ext cx="2643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16"/>
          <p:cNvSpPr/>
          <p:nvPr/>
        </p:nvSpPr>
        <p:spPr>
          <a:xfrm>
            <a:off x="1285920" y="3857760"/>
            <a:ext cx="26431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18"/>
          <p:cNvSpPr/>
          <p:nvPr/>
        </p:nvSpPr>
        <p:spPr>
          <a:xfrm flipH="1">
            <a:off x="1643040" y="2928960"/>
            <a:ext cx="57168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20"/>
          <p:cNvSpPr/>
          <p:nvPr/>
        </p:nvSpPr>
        <p:spPr>
          <a:xfrm flipH="1">
            <a:off x="2928600" y="2928960"/>
            <a:ext cx="428760" cy="12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23"/>
          <p:cNvSpPr/>
          <p:nvPr/>
        </p:nvSpPr>
        <p:spPr>
          <a:xfrm>
            <a:off x="1931040" y="3571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24"/>
          <p:cNvSpPr/>
          <p:nvPr/>
        </p:nvSpPr>
        <p:spPr>
          <a:xfrm>
            <a:off x="1645200" y="3286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25"/>
          <p:cNvSpPr/>
          <p:nvPr/>
        </p:nvSpPr>
        <p:spPr>
          <a:xfrm>
            <a:off x="3145320" y="3643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26"/>
          <p:cNvSpPr/>
          <p:nvPr/>
        </p:nvSpPr>
        <p:spPr>
          <a:xfrm>
            <a:off x="1149120" y="4572000"/>
            <a:ext cx="515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 Докажите, что в параллелограмме сумма углов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лежащих к одной стороне, равна 180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еренос знаний и их применение в новых видоизмененных ситуац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зноуровневая 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 уровень (2 балла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рисунк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Q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&lt;М=&lt;Р. Докажите, что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NPQ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параллелограм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                              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                                      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 уровень (4 балла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н параллелограмм АВ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Найдите стороны и углы Δ А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если известно, что ВС=2 см, 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5 см, 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4 см, &lt;С=30º, &lt;С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65º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 уровень (6 баллов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йдите стороны и углы Δ А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если известно, что 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3 дм, ВС на 2 дм больше, периметр Δ А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вен 14 дм, &lt;С=45º, что на 20º меньше, чем &lt;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 уровень (8 баллов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йдите стороны и углы параллелограмма  АВ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если известно, что его большая сторона на 3 м больше меньшей стороны, периметр параллелограмма равен 26 м, а больший угол в 3 раза больше меньшего уг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 уровень (10 баллов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йдите стороны и углы параллелограмма АВ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если высота, проведенная к его большей стороне образует угол в 30º со смежной стороной параллелограмма и делит большую сторону на отрезки 3 см и 5 с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араллелограмм 12"/>
          <p:cNvSpPr/>
          <p:nvPr/>
        </p:nvSpPr>
        <p:spPr>
          <a:xfrm>
            <a:off x="1214280" y="2000160"/>
            <a:ext cx="1216080" cy="571680"/>
          </a:xfrm>
          <a:prstGeom prst="parallelogram">
            <a:avLst>
              <a:gd name="adj" fmla="val 249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бобщение и систематизация новых знаний и способов действ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2" descr="Копия 3_2"/>
          <p:cNvPicPr/>
          <p:nvPr/>
        </p:nvPicPr>
        <p:blipFill>
          <a:blip r:embed="rId1"/>
          <a:stretch/>
        </p:blipFill>
        <p:spPr>
          <a:xfrm>
            <a:off x="1714680" y="1000080"/>
            <a:ext cx="4938480" cy="1857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Копия (2) 3_2"/>
          <p:cNvPicPr/>
          <p:nvPr/>
        </p:nvPicPr>
        <p:blipFill>
          <a:blip r:embed="rId2"/>
          <a:stretch/>
        </p:blipFill>
        <p:spPr>
          <a:xfrm>
            <a:off x="1714680" y="2857680"/>
            <a:ext cx="494820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общение и систематизация новых знаний и способов действ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Чтобы ответить на поставленный вопрос в среде «Живая математика», выполнит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ледующие задания (3 балла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рисуйте параллелограмм АВ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в котором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lt;АВ, &lt;А – тупо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ВС&lt;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&lt;В – тупо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gt;АВ, &lt;С – остры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) ВС&gt;АВ, &l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остры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Нарисуйте параллелограмм АВ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имеющий диагональ, которая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) короче каждой сторон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) длиннее каждой сторон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) равна одной из сторон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) равна каждой сторон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Проверьте следующее утверждение «Сумма квадратов диагонал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аллелограмма равна сумме квадратов его сторон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остановка домашнего зад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28760" y="10000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машнее задание дается дифференцированно, в зависимости от той отметки, которую ученик получил на урок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. 4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5» - №375, 376 (д); задача под запись: «Докажите, что в параллелограмме биссектрисы соседних углов перпендикулярны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4» - № 372 (б), 376 (в, д); задача под запись: «Докажите, что в параллелограмме биссектрисы противоположных углов параллельны или лежат на одной прямой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3», «2» - №372(в), 376 (в); задача под запись: «Через точку О пересечения диагоналей параллелограмма провели прямую. Она пересекает стороны параллелограмма в точках М и Р. Докажите, что точка О – середина отрезка МР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ворческое задание для всех: придумать задачу для соседа по пар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П</a:t>
            </a:r>
            <a:r>
              <a:rPr b="1" lang="ru-RU" sz="3600" spc="-1" strike="noStrike">
                <a:solidFill>
                  <a:srgbClr val="0d0d0d"/>
                </a:solidFill>
                <a:latin typeface="Franklin Gothic Book"/>
              </a:rPr>
              <a:t>ояснитель</a:t>
            </a: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ная запис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95280" y="1268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642960" y="1444680"/>
            <a:ext cx="78580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Геометрия</a:t>
            </a:r>
            <a:r>
              <a:rPr b="0" lang="ru-RU" sz="2200" spc="-1" strike="noStrike">
                <a:solidFill>
                  <a:srgbClr val="000000"/>
                </a:solidFill>
                <a:latin typeface="Franklin Gothic Book"/>
              </a:rPr>
              <a:t> – один из важнейших компонентов математического образования, необходимый для приобретения конкретных знаний о пространстве и практически значимых умений, формирования языка описания объектов окружающего мира, для развития пространственного воображения и интуиции, математической культуры, для эстетического воспитания учащихся. Изучение  геометрии вносит  вклад  в  развитие  логического  мышления, в формирование понятия доказательства, а также в понимание учащимися философского постулата о единстве мира и осознание положения об универсальности математических знани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C:\Users\Юля\Desktop\к презентации\0b2d89063006e6b13f16751ea3cd25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1071720" y="28584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Цели и задачи обучения геометр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428760" y="928800"/>
            <a:ext cx="84294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владение системой математических знаний и умений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, необходимых для применения в практической деятельности, изучения смежных дисциплин, продолжения образ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428760" y="1844640"/>
            <a:ext cx="8429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интеллектуальное развитие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формирование качеств личности, необходимых человеку для полноценной жизни в современном обществе, свойственных математической деятельности: ясности и точности мысли, критичности мышления, интуиции, логического мышления, элементов алгоритмической культуры, пространственных представлений, способности к преодолению трудност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500040" y="3643200"/>
            <a:ext cx="8215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формирование представлений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б идеях и методах математики как универсального языка науки и техники, средства моделирования явлений и процес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539640" y="4724280"/>
            <a:ext cx="6786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оспитание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культуры личности, отношения к математике как к части общечеловеческой культуры, играющей особую роль в общественном развит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хема 2" descr=""/>
          <p:cNvPicPr/>
          <p:nvPr/>
        </p:nvPicPr>
        <p:blipFill>
          <a:blip r:embed="rId1"/>
          <a:stretch/>
        </p:blipFill>
        <p:spPr>
          <a:xfrm>
            <a:off x="517680" y="615960"/>
            <a:ext cx="8437320" cy="5675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альное изучение главы «Четырехугольник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24"/>
          <p:cNvPicPr/>
          <p:nvPr/>
        </p:nvPicPr>
        <p:blipFill>
          <a:blip r:embed="rId1">
            <a:alphaModFix amt="18000"/>
          </a:blip>
          <a:stretch/>
        </p:blipFill>
        <p:spPr>
          <a:xfrm>
            <a:off x="1214280" y="789120"/>
            <a:ext cx="4357800" cy="5678280"/>
          </a:xfrm>
          <a:prstGeom prst="rect">
            <a:avLst/>
          </a:prstGeom>
          <a:ln w="0">
            <a:noFill/>
          </a:ln>
        </p:spPr>
      </p:pic>
      <p:cxnSp>
        <p:nvCxnSpPr>
          <p:cNvPr id="99" name="Прямая со стрелкой 5"/>
          <p:cNvCxnSpPr/>
          <p:nvPr/>
        </p:nvCxnSpPr>
        <p:spPr>
          <a:xfrm flipH="1">
            <a:off x="4785840" y="5786280"/>
            <a:ext cx="2152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Times New Roman"/>
              </a:rPr>
              <a:t>ЦЕЛИ И ЗАДАЧИ РАЗД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285840" y="1571760"/>
            <a:ext cx="85723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ЧЕБНЫ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владение системой математические знаний и умений по разделу «Четырехугольники», необходимых для применения в практической деятельности, изучения смежных дисциплин ( физики, черчения), дальнейшего продолжения образ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ЗВИВАЮЩ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формирование качеств личности для полноценной жизни в современном обществе: ясность и точность мысли, логическое  мышление, пространственное воображ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формирование представлений о методах, применяемых в данном разделе геометрии, как средство моделирования процесс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СПИТАТЕЛЬ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оспитание отношения  к геометрии как к учебному предмету, необходимому в жизни, понимания значимости роли геометрических фигур, в частности, четырехугольников, в развитии нау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о-педагогическое объяснение специфики восприятия и освоения учебного материала учащимися в соответствии с возрастными особенност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285840" y="1714680"/>
            <a:ext cx="3857400" cy="9169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вершенствование таких познавательных процессов как память, речь и мыш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4286160" y="1714680"/>
            <a:ext cx="4714920" cy="9169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витие умения мыслить логически, заниматься теоретическими рассуждениями и самоанализ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285840" y="2928960"/>
            <a:ext cx="3857400" cy="6426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растает способность к абстрактному мышлени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4357800" y="2928960"/>
            <a:ext cx="4572000" cy="6426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иливается  произвольное внимание и памя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285840" y="4000680"/>
            <a:ext cx="3857400" cy="11912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иентированность на деятельность, умение ставить перед собой конкретные задачи и их реализовыв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4356000" y="4005360"/>
            <a:ext cx="4572000" cy="6426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емление найти личностную значимость, смысл учения для себ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8"/>
          <p:cNvSpPr/>
          <p:nvPr/>
        </p:nvSpPr>
        <p:spPr>
          <a:xfrm>
            <a:off x="1571760" y="5357880"/>
            <a:ext cx="4572000" cy="6426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мостоятельная ориентация учащихся на способы усвоения зна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1844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ОЖИДАЕМЫЕ РЕЗУЛЬТАТЫ 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ИЗУЧЕНИЯ РАЗДЕЛА</a:t>
            </a:r>
            <a:br>
              <a:rPr sz="3200"/>
            </a:br>
            <a:r>
              <a:rPr b="0" i="1" lang="ru-RU" sz="3200" spc="-1" strike="noStrike">
                <a:solidFill>
                  <a:srgbClr val="ff3300"/>
                </a:solidFill>
                <a:latin typeface="Times New Roman"/>
              </a:rPr>
              <a:t>Учащиеся должны зна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0040" y="2500200"/>
            <a:ext cx="8229600" cy="10000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многоугольника; выпуклого, невыпуклого многоугольника; четырехугольника; их элем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500040" y="3786120"/>
            <a:ext cx="7000920" cy="8254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, свойства, признаки параллелограмма, прямоугольника, квадрата, ромба, трапе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500040" y="5000760"/>
            <a:ext cx="5746680" cy="45972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е осевой и центральной симмет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500"/>
                            </p:stCondLst>
                            <p:childTnLst>
                              <p:par>
                                <p:cTn id="2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Учитель</cp:lastModifiedBy>
  <dcterms:modified xsi:type="dcterms:W3CDTF">2014-04-15T12:11:22Z</dcterms:modified>
  <cp:revision>198</cp:revision>
  <dc:subject/>
  <dc:title>Слайд 1</dc:title>
</cp:coreProperties>
</file>