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2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move the slide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2F9A-FE6A-4A61-BB98-2FF326DEFD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788-C98F-4742-8C87-DAC569F370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B8C8-62B9-416D-8C7A-5D9CB7F7F6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9DA-ECC3-4035-A70D-93CE7F3F7F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A8B-5F26-4CE6-BA4F-E1B7FCE0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64A-EFD5-4489-85CA-06EF377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F32-38D3-4976-A910-F16C5ECB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DE5-81C5-4A99-B93A-9D21A1FA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4A91-F3EF-4074-8870-E1F2047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345A-A9CE-4EC1-BDD7-E166DFED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39E-BA4B-47D4-BADB-1664BDF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C0D-E16A-4E35-8F11-3B0D9E8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E128-685A-422D-9D63-5BCDCDE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E884-CCDF-40A6-B9D5-DF17AD0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378-6848-4EB7-BD21-04BB08C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D2D-EA4C-4E41-88AD-0BA95992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7656-1632-4506-A468-96CEFE3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C2D-2042-46B1-897A-E2BFAD9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7EEB-A749-4479-BABF-9B006DE9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41FB-5AA8-49C0-9BE6-56FB3B7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FC1-FC51-4841-B374-AFC2F2EA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CD62-4289-4137-89CC-4D8A4CBD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9393-B905-4DFA-935F-42A1822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BAA3-F2D4-4F74-8AC7-BF806135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AEF3-55DC-4D93-8AD5-E7EC85A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499D-78E5-48A3-873C-E121BE8C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A00-27BB-49EF-A273-0492701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CF28-AE4D-4958-B5D9-87BFADA5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52B4-C0F8-46A5-90D6-F3F2B05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FF77-BC0B-478E-9E75-C5896DCA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1FF4-F699-4DFF-B94C-4D86204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515D-16D4-4287-BB7B-216BF90E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4711-0BE5-4331-8759-E46E9C43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F97B-0D82-4E49-931B-6E07BA97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5764-CCAE-486D-A33F-81EEAABC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B6E1-31A6-4C15-8F8E-7B79F26D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CC02-8167-4402-97A5-1339AB5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48A-B06C-43E1-B3FB-9BF84E6C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0609-7937-4934-9C5A-2220E0E5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C81E-C495-4765-B9CC-E5E7167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69E0-8E78-4536-ACD0-04DF13DE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02D5-F55B-4B1A-A4BA-45D0B01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052A-6FB5-4D9D-8509-B02EFA3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3006-6382-4C09-B255-72A07F3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8FF8-B632-444B-9A2F-80E1F6DF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9277-D28C-4347-BEF9-1B1A23AA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1507-AB14-4F1A-A7EC-9479FB4F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0AE6-EB07-45B1-AD75-B226C8CB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E12-5F2C-47C8-9472-53F1B46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C2AA-DB0C-40CB-8F81-7025EB43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386B9-F356-45DA-B86B-92C741A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E260E-85C8-4320-893E-32CAE51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B346-377C-4DE9-9598-6AE0A3CD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71CB-A39F-408E-BC54-35D7C7AB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5E05-1288-492E-AE78-95B12DE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2B13-0B6F-430E-95B7-48BB0C4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FDDE8-40FB-486A-A249-4BE2A17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38C7-E52C-4BA9-A1D5-8979F140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9D10-C9B4-49C3-9B02-1E2EFFB6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F20-E782-48F3-9B55-7309315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3EEE-0723-42F4-A858-CAAD819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63C93-4A94-4497-8F3A-9ED7566A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F5422-6EC2-409D-9503-782E171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A439-CAFB-4CF6-870F-3923402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97620-C8C6-4FE0-B25C-00AE734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E4F47-8D73-4F38-8EAF-0EE027B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CCE9-BAC5-4CF3-B21B-0700DED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EE7D2-EB54-4996-B512-5BD9D56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7D43-E52D-4203-BA1B-9DA1466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1391-C0D7-4AF8-AD48-4F16994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050-7F0A-4016-B95C-B3129404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56FB4-48AA-4AB5-B62E-9BEF9F2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DC391-607F-49A4-92E3-DE22271D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8116-7072-4CCD-898A-F2DC69F6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C354-F675-47E0-9DDD-9F63341C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8FBF-5E9A-487F-9AAA-7EFAF49B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6A6A-7A4C-4DA1-AF6F-9DB933DF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A06D-6C47-468F-9EF2-8A8C0ADF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9295A-1636-4736-9D2F-3DEF670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1E51-DE7F-4A3A-AD56-1C75BE24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29239-5F71-4B7A-9BE7-76324F1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9A2-A1B7-4BEB-A4E0-871FB6D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5C3EF-01E2-4739-B920-6D15202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2D7CF-66E6-462F-9738-A7AAFF5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99F3-20D4-4F33-B797-C5AA57B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E284-18CA-42BC-A00D-B5A0A701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41F6-5443-4B6B-B317-A9B96017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087-9A70-450F-921B-93095D3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C7D-4239-41D1-B009-3455BF394032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E083-0B15-49A7-88AB-6A65E69B1A37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405-07DD-4EF7-9060-D73E0498377E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8DC-4FF9-4051-AB1F-A96E81245D39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873-F9E5-469D-9CBB-C26FED1D35A8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19AD-C8D9-42E4-A316-A764139B729A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47EB-63B5-49D0-A834-B88BDA931279}" type="slidenum">
              <a:rPr b="0" lang="ru-RU" sz="12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6-05/1146679433-Untitled-2_b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512640" y="262080"/>
            <a:ext cx="7979040" cy="2273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71720" y="4785840"/>
            <a:ext cx="7772400" cy="17226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Лопуга В.Ф., доцент кафедры здоровьесберегающих технологи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7" name="Рисунок 10" descr="футбол.jpg"/>
          <p:cNvPicPr/>
          <p:nvPr/>
        </p:nvPicPr>
        <p:blipFill>
          <a:blip r:embed="rId2"/>
          <a:stretch/>
        </p:blipFill>
        <p:spPr>
          <a:xfrm>
            <a:off x="357120" y="2428920"/>
            <a:ext cx="2881440" cy="20001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9" descr="AX059328.jpg"/>
          <p:cNvPicPr/>
          <p:nvPr/>
        </p:nvPicPr>
        <p:blipFill>
          <a:blip r:embed="rId3"/>
          <a:stretch/>
        </p:blipFill>
        <p:spPr>
          <a:xfrm>
            <a:off x="3214800" y="2428920"/>
            <a:ext cx="3111480" cy="2000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Documents and Settings\Василий\Мои документы\Мои рисунки\дети спорт\33.jpeg"/>
          <p:cNvPicPr/>
          <p:nvPr/>
        </p:nvPicPr>
        <p:blipFill>
          <a:blip r:embed="rId4"/>
          <a:stretch/>
        </p:blipFill>
        <p:spPr>
          <a:xfrm>
            <a:off x="6357960" y="2428920"/>
            <a:ext cx="2786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Организация процессов восстановления после нагрузк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смена направленности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: восстановление ускоряется вдвое, если после утомительной нагрузки аэробной направленности применяется небольшая по объему скоростно-силовая нагрузка, а после напряженных скоростно-силовых упражнений выполняется небольшая по объему нагрузка аэробной направленности;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нагрузка в восстанавливающем режиме 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(ЧСС 120- 140 уд/мин) на наработавшие мышцы в двое-трое сокращает время восстановления работавших до утомления мышц;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onstantia"/>
              </a:rPr>
              <a:t>смена внешних раздражителей</a:t>
            </a: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: музыкального сопро­вождения, места занятия, партнеров по команде, — способствует предупреждению переутомления, повы­шает интерес спортсмена к занятиям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Характеристика объемов нагруз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57160"/>
          <a:ext cx="9144000" cy="5538960"/>
        </p:xfrm>
        <a:graphic>
          <a:graphicData uri="http://schemas.openxmlformats.org/drawingml/2006/table">
            <a:tbl>
              <a:tblPr/>
              <a:tblGrid>
                <a:gridCol w="1071720"/>
                <a:gridCol w="4000320"/>
                <a:gridCol w="407196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Объе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Критерии величины на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37638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Решение зада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21348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а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ервая фаза периода устойчивой работоспособности (15- 20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д держание достигнутого уровня тренированности, ускорение процессов восстановления после предшествовавших нагруз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Вторая фаза устойчивой работоспособности (40-60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ддержание достигнутого уровня тренированности, решение частных задач подгото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Знач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Фаза скрытого (компенсированного) утомления (60-75% объема работы, выполняемой до наступления явного утомл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табилизация и дальнейшее повышение тренирова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914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Больш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Явное утомление (100% объема трениро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Повышение тренирова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525920" y="6461280"/>
          <a:ext cx="20808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Constantia"/>
              </a:rPr>
              <a:t>Время суперкомпенсации при различной направленности тренировочной работы (часы)</a:t>
            </a:r>
            <a:endParaRPr b="0" lang="en-US" sz="28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1214280"/>
          <a:ext cx="9144000" cy="5361120"/>
        </p:xfrm>
        <a:graphic>
          <a:graphicData uri="http://schemas.openxmlformats.org/drawingml/2006/table">
            <a:tbl>
              <a:tblPr/>
              <a:tblGrid>
                <a:gridCol w="4857840"/>
                <a:gridCol w="2146320"/>
                <a:gridCol w="2139840"/>
              </a:tblGrid>
              <a:tr h="9565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аправленность тренировочно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Скоростные возмож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Анаэробная вынослив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. Скоростной реж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0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855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2. Режим анаэробной вынослив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2-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. Режим аэробной вынослив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5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24-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6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. Объем средств 30-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0-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6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88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5. Объем средств 40-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35-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855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6. Комплексное: скоростных и ана­эро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8-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16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7. Комплексное: анаэробно-аэроб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6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42-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дарный микроцикл при двухразовом занятия в день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1343160"/>
          <a:ext cx="9144000" cy="5607000"/>
        </p:xfrm>
        <a:graphic>
          <a:graphicData uri="http://schemas.openxmlformats.org/drawingml/2006/table">
            <a:tbl>
              <a:tblPr/>
              <a:tblGrid>
                <a:gridCol w="1857240"/>
                <a:gridCol w="3571920"/>
                <a:gridCol w="3714840"/>
              </a:tblGrid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ренир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очный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ая тренир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ая тренир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ер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ая нагрузка ан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9252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тор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980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рет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е нагрузки скорост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ы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885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Четверт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ительные нагрузки аэроб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ые нагрузки скоростной направлен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ИКР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от 4 до 14 дней)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тягиваюш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удар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одводя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ревнова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осстановительные и т. д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о величине распределения нагрузок микроциклы делятся по пиковости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дно-, двух- и трехпиковы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9" name="Picture 4" descr="C:\Documents and Settings\Василий\Мои документы\Мои рисунки\дети спорт\34.jpeg"/>
          <p:cNvPicPr/>
          <p:nvPr/>
        </p:nvPicPr>
        <p:blipFill>
          <a:blip r:embed="rId1"/>
          <a:stretch/>
        </p:blipFill>
        <p:spPr>
          <a:xfrm>
            <a:off x="5143680" y="1071720"/>
            <a:ext cx="34988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7152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Различия микроциклов по пиковост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и типа реакций организма на чередование нагрузок и отдых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а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максимальный   рост    тренированности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птимальное количество занятий с малыми, большими или значительными нагрузками при рациональном сочетании и чередовании;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б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отсутствие или незначительный эффект тренированности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применение незначительного количества занятий со стимулирующими рост тренированности нагрузками или большому интервалу между занятиями;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в)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100" spc="-1" strike="noStrike">
                <a:solidFill>
                  <a:srgbClr val="5ff3ca"/>
                </a:solidFill>
                <a:latin typeface="Constantia"/>
              </a:rPr>
              <a:t>переутомление, перенапряжение и перетренированность спортсмена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— злоупотребление большими нагрузками, нерациональное использование чередования и недостаточный интервал времени для восстановления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Чередование нагрузок по дням в различных микроциклах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редства восстановления организма спортсмен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едагогическ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сихологические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едико-биологически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Picture 5" descr="C:\Documents and Settings\Василий\Мои документы\Мои рисунки\дети спорт\38.jpeg"/>
          <p:cNvPicPr/>
          <p:nvPr/>
        </p:nvPicPr>
        <p:blipFill>
          <a:blip r:embed="rId1"/>
          <a:stretch/>
        </p:blipFill>
        <p:spPr>
          <a:xfrm>
            <a:off x="6215040" y="457200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Василий\Мои документы\Мои рисунки\дети спорт\42.jpeg"/>
          <p:cNvPicPr/>
          <p:nvPr/>
        </p:nvPicPr>
        <p:blipFill>
          <a:blip r:embed="rId2"/>
          <a:stretch/>
        </p:blipFill>
        <p:spPr>
          <a:xfrm>
            <a:off x="571680" y="4572000"/>
            <a:ext cx="2357280" cy="2025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Василий\Мои документы\Мои рисунки\дети спорт\40.jpeg"/>
          <p:cNvPicPr/>
          <p:nvPr/>
        </p:nvPicPr>
        <p:blipFill>
          <a:blip r:embed="rId3"/>
          <a:stretch/>
        </p:blipFill>
        <p:spPr>
          <a:xfrm>
            <a:off x="3214800" y="4572000"/>
            <a:ext cx="2786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едагогические средства восстановления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тивность и направленность средств и методов тренировочных воздействи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четание объемов и интенсивности нагрузок в тренировке, микро-, мезо- и макроцикл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роение тренировочного занятия, в котором в заключительной части даются нагрузки в восстанавливающем режим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ециальные восстанавливающие тренировочные занятия, микроциклы, переходный период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родные средства: закаливание солнцем, воздухом и водой (холодом и теплом, световое, ультрафиолетовое облучение солнцем и т. д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Система циклов в спортивной подготовке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1680" y="692280"/>
            <a:ext cx="9112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сихологические средства восстановления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876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аморегуляц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аутогенная тренировк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сихорегулирующая тренировк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нушенный сон-отдых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ациональная психо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гипноз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едиарелаксация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7" name="Рисунок 3" descr="Нордическая ходьба - хит сезона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5080" y="4340160"/>
            <a:ext cx="2143080" cy="223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P:\Documents and Settings\Admin\Мои документы\фотоархив\IMG_3417.JPG"/>
          <p:cNvPicPr/>
          <p:nvPr/>
        </p:nvPicPr>
        <p:blipFill>
          <a:blip r:embed="rId3"/>
          <a:stretch/>
        </p:blipFill>
        <p:spPr>
          <a:xfrm>
            <a:off x="6572160" y="285840"/>
            <a:ext cx="22654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Constantia"/>
              </a:rPr>
              <a:t>Медико-биологические средства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2855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электропроцедуры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ветовое, цветовое и ультрафиолетовое облучен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гидропроцедуры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ультразвуковые процедуры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ассаж и мануальная 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ито- и аэрофитотерап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армакологические средства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истема питания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ОС-технологии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1" name="Picture 1" descr="P:\Documents and Settings\Admin\Мои документы\Мои рисунки\дети здоровье\19.jpeg"/>
          <p:cNvPicPr/>
          <p:nvPr/>
        </p:nvPicPr>
        <p:blipFill>
          <a:blip r:embed="rId1"/>
          <a:stretch/>
        </p:blipFill>
        <p:spPr>
          <a:xfrm>
            <a:off x="7000920" y="221472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P:\Documents and Settings\Admin\Мои документы\Мои рисунки\дети здоровье\20.jpeg"/>
          <p:cNvPicPr/>
          <p:nvPr/>
        </p:nvPicPr>
        <p:blipFill>
          <a:blip r:embed="rId2"/>
          <a:stretch/>
        </p:blipFill>
        <p:spPr>
          <a:xfrm>
            <a:off x="6715080" y="457200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Constantia"/>
              </a:rPr>
              <a:t>Средства управления работоспособностью и восстановительными процессами</a:t>
            </a:r>
            <a:endParaRPr b="0" lang="en-US" sz="28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омплекс восстанавливающих мероприятий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ациональное чередование нагрузок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 динамики работоспособности без применения средств восстановления (нагрузка начинается на пике суперкомпенсации от предыдущей тренировки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Избирательное восстановлени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мпонентов работоспособности, которые будут мобилизованы в очередной работе. Первое занятие — скоростные нагрузки, второе — анаэробные (гликолитические) нагруз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редварительное стимулирование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ботоспособности спортсмена перед началом нагрузки с целью повышения общей работоспособности и возможности к быстрой мобилизации функций организма (разминка, стимулирующие средства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onstantia"/>
              </a:rPr>
              <a:t>Средства управления работоспособностью и восстановительными процессами</a:t>
            </a:r>
            <a:endParaRPr b="0" lang="en-US" sz="32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Constantia"/>
              </a:rPr>
              <a:t>Тре</a:t>
            </a: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нировка в условиях среднегорья и высокогорья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особствует увеличению аэробных и анаэробных возможностей организма, экономизации энергозатрат на стандартную нагрузку, повышению устойчивости к гипоксии, преодолению скоростного барьера, развивает способность к более полной мобилизации функциональных резервов организм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в условиях жаркого климата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одит к снижению энергозатрат на поддержание температурного гомеостаза тела спортсмена, что дает ему возможность использовать эти энергозатраты на увеличение объема и интенсивности тренировочных нагрузо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в условиях низких температур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одит к многократному увеличению общего обмена веществ в организме, увеличивает расход энергии на поддержание температурного гомеостаза, что заставляет организм увеличить емкости механизмов энергообеспеч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onstantia"/>
              </a:rPr>
              <a:t>Тренировка при смене часовых поясов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 Спортсмены высшей квалификации вынуждены соревноваться в различных часовых поясах мира, что нарушает суточный ритм, и без предварительной подготовки (искусственной смены времени тренировки) может значительно снизить спортивные результа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ЕЗ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от 3 до 6 недель)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тягиваю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азов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азвивающи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контрольно-подготови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соревновательные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ревновательные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восстановительные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9" name="Picture 1" descr="P:\Documents and Settings\Admin\Мои документы\Мои рисунки\дети спорт\4.jpeg"/>
          <p:cNvPicPr/>
          <p:nvPr/>
        </p:nvPicPr>
        <p:blipFill>
          <a:blip r:embed="rId1"/>
          <a:stretch/>
        </p:blipFill>
        <p:spPr>
          <a:xfrm>
            <a:off x="5572080" y="128592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P:\Documents and Settings\Admin\Мои документы\Мои рисунки\дети спорт\20.jpeg"/>
          <p:cNvPicPr/>
          <p:nvPr/>
        </p:nvPicPr>
        <p:blipFill>
          <a:blip r:embed="rId2"/>
          <a:stretch/>
        </p:blipFill>
        <p:spPr>
          <a:xfrm>
            <a:off x="5643720" y="4572000"/>
            <a:ext cx="2790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Нагрузка микроциклов в мезоциклах различного типа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0" y="1214280"/>
          <a:ext cx="9144000" cy="5486400"/>
        </p:xfrm>
        <a:graphic>
          <a:graphicData uri="http://schemas.openxmlformats.org/drawingml/2006/table">
            <a:tbl>
              <a:tblPr/>
              <a:tblGrid>
                <a:gridCol w="1428840"/>
                <a:gridCol w="2344680"/>
                <a:gridCol w="1893960"/>
                <a:gridCol w="1895400"/>
                <a:gridCol w="158112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езоцик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омера и нагрузка в микроцик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я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тягивающи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начительны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3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4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ительны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3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но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-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гото-в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тельны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ы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5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им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8376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Нагрузка микроциклов в мезоциклах различного типа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0" y="1928880"/>
          <a:ext cx="9144000" cy="4419360"/>
        </p:xfrm>
        <a:graphic>
          <a:graphicData uri="http://schemas.openxmlformats.org/drawingml/2006/table">
            <a:tbl>
              <a:tblPr/>
              <a:tblGrid>
                <a:gridCol w="1357200"/>
                <a:gridCol w="2416320"/>
                <a:gridCol w="1893960"/>
                <a:gridCol w="1895400"/>
                <a:gridCol w="1581120"/>
              </a:tblGrid>
              <a:tr h="2593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сорев-нователь-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4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дар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и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сстанови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­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льны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829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-ва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редн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, 1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няти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о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руз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ревнова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ельн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ые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­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руз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водящий</a:t>
                      </a: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тельный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оревновательн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алая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груз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0" y="1285920"/>
          <a:ext cx="9144000" cy="609480"/>
        </p:xfrm>
        <a:graphic>
          <a:graphicData uri="http://schemas.openxmlformats.org/drawingml/2006/table">
            <a:tbl>
              <a:tblPr/>
              <a:tblGrid>
                <a:gridCol w="1357200"/>
                <a:gridCol w="2416320"/>
                <a:gridCol w="1893960"/>
                <a:gridCol w="1895400"/>
                <a:gridCol w="158112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Мезоцик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Номера и нагрузка в микроцик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Ключевые тезисы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85716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умулятивный эффект, вызванный наслаиванием нескольких тренировок в фазе недовосстановления, применяется только для тренировки высококвалифицированных спортсменов, организм которых способен их переноси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В тренировке юных спортсменов режим наслаивания нагрузок одного микроцикла на другой противопоказан. Для них чередуют микроциклы с различной суммарной нагрузкой, когда микроциклы с большими и значительными нагрузками проводятся в условиях полного восстановления от нагрузок предыдущих микроцик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ТРЕНИРОВОЧНЫЕ МАКРОЦИКЛЫ</a:t>
            </a: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(</a:t>
            </a: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полугодовой и годичный цикл)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тапы многолетней подготовки продолжительностью от 2 до 4 лет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дичные циклы подготовки — если чемпионаты проходят раз в год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лугодичные циклы подготовки — если проводятся зимние и летние чемпионат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Прямоугольник 3"/>
          <p:cNvSpPr/>
          <p:nvPr/>
        </p:nvSpPr>
        <p:spPr>
          <a:xfrm>
            <a:off x="571680" y="4500720"/>
            <a:ext cx="47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выделяют три период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готови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ревнова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ход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1" descr="P:\Documents and Settings\Admin\Мои документы\Мои рисунки\дети спорт\27.jpeg"/>
          <p:cNvPicPr/>
          <p:nvPr/>
        </p:nvPicPr>
        <p:blipFill>
          <a:blip r:embed="rId1"/>
          <a:stretch/>
        </p:blipFill>
        <p:spPr>
          <a:xfrm>
            <a:off x="5572080" y="4643280"/>
            <a:ext cx="29386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труктура годичного цикла подготовки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87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1. Подготовительный период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ключает мезоциклы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тягивающи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зовы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вающий 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трольно-подготовительный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ва этап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бщеподготовите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втягивающий, базовый и развивающий мезоциклы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специально-подготовите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базовый, развивающий и контрольно-подготовительный мезоциклы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4" name="Picture 1" descr="P:\Documents and Settings\Admin\Мои документы\Мои рисунки\дети спорт\28.jpeg"/>
          <p:cNvPicPr/>
          <p:nvPr/>
        </p:nvPicPr>
        <p:blipFill>
          <a:blip r:embed="rId1"/>
          <a:stretch/>
        </p:blipFill>
        <p:spPr>
          <a:xfrm>
            <a:off x="6286680" y="1928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РОВНИ СТРУКТУРЫ ТРЕНИРОВОЧНОГО ПРОЦЕССА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2960" y="1784520"/>
            <a:ext cx="804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икр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отдельных занятий и микроциклов (от 3 до 10 дней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++!! микроциклы календарной недел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ез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средних циклов тренировки (от 14 до 40 дней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++!! мезоциклы календарного месяца (4 недели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3-й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 — макро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структура больших циклов (от 6 месяцев до 4 лет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1748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акроцикл имеет законченную структуру цикла спортивной трениров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8520" indent="-3322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труктура годичного цикла подготов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71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2.</a:t>
            </a:r>
            <a:r>
              <a:rPr b="1" lang="ru-RU" sz="2300" spc="-1" strike="noStrike">
                <a:solidFill>
                  <a:srgbClr val="ff0000"/>
                </a:solidFill>
                <a:latin typeface="Constantia"/>
              </a:rPr>
              <a:t> Соревновательный период</a:t>
            </a: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Два этапа: предсоревновательный,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соревновательный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onstantia"/>
              </a:rPr>
              <a:t>3. Переходный период</a:t>
            </a:r>
            <a:r>
              <a:rPr b="0" lang="ru-RU" sz="23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Четыре этапа: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лавное снижение нагрузок (активное восстановление)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активный отдых и медицинская реабилитация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ассивный отдых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одготовка организма к очередному макроциклу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57" name="Picture 1" descr="P:\Documents and Settings\Admin\Мои документы\Мои рисунки\дети спорт\29.jpeg"/>
          <p:cNvPicPr/>
          <p:nvPr/>
        </p:nvPicPr>
        <p:blipFill>
          <a:blip r:embed="rId1"/>
          <a:stretch/>
        </p:blipFill>
        <p:spPr>
          <a:xfrm>
            <a:off x="500040" y="5000760"/>
            <a:ext cx="2857680" cy="167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P:\Documents and Settings\Admin\Мои документы\Мои рисунки\дети спорт\30.jpeg"/>
          <p:cNvPicPr/>
          <p:nvPr/>
        </p:nvPicPr>
        <p:blipFill>
          <a:blip r:embed="rId2"/>
          <a:stretch/>
        </p:blipFill>
        <p:spPr>
          <a:xfrm>
            <a:off x="3357720" y="4929120"/>
            <a:ext cx="2714400" cy="1714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P:\Documents and Settings\Admin\Мои документы\Мои рисунки\дети спорт\23.jpeg"/>
          <p:cNvPicPr/>
          <p:nvPr/>
        </p:nvPicPr>
        <p:blipFill>
          <a:blip r:embed="rId3"/>
          <a:stretch/>
        </p:blipFill>
        <p:spPr>
          <a:xfrm>
            <a:off x="6072120" y="4857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Constantia"/>
              </a:rPr>
              <a:t>СТРУКТУРА МНОГОЛЕТНЕЙ ПОДГОТОВКИ</a:t>
            </a:r>
            <a:br>
              <a:rPr sz="3600"/>
            </a:br>
            <a:endParaRPr b="0" lang="en-US" sz="32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nstantia"/>
              </a:rPr>
              <a:t>Этапы многолетней тренировки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начальный или предварительный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бщеподготовительный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пециализированный базовой подготовки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максимальной реализации индивидуальных возможностей,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сохранения достижений 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еадаптации в спорте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62" name="Picture 1" descr="P:\Documents and Settings\Admin\Мои документы\Мои рисунки\дети спорт\3.jpeg"/>
          <p:cNvPicPr/>
          <p:nvPr/>
        </p:nvPicPr>
        <p:blipFill>
          <a:blip r:embed="rId1"/>
          <a:stretch/>
        </p:blipFill>
        <p:spPr>
          <a:xfrm>
            <a:off x="5786280" y="4500720"/>
            <a:ext cx="27673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ffff"/>
                </a:solidFill>
                <a:latin typeface="Constantia"/>
              </a:rPr>
              <a:t>Динамика объема и интенсивности работы на этапах многолетней подготовки</a:t>
            </a:r>
            <a:endParaRPr b="0" lang="en-US" sz="2900" spc="-1" strike="noStrike">
              <a:solidFill>
                <a:srgbClr val="ccffff"/>
              </a:solidFill>
              <a:latin typeface="Constanti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0" y="1285920"/>
          <a:ext cx="9144000" cy="5572080"/>
        </p:xfrm>
        <a:graphic>
          <a:graphicData uri="http://schemas.openxmlformats.org/drawingml/2006/table">
            <a:tbl>
              <a:tblPr/>
              <a:tblGrid>
                <a:gridCol w="3311640"/>
                <a:gridCol w="1954080"/>
                <a:gridCol w="1924200"/>
                <a:gridCol w="1954080"/>
              </a:tblGrid>
              <a:tr h="12970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ок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нсивных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грузок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нсивной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ы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м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4680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ч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57024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варительны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0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-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8-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77940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ециализированны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аз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-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0-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129672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ой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ализации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ндивидуальных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озмож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5-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5-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0-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69228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хранения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-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-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  <a:tr h="468360"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-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-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596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tantia"/>
              </a:rPr>
              <a:t>Ключевые тезисы</a:t>
            </a:r>
            <a:endParaRPr b="0" lang="en-US" sz="40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28760" y="1999800"/>
            <a:ext cx="7500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ая продолжительность многолетней подготовки в конкретном виде спорта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ремя, необходимое для достижения высших спортивных результато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зраст, в который достигнут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ртивные результа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90240" indent="-32544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67" name="Picture 1" descr="P:\Documents and Settings\Admin\Мои документы\Мои рисунки\дети спорт\11.jpeg"/>
          <p:cNvPicPr/>
          <p:nvPr/>
        </p:nvPicPr>
        <p:blipFill>
          <a:blip r:embed="rId1"/>
          <a:stretch/>
        </p:blipFill>
        <p:spPr>
          <a:xfrm>
            <a:off x="6072120" y="285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P:\Documents and Settings\Admin\Мои документы\Мои рисунки\дети спорт\21.jpeg"/>
          <p:cNvPicPr/>
          <p:nvPr/>
        </p:nvPicPr>
        <p:blipFill>
          <a:blip r:embed="rId2"/>
          <a:stretch/>
        </p:blipFill>
        <p:spPr>
          <a:xfrm>
            <a:off x="6357960" y="47862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72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Стратегия и тактика многолетней подготовки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28400" y="1599840"/>
            <a:ext cx="8715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Подведение объема наивысших нагрузок к оптимальному возрасту спортсмена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Осторожное планирование тренировочного процесса в пубертатный период развития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Исключение побочных эффектов ранней спортивной специализации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Оптимальное  соотношение интенсификации тренировочного процесса и периода выступлений спортсменов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Необходимость системы коррекции эмоционально-психического, функционального и физического истощения организма спортсмена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2" indent="27468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Своевременный переход из одной дисциплины в другую дисциплину или другой вид спорта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68200" y="103320"/>
            <a:ext cx="6096240" cy="1311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786880" cy="4714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Центр психолого-валеологического образования АКИПКР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Кафедра здоровьесберегающих технологи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тдел  сопровождения школ здоровь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      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Электронная почта:</a:t>
            </a:r>
            <a:r>
              <a:rPr b="1" lang="en-US" sz="2200" spc="-1" strike="noStrike">
                <a:solidFill>
                  <a:srgbClr val="20c9f8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lopuga@akipkro.ru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1" lang="ru-RU" sz="2200" spc="-1" strike="noStrike">
                <a:solidFill>
                  <a:srgbClr val="20c9f8"/>
                </a:solidFill>
                <a:latin typeface="Constantia"/>
              </a:rPr>
              <a:t>интернет-сайт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www.valeo.akipkro.ru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f6fc6"/>
                </a:solidFill>
                <a:latin typeface="Constantia"/>
              </a:rPr>
              <a:t>                       </a:t>
            </a: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Телефоны: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8-3852- 36-19-80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                               </a:t>
            </a:r>
            <a:r>
              <a:rPr b="1" lang="ru-RU" sz="2200" spc="-1" strike="noStrike">
                <a:solidFill>
                  <a:srgbClr val="b5edfd"/>
                </a:solidFill>
                <a:latin typeface="Constantia"/>
              </a:rPr>
              <a:t>Адрес: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656049, г. Барнаул,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пр-т Социалистический,60, каб.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17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469800" indent="-469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786720" y="214200"/>
            <a:ext cx="235728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Constantia"/>
              </a:rPr>
              <a:t>Основания построения структуры тренировочного процесса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2071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ономерности становления спортивного мастерства в конкретном виде спор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кономерности явления суперкомпенсации и гетерохронности восстановительных процессов, адаптации организма к перенесению тренировочных и соревновательных нагрузо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indent="16884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оки календарных соревнова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Условия и организация проведения тренировочного занятия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рограммное обеспечение: годовое и поурочное планирование, расписание занят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адровое обеспечение: наличие тренера по спор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атериально-техническое обеспечение: наличие спортивного зала, спортивного стадиона, спортивного инвентаря (лыжи, спортивные снаряды, свисток, хронометр, протоколы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анитарно-гигиеническое обеспечение: соответствие спортивной формы, спортивных сооружений и снарядов санитарно-гигиеническим требованиям, соблюдение правил занятий на свежем воздухе, в бассейне, спортза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indent="236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рачебно-физкультурное обеспечение: контроль за состоянием здоровья, допуск к занятиям спортом и соревнования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Constantia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Педагогическая направленность занятий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хема последовательности задач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бучение,  закрепление, совершенствование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 развитии физических качеств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гибкость, координация, быстрота, сила и выносливость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 развитии энергетических механизмов: анаэробные (креатинфосфатные), анаэробные (гликолитические), аэробны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Сочетания средств различной направленности</a:t>
            </a:r>
            <a:br>
              <a:rPr sz="2500"/>
            </a:b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115964"/>
          </a:solidFill>
          <a:ln w="9360">
            <a:solidFill>
              <a:srgbClr val="0d0d0d"/>
            </a:solidFill>
            <a:miter/>
          </a:ln>
        </p:spPr>
        <p:txBody>
          <a:bodyPr anchor="t">
            <a:normAutofit fontScale="95000"/>
          </a:bodyPr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оложительное сочетание, </a:t>
            </a:r>
            <a:r>
              <a:rPr b="1" lang="ru-RU" sz="2400" spc="-1" strike="noStrike">
                <a:solidFill>
                  <a:srgbClr val="c9fafc"/>
                </a:solidFill>
                <a:latin typeface="Constantia"/>
              </a:rPr>
              <a:t>когда очередная нагрузка усиливает физиологические сдвиги, вызванные предыдущей нагрузкой. Например, упражнения алактатной анаэробной работы усиливают эффект гликолитической анаэробной направлен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425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ейтральное сочетание, </a:t>
            </a: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когда очередная нагрузка существенно не изменяет характера и величины ответных реакций организма. Например, нагрузки анаэробной направленности не сказываются на развитии аэроб­ных способносте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425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02720" indent="-27144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Отрицательное сочетание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, когда последующая нагрузка уменьшает сдвиги, возникшие в ответ на предыдущие воздействия. Например, длительная аэробная нагрузка снижает эффект гликолитической анаэробной направлен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Constantia"/>
              </a:rPr>
              <a:t>Рациональное построение тренировки </a:t>
            </a:r>
            <a:endParaRPr b="0" lang="en-US" sz="3600" spc="-1" strike="noStrike">
              <a:solidFill>
                <a:srgbClr val="ccffff"/>
              </a:solidFill>
              <a:latin typeface="Constant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вначале тренировки проводить упражнения алактатного анаэробного характера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затем лактатного анаэробного характера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в конце - аэробной направленности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Picture 2" descr="C:\Documents and Settings\Василий\Мои документы\Мои рисунки\дети спорт\36.jpeg"/>
          <p:cNvPicPr/>
          <p:nvPr/>
        </p:nvPicPr>
        <p:blipFill>
          <a:blip r:embed="rId1"/>
          <a:stretch/>
        </p:blipFill>
        <p:spPr>
          <a:xfrm>
            <a:off x="357120" y="478620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" descr="C:\Documents and Settings\Василий\Мои документы\Мои рисунки\дети спорт\25.jpeg"/>
          <p:cNvPicPr/>
          <p:nvPr/>
        </p:nvPicPr>
        <p:blipFill>
          <a:blip r:embed="rId2"/>
          <a:stretch/>
        </p:blipFill>
        <p:spPr>
          <a:xfrm>
            <a:off x="3214800" y="4838760"/>
            <a:ext cx="2928960" cy="2019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Documents and Settings\Василий\Мои документы\Мои рисунки\дети спорт\10.jpeg"/>
          <p:cNvPicPr/>
          <p:nvPr/>
        </p:nvPicPr>
        <p:blipFill>
          <a:blip r:embed="rId3"/>
          <a:stretch/>
        </p:blipFill>
        <p:spPr>
          <a:xfrm>
            <a:off x="6143760" y="4857840"/>
            <a:ext cx="30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0" y="-360"/>
            <a:ext cx="91440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Упражнения, преимущественно способствующие повышению алактатных анаэробных способностей. Продолжительность работы 10—15 с, интенсивность максимальная. Упражнения используются в режиме повторного выполнения, серия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94f7dc"/>
                </a:solidFill>
                <a:latin typeface="Constantia"/>
              </a:rPr>
              <a:t>Упражнения, позволяющие параллельно совершенствовать алактатные и лактатные анаэробные способности. Продолжительность работы 15—30 с, интенсивность 90—100% от максимально доступн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Упражнения, способствующие повышению лактатных анаэробных возможностей. Продолжительность работы 30—60 с, интенсивность 85—90% от максимально доступн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. Упражнения, позволяющие параллельно совершенствовать алактатные анаэробные и аэробные возможности. Продолжительность работы 1—5 мин, интенсивность 85—90% от максимально доступно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6:23:34Z</dcterms:created>
  <dc:creator>Admin</dc:creator>
  <dc:description/>
  <dc:language>en-US</dc:language>
  <cp:lastModifiedBy>Admin</cp:lastModifiedBy>
  <dcterms:modified xsi:type="dcterms:W3CDTF">2014-02-10T07:56:20Z</dcterms:modified>
  <cp:revision>20</cp:revision>
  <dc:subject/>
  <dc:title>   Содержание и методика организации тренировочного процесса    </dc:title>
</cp:coreProperties>
</file>