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2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move the slide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632F-D4EC-4780-95A7-F23D65DC4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8672-8072-42EE-8645-2BC0AD7D61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533A-C33F-4301-A1F1-3353676738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B27-12F3-4A6E-A189-CFD7AEA776D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87F-A42A-4E84-B10C-043AB758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2C6-C747-4ACA-B4E3-5403335A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8B7-0E07-43C5-B61C-7FE97FCA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BC7-8503-4EDB-A46E-57F39ADA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9F5E-D5EB-44F6-8C0A-86066CB5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ECC-1D39-46E4-B4E0-816CF14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5148-BB51-482C-B0EA-0B2CAD67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BE2C-DF8C-44E0-86A7-9FBF7572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4598-F8F6-46E8-8B4B-2D41C874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D979-8E0B-4D9C-9546-3B4580A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62F3-7B1A-4F3B-ABF9-7AF1115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20C-186D-4517-B7AC-FE7EB420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7B52-6A5F-4BE9-A80A-4FFF6FA6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333F-7A6F-4F39-A605-15306C38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D1AE-A638-4F6E-8A5F-EBD1B37C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CD29-C1C0-4FFD-A7DA-11520F31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5A84-080F-480B-B576-899981C7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BF0A-C857-497F-A192-A6F2A37A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6A78-A6DC-48EA-B51C-9EF8832C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1097-6AEC-430C-8D92-DB8EB939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46B8-5EAA-4290-9B5D-E80FC247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FA9E-45A0-4EC6-9BAF-E6EA9D5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5A1-3030-4789-AA70-6B9B8FA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823A-5C1C-4526-AE14-E54978B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1E7C-979C-42F0-AA9D-76835B4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C391-4CE1-46D0-BE03-A2C8849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0D28-51EB-4E3E-9A9B-85545CAE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164FC-7E26-4F27-A7F8-41F5B0E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5A22-5E8D-4B67-AB7E-B4D16970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0288-F077-4792-BF7A-E4F799C0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76C9A-CF27-4C40-A957-6FA3A441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E2284-35D8-4CF0-921D-D2CD51B6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2CCC-1593-4CE8-87FE-CFD8DF90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CE5-7C24-420C-8AD7-9171935E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28EC6-EDE5-49CC-8CDC-6351768A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7E3E-D85B-4034-9721-BD403DFC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FA80-3E3C-458D-86A6-C5C8B023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A3B9-40A1-4AAB-AD8B-6C65212C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19B1-0166-4816-AB04-AF6104D1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8AE6-2A2C-4964-A571-E86CFF32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8BDED-9BAE-4079-A1B0-989B2A9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D520-513E-4A1D-8976-1A7105B2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1817-4F50-4B0A-B9A6-955414AD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2A9C-9251-4216-8E23-86D95371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2DD-E48B-488B-8A44-4D9C098C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10F38-AC47-4D20-9C65-2650A7D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F5E14-90F9-4167-AF8F-A317E428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267E-1380-4AB6-A110-3706361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773A-BA28-4F9A-8252-38C059C3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A5EBC-287B-4D46-A9C9-04F95D27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2BD00-B2E2-4340-9D02-B55A103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DD8E-703E-4B7C-8315-A55F34C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17699-5EBC-495A-8C45-4449942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4223-1A8F-48E9-A1BB-0F059E7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E0E76-4E44-4839-9D52-1E9C4BD6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0C8-BD5D-4BA5-8783-4F33A271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861BC-17ED-4264-95E8-D3E3DC88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09ABB-6AB7-4D66-AD27-9B1FF104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EC54-237D-4514-8B9D-FCDE3CC6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89D2A-7063-4276-AEC4-B1FF886B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C936-B8A5-4C45-BF94-12D58459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0FEA5-BA75-452A-8B1F-3CF7EE0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D2A0-4EA7-4CB2-8DA9-2F7B781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49E3-ED12-4A4A-8DEE-ABCE79B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F7A95-1E67-4A48-8239-9AE8EC2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CCFE0-59CF-47B7-92F6-3BB6B84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D6E-1339-4A9B-BFCF-5FE50A93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5AC2-BB1A-42D3-9F27-7DD7C162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DFF79-68FA-419A-ADC8-FDF09977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FCB1-38C1-4A56-90A7-842A7875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F431-5BF6-4ADE-99C7-1D06CB7B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6C356-2A02-4850-B8D5-3E909CB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ADFA-22B2-47C5-A0EC-877E735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9C72-2350-4527-A706-5B62B19F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37D50-7EF6-4AB1-8A3E-C046D047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0AF3-5343-4A4E-80FE-86036E8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EF33-1D98-4A33-A5A9-A2D7D54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949-3188-4597-A93F-7A701E7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5F18-5CD1-4A37-B8E3-002FCE7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9628-7EDE-4522-B64D-D2CC5ADE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4A674-CD4B-47E1-AE1D-4A91DD33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E0B16-9851-46FF-A774-6A3B6C1B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0C0A7-8DB7-4268-A87E-B8596DBE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498-3141-4C83-A718-4933841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C18-63A7-4783-8629-2FEE4DB765EF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9443-A33A-4E2A-AA0F-98C78A547454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D0F6-A1EE-4C09-8CC3-07A3656197B1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717A-1755-4E38-BCA4-722AA05250AD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8559-D668-4E67-A822-1EBB29487936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6F52-3980-4934-8305-92D5B4662DAC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95A9-34C8-4949-878F-228FFFBE709B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6-05/1146679433-Untitled-2_b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512640" y="262080"/>
            <a:ext cx="7979040" cy="2273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071720" y="4785840"/>
            <a:ext cx="7772400" cy="17226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Лопуга В.Ф., доцент кафедры здоровьесберегающих технологи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7" name="Рисунок 10" descr="футбол.jpg"/>
          <p:cNvPicPr/>
          <p:nvPr/>
        </p:nvPicPr>
        <p:blipFill>
          <a:blip r:embed="rId2"/>
          <a:stretch/>
        </p:blipFill>
        <p:spPr>
          <a:xfrm>
            <a:off x="357120" y="2428920"/>
            <a:ext cx="2881440" cy="20001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9" descr="AX059328.jpg"/>
          <p:cNvPicPr/>
          <p:nvPr/>
        </p:nvPicPr>
        <p:blipFill>
          <a:blip r:embed="rId3"/>
          <a:stretch/>
        </p:blipFill>
        <p:spPr>
          <a:xfrm>
            <a:off x="3214800" y="2428920"/>
            <a:ext cx="3111480" cy="2000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Documents and Settings\Василий\Мои документы\Мои рисунки\дети спорт\33.jpeg"/>
          <p:cNvPicPr/>
          <p:nvPr/>
        </p:nvPicPr>
        <p:blipFill>
          <a:blip r:embed="rId4"/>
          <a:stretch/>
        </p:blipFill>
        <p:spPr>
          <a:xfrm>
            <a:off x="6357960" y="2428920"/>
            <a:ext cx="2786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Организация процессов восстановления после нагрузки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смена направленности</a:t>
            </a:r>
            <a:r>
              <a:rPr b="1" lang="ru-RU" sz="2300" spc="-1" strike="noStrike">
                <a:solidFill>
                  <a:srgbClr val="ffffff"/>
                </a:solidFill>
                <a:latin typeface="Constantia"/>
              </a:rPr>
              <a:t>: восстановление ускоряется вдвое, если после утомительной нагрузки аэробной направленности применяется небольшая по объему скоростно-силовая нагрузка, а после напряженных скоростно-силовых упражнений выполняется небольшая по объему нагрузка аэробной направленности;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нагрузка в восстанавливающем режиме </a:t>
            </a:r>
            <a:r>
              <a:rPr b="1" lang="ru-RU" sz="2300" spc="-1" strike="noStrike">
                <a:solidFill>
                  <a:srgbClr val="ffffff"/>
                </a:solidFill>
                <a:latin typeface="Constantia"/>
              </a:rPr>
              <a:t>(ЧСС 120- 140 уд/мин) на наработавшие мышцы в двое-трое сокращает время восстановления работавших до утомления мышц;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смена внешних раздражителей</a:t>
            </a:r>
            <a:r>
              <a:rPr b="1" lang="ru-RU" sz="2300" spc="-1" strike="noStrike">
                <a:solidFill>
                  <a:srgbClr val="ffffff"/>
                </a:solidFill>
                <a:latin typeface="Constantia"/>
              </a:rPr>
              <a:t>: музыкального сопро­вождения, места занятия, партнеров по команде, — способствует предупреждению переутомления, повы­шает интерес спортсмена к занятиям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Характеристика объемов нагрузки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57160"/>
          <a:ext cx="9144000" cy="5538960"/>
        </p:xfrm>
        <a:graphic>
          <a:graphicData uri="http://schemas.openxmlformats.org/drawingml/2006/table">
            <a:tbl>
              <a:tblPr/>
              <a:tblGrid>
                <a:gridCol w="1071720"/>
                <a:gridCol w="4000320"/>
                <a:gridCol w="407196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Объе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Критерии величины нагруз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3763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Решение зада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21348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Ма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ервая фаза периода устойчивой работоспособности (15- 20% объема работы, выполняемой до наступления явного утомл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од держание достигнутого уровня тренированности, ускорение процессов восстановления после предшествовавших нагруз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Вторая фаза устойчивой работоспособности (40-60% объема работы, выполняемой до наступления явного утомл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оддержание достигнутого уровня тренированности, решение частных задач подгото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Знач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Фаза скрытого (компенсированного) утомления (60-75% объема работы, выполняемой до наступления явного утомл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Стабилизация и дальнейшее повышение тренирова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91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Больш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Явное утомление (100% объема тренировк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овышение тренирова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4525920" y="6461280"/>
          <a:ext cx="20808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Constantia"/>
              </a:rPr>
              <a:t>Время суперкомпенсации при различной направленности тренировочной работы (часы)</a:t>
            </a:r>
            <a:endParaRPr b="0" lang="en-US" sz="28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1214280"/>
          <a:ext cx="9144000" cy="5361120"/>
        </p:xfrm>
        <a:graphic>
          <a:graphicData uri="http://schemas.openxmlformats.org/drawingml/2006/table">
            <a:tbl>
              <a:tblPr/>
              <a:tblGrid>
                <a:gridCol w="4857840"/>
                <a:gridCol w="2146320"/>
                <a:gridCol w="2139840"/>
              </a:tblGrid>
              <a:tr h="9565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Направленность тренировочной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Скоростные возмож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Анаэробная вынослив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. Скоростной реж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30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0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8557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2. Режим анаэробной вынослив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8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2-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882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3. Режим аэробной вынослив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5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24-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886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. Объем средств 30-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0-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6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882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5. Объем средств 40-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8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35-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8557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6. Комплексное: скоростных и ана­эроб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8-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6-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7. Комплексное: анаэробно-аэроб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6-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2-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Ударный микроцикл при двухразовом занятия в день</a:t>
            </a: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1343160"/>
          <a:ext cx="9144000" cy="5607000"/>
        </p:xfrm>
        <a:graphic>
          <a:graphicData uri="http://schemas.openxmlformats.org/drawingml/2006/table">
            <a:tbl>
              <a:tblPr/>
              <a:tblGrid>
                <a:gridCol w="1857240"/>
                <a:gridCol w="3571920"/>
                <a:gridCol w="3714840"/>
              </a:tblGrid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ренир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очный д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ая трениров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ая трениров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ер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ая нагрузка ан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9252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тор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и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980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рет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ие нагрузки скорост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ы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3885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Четвер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ительны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ые нагрузки скорост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ЕНИРОВОЧНЫЕ МИКРОЦИКЛЫ</a:t>
            </a: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(от 4 до 14 дней)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тягиваюш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удар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одводящ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оревнователь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осстановительные и т. д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о величине распределения нагрузок микроциклы делятся по пиковости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одно-, двух- и трехпиковые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9" name="Picture 4" descr="C:\Documents and Settings\Василий\Мои документы\Мои рисунки\дети спорт\34.jpeg"/>
          <p:cNvPicPr/>
          <p:nvPr/>
        </p:nvPicPr>
        <p:blipFill>
          <a:blip r:embed="rId1"/>
          <a:stretch/>
        </p:blipFill>
        <p:spPr>
          <a:xfrm>
            <a:off x="5143680" y="1071720"/>
            <a:ext cx="34988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7152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Различия микроциклов по пиковости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и типа реакций организма на чередование нагрузок и отдыха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а)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100" spc="-1" strike="noStrike">
                <a:solidFill>
                  <a:srgbClr val="5ff3ca"/>
                </a:solidFill>
                <a:latin typeface="Constantia"/>
              </a:rPr>
              <a:t>максимальный   рост    тренированности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—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птимальное количество занятий с малыми, большими или значительными нагрузками при рациональном сочетании и чередовании;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б)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100" spc="-1" strike="noStrike">
                <a:solidFill>
                  <a:srgbClr val="5ff3ca"/>
                </a:solidFill>
                <a:latin typeface="Constantia"/>
              </a:rPr>
              <a:t>отсутствие или незначительный эффект тренированности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— применение незначительного количества занятий со стимулирующими рост тренированности нагрузками или большому интервалу между занятиями;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)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100" spc="-1" strike="noStrike">
                <a:solidFill>
                  <a:srgbClr val="5ff3ca"/>
                </a:solidFill>
                <a:latin typeface="Constantia"/>
              </a:rPr>
              <a:t>переутомление, перенапряжение и перетренированность спортсмена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— злоупотребление большими нагрузками, нерациональное использование чередования и недостаточный интервал времени для восстановления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Чередование нагрузок по дням в различных микроциклах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редства восстановления организма спортсмена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едагогическ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сихологические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едико-биологические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Picture 5" descr="C:\Documents and Settings\Василий\Мои документы\Мои рисунки\дети спорт\38.jpeg"/>
          <p:cNvPicPr/>
          <p:nvPr/>
        </p:nvPicPr>
        <p:blipFill>
          <a:blip r:embed="rId1"/>
          <a:stretch/>
        </p:blipFill>
        <p:spPr>
          <a:xfrm>
            <a:off x="6215040" y="457200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Василий\Мои документы\Мои рисунки\дети спорт\42.jpeg"/>
          <p:cNvPicPr/>
          <p:nvPr/>
        </p:nvPicPr>
        <p:blipFill>
          <a:blip r:embed="rId2"/>
          <a:stretch/>
        </p:blipFill>
        <p:spPr>
          <a:xfrm>
            <a:off x="571680" y="4572000"/>
            <a:ext cx="2357280" cy="2025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Василий\Мои документы\Мои рисунки\дети спорт\40.jpeg"/>
          <p:cNvPicPr/>
          <p:nvPr/>
        </p:nvPicPr>
        <p:blipFill>
          <a:blip r:embed="rId3"/>
          <a:stretch/>
        </p:blipFill>
        <p:spPr>
          <a:xfrm>
            <a:off x="3214800" y="4572000"/>
            <a:ext cx="2786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Педагогические средства восстановления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тивность и направленность средств и методов тренировочных воздействи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четание объемов и интенсивности нагрузок в тренировке, микро-, мезо- и макроцикл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роение тренировочного занятия, в котором в заключительной части даются нагрузки в восстанавливающем режим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ециальные восстанавливающие тренировочные занятия, микроциклы, переходный период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родные средства: закаливание солнцем, воздухом и водой (холодом и теплом, световое, ультрафиолетовое облучение солнцем и т. д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Система циклов в спортивной подготовке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1680" y="692280"/>
            <a:ext cx="9112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Психологические средства восстановления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876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аморегуляц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аутогенная тренировка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сихорегулирующая тренировка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нушенный сон-отдых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ациональная психотерап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гипноз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едиарелаксация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7" name="Рисунок 3" descr="Нордическая ходьба - хит сезона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4340160"/>
            <a:ext cx="2143080" cy="2232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P:\Documents and Settings\Admin\Мои документы\фотоархив\IMG_3417.JPG"/>
          <p:cNvPicPr/>
          <p:nvPr/>
        </p:nvPicPr>
        <p:blipFill>
          <a:blip r:embed="rId3"/>
          <a:stretch/>
        </p:blipFill>
        <p:spPr>
          <a:xfrm>
            <a:off x="6572160" y="285840"/>
            <a:ext cx="22654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Constantia"/>
              </a:rPr>
              <a:t>Медико-биологические средства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2855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электропроцедуры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ветовое, цветовое и ультрафиолетовое облучен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гидропроцедуры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ультразвуковые процедуры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ассаж и мануальная терап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ито- и аэрофитотерап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армакологические средства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истема питан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ОС-технологии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1" name="Picture 1" descr="P:\Documents and Settings\Admin\Мои документы\Мои рисунки\дети здоровье\19.jpeg"/>
          <p:cNvPicPr/>
          <p:nvPr/>
        </p:nvPicPr>
        <p:blipFill>
          <a:blip r:embed="rId1"/>
          <a:stretch/>
        </p:blipFill>
        <p:spPr>
          <a:xfrm>
            <a:off x="7000920" y="221472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P:\Documents and Settings\Admin\Мои документы\Мои рисунки\дети здоровье\20.jpeg"/>
          <p:cNvPicPr/>
          <p:nvPr/>
        </p:nvPicPr>
        <p:blipFill>
          <a:blip r:embed="rId2"/>
          <a:stretch/>
        </p:blipFill>
        <p:spPr>
          <a:xfrm>
            <a:off x="6715080" y="457200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Constantia"/>
              </a:rPr>
              <a:t>Средства управления работоспособностью и восстановительными процессами</a:t>
            </a:r>
            <a:endParaRPr b="0" lang="en-US" sz="28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Комплекс восстанавливающих мероприятий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Рациональное чередование нагрузок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 динамики работоспособности без применения средств восстановления (нагрузка начинается на пике суперкомпенсации от предыдущей тренировки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Избирательное восстановлени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мпонентов работоспособности, которые будут мобилизованы в очередной работе. Первое занятие — скоростные нагрузки, второе — анаэробные (гликолитические) нагруз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редварительное стимулировани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аботоспособности спортсмена перед началом нагрузки с целью повышения общей работоспособности и возможности к быстрой мобилизации функций организма (разминка, стимулирующие средства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onstantia"/>
              </a:rPr>
              <a:t>Средства управления работоспособностью и восстановительными процессами</a:t>
            </a:r>
            <a:endParaRPr b="0" lang="en-US" sz="32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Constantia"/>
              </a:rPr>
              <a:t>Тре</a:t>
            </a: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нировка в условиях среднегорья и высокогорья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особствует увеличению аэробных и анаэробных возможностей организма, экономизации энергозатрат на стандартную нагрузку, повышению устойчивости к гипоксии, преодолению скоростного барьера, развивает способность к более полной мобилизации функциональных резервов организм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Тренировка в условиях жаркого климата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одит к снижению энергозатрат на поддержание температурного гомеостаза тела спортсмена, что дает ему возможность использовать эти энергозатраты на увеличение объема и интенсивности тренировочных нагрузо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Тренировка в условиях низких температур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одит к многократному увеличению общего обмена веществ в организме, увеличивает расход энергии на поддержание температурного гомеостаза, что заставляет организм увеличить емкости механизмов энергообеспече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Тренировка при смене часовых поясов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 Спортсмены высшей квалификации вынуждены соревноваться в различных часовых поясах мира, что нарушает суточный ритм, и без предварительной подготовки (искусственной смены времени тренировки) может значительно снизить спортивные результа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ЕНИРОВОЧНЫЕ МЕЗОЦИКЛЫ</a:t>
            </a: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(</a:t>
            </a: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от 3 до 6 недель)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тягивающ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азов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азвивающ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контрольно-подготовитель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соревнователь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оревновательные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осстановительные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9" name="Picture 1" descr="P:\Documents and Settings\Admin\Мои документы\Мои рисунки\дети спорт\4.jpeg"/>
          <p:cNvPicPr/>
          <p:nvPr/>
        </p:nvPicPr>
        <p:blipFill>
          <a:blip r:embed="rId1"/>
          <a:stretch/>
        </p:blipFill>
        <p:spPr>
          <a:xfrm>
            <a:off x="5572080" y="1285920"/>
            <a:ext cx="2828880" cy="1619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P:\Documents and Settings\Admin\Мои документы\Мои рисунки\дети спорт\20.jpeg"/>
          <p:cNvPicPr/>
          <p:nvPr/>
        </p:nvPicPr>
        <p:blipFill>
          <a:blip r:embed="rId2"/>
          <a:stretch/>
        </p:blipFill>
        <p:spPr>
          <a:xfrm>
            <a:off x="5643720" y="4572000"/>
            <a:ext cx="2790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Нагрузка микроциклов в мезоциклах различного типа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0" y="1214280"/>
          <a:ext cx="9144000" cy="5486400"/>
        </p:xfrm>
        <a:graphic>
          <a:graphicData uri="http://schemas.openxmlformats.org/drawingml/2006/table">
            <a:tbl>
              <a:tblPr/>
              <a:tblGrid>
                <a:gridCol w="1428840"/>
                <a:gridCol w="2344680"/>
                <a:gridCol w="1893960"/>
                <a:gridCol w="1895400"/>
                <a:gridCol w="158112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Мезоцик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Номера и нагрузка в микроцик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тягивающ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тягивающий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редня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тягивающи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редн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, 1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нят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начительны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3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ольш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ель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4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ительны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3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5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льны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22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но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-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гото-в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5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тельны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ы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5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им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ль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Нагрузка микроциклов в мезоциклах различного типа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0" y="1928880"/>
          <a:ext cx="9144000" cy="4419360"/>
        </p:xfrm>
        <a:graphic>
          <a:graphicData uri="http://schemas.openxmlformats.org/drawingml/2006/table">
            <a:tbl>
              <a:tblPr/>
              <a:tblGrid>
                <a:gridCol w="1357200"/>
                <a:gridCol w="2416320"/>
                <a:gridCol w="1893960"/>
                <a:gridCol w="1895400"/>
                <a:gridCol w="1581120"/>
              </a:tblGrid>
              <a:tr h="2593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сорев-нователь-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4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и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водящи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я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1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ль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-ва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дводящий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редн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, 1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нят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ревнователь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ва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ельн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ы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груз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дводящий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ватель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вательн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0" y="1285920"/>
          <a:ext cx="9144000" cy="609480"/>
        </p:xfrm>
        <a:graphic>
          <a:graphicData uri="http://schemas.openxmlformats.org/drawingml/2006/table">
            <a:tbl>
              <a:tblPr/>
              <a:tblGrid>
                <a:gridCol w="1357200"/>
                <a:gridCol w="2416320"/>
                <a:gridCol w="1893960"/>
                <a:gridCol w="1895400"/>
                <a:gridCol w="158112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Мезоцик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Номера и нагрузка в микроцик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Ключевые тезисы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85716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5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умулятивный эффект, вызванный наслаиванием нескольких тренировок в фазе недовосстановления, применяется только для тренировки высококвалифицированных спортсменов, организм которых способен их переноси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В тренировке юных спортсменов режим наслаивания нагрузок одного микроцикла на другой противопоказан. Для них чередуют микроциклы с различной суммарной нагрузкой, когда микроциклы с большими и значительными нагрузками проводятся в условиях полного восстановления от нагрузок предыдущих микроцикл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ЕНИРОВОЧНЫЕ МАКРОЦИКЛЫ</a:t>
            </a: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(</a:t>
            </a: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полугодовой и годичный цикл) 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этапы многолетней подготовки продолжительностью от 2 до 4 лет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дичные циклы подготовки — если чемпионаты проходят раз в год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лугодичные циклы подготовки — если проводятся зимние и летние чемпионат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0" name="Прямоугольник 3"/>
          <p:cNvSpPr/>
          <p:nvPr/>
        </p:nvSpPr>
        <p:spPr>
          <a:xfrm>
            <a:off x="571680" y="4500720"/>
            <a:ext cx="47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выделяют три период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готовитель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ревнователь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хо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1" descr="P:\Documents and Settings\Admin\Мои документы\Мои рисунки\дети спорт\27.jpeg"/>
          <p:cNvPicPr/>
          <p:nvPr/>
        </p:nvPicPr>
        <p:blipFill>
          <a:blip r:embed="rId1"/>
          <a:stretch/>
        </p:blipFill>
        <p:spPr>
          <a:xfrm>
            <a:off x="5572080" y="4643280"/>
            <a:ext cx="29386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труктура годичного цикла подготовки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876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1. Подготовительный период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ключает мезоциклы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тягивающи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зовы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вающий 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трольно-подготовительный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ва этап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бщеподготовите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втягивающий, базовый и развивающий мезоциклы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специально-подготовите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базовый, развивающий и контрольно-подготовительный мезоциклы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54" name="Picture 1" descr="P:\Documents and Settings\Admin\Мои документы\Мои рисунки\дети спорт\28.jpeg"/>
          <p:cNvPicPr/>
          <p:nvPr/>
        </p:nvPicPr>
        <p:blipFill>
          <a:blip r:embed="rId1"/>
          <a:stretch/>
        </p:blipFill>
        <p:spPr>
          <a:xfrm>
            <a:off x="6286680" y="1928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УРОВНИ СТРУКТУРЫ ТРЕНИРОВОЧНОГО ПРОЦЕССА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2960" y="1784520"/>
            <a:ext cx="804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-й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ровень — микро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структура отдельных занятий и микроциклов (от 3 до 10 дней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++!! микроциклы календарной недел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2-й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ровень — мезо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структура средних циклов тренировки (от 14 до 40 дней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++!! мезоциклы календарного месяца (4 недели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3-й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ровень — макро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структура больших циклов (от 6 месяцев до 4 лет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акроцикл имеет законченную структуру цикла спортивной трениров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8520" indent="-33228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7152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труктура годичного цикла подготовки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716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1" lang="ru-RU" sz="2300" spc="-1" strike="noStrike">
                <a:solidFill>
                  <a:srgbClr val="ff0000"/>
                </a:solidFill>
                <a:latin typeface="Constantia"/>
              </a:rPr>
              <a:t> Соревновательный период</a:t>
            </a:r>
            <a:r>
              <a:rPr b="0" lang="ru-RU" sz="23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Два этапа: предсоревновательный,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соревновательный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onstantia"/>
              </a:rPr>
              <a:t>3. Переходный период</a:t>
            </a:r>
            <a:r>
              <a:rPr b="0" lang="ru-RU" sz="23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Четыре этапа: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лавное снижение нагрузок (активное восстановление)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активный отдых и медицинская реабилитация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ассивный отдых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одготовка организма к очередному макроциклу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57" name="Picture 1" descr="P:\Documents and Settings\Admin\Мои документы\Мои рисунки\дети спорт\29.jpeg"/>
          <p:cNvPicPr/>
          <p:nvPr/>
        </p:nvPicPr>
        <p:blipFill>
          <a:blip r:embed="rId1"/>
          <a:stretch/>
        </p:blipFill>
        <p:spPr>
          <a:xfrm>
            <a:off x="500040" y="5000760"/>
            <a:ext cx="2857680" cy="167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P:\Documents and Settings\Admin\Мои документы\Мои рисунки\дети спорт\30.jpeg"/>
          <p:cNvPicPr/>
          <p:nvPr/>
        </p:nvPicPr>
        <p:blipFill>
          <a:blip r:embed="rId2"/>
          <a:stretch/>
        </p:blipFill>
        <p:spPr>
          <a:xfrm>
            <a:off x="3357720" y="4929120"/>
            <a:ext cx="2714400" cy="1714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P:\Documents and Settings\Admin\Мои документы\Мои рисунки\дети спорт\23.jpeg"/>
          <p:cNvPicPr/>
          <p:nvPr/>
        </p:nvPicPr>
        <p:blipFill>
          <a:blip r:embed="rId3"/>
          <a:stretch/>
        </p:blipFill>
        <p:spPr>
          <a:xfrm>
            <a:off x="6072120" y="48578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Constantia"/>
              </a:rPr>
              <a:t>СТРУКТУРА МНОГОЛЕТНЕЙ ПОДГОТОВКИ</a:t>
            </a:r>
            <a:br>
              <a:rPr sz="3600"/>
            </a:br>
            <a:endParaRPr b="0" lang="en-US" sz="32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onstantia"/>
              </a:rPr>
              <a:t>Этапы многолетней тренировки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начальный или предварительный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общеподготовительный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пециализированный базовой подготовки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аксимальной реализации индивидуальных возможностей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охранения достижений 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еадаптации в спорте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62" name="Picture 1" descr="P:\Documents and Settings\Admin\Мои документы\Мои рисунки\дети спорт\3.jpeg"/>
          <p:cNvPicPr/>
          <p:nvPr/>
        </p:nvPicPr>
        <p:blipFill>
          <a:blip r:embed="rId1"/>
          <a:stretch/>
        </p:blipFill>
        <p:spPr>
          <a:xfrm>
            <a:off x="5786280" y="4500720"/>
            <a:ext cx="2767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ffff"/>
                </a:solidFill>
                <a:latin typeface="Constantia"/>
              </a:rPr>
              <a:t>Динамика объема и интенсивности работы на этапах многолетней подготовки</a:t>
            </a:r>
            <a:endParaRPr b="0" lang="en-US" sz="29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0" y="1285920"/>
          <a:ext cx="9144000" cy="5572080"/>
        </p:xfrm>
        <a:graphic>
          <a:graphicData uri="http://schemas.openxmlformats.org/drawingml/2006/table">
            <a:tbl>
              <a:tblPr/>
              <a:tblGrid>
                <a:gridCol w="3311640"/>
                <a:gridCol w="1954080"/>
                <a:gridCol w="1924200"/>
                <a:gridCol w="1954080"/>
              </a:tblGrid>
              <a:tr h="129708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м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ок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м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нсивных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ок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нсивно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ы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м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4680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ч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-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-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702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варительный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а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0-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-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8-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7794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пециализированный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а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-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-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0-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2967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ой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ализации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ндивидуальных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озможнос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5-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5-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-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69228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хранения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0-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-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46836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-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-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-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tantia"/>
              </a:rPr>
              <a:t>Ключевые тезисы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28760" y="1999800"/>
            <a:ext cx="7500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ая продолжительность многолетней подготовки в конкретном виде спорт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ремя, необходимое для достижения высших спортивных результато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зраст, в который достигнут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ртивные результа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90240" indent="-32544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67" name="Picture 1" descr="P:\Documents and Settings\Admin\Мои документы\Мои рисунки\дети спорт\11.jpeg"/>
          <p:cNvPicPr/>
          <p:nvPr/>
        </p:nvPicPr>
        <p:blipFill>
          <a:blip r:embed="rId1"/>
          <a:stretch/>
        </p:blipFill>
        <p:spPr>
          <a:xfrm>
            <a:off x="6072120" y="2858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P:\Documents and Settings\Admin\Мои документы\Мои рисунки\дети спорт\21.jpeg"/>
          <p:cNvPicPr/>
          <p:nvPr/>
        </p:nvPicPr>
        <p:blipFill>
          <a:blip r:embed="rId2"/>
          <a:stretch/>
        </p:blipFill>
        <p:spPr>
          <a:xfrm>
            <a:off x="6357960" y="47862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72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Стратегия и тактика многолетней подготовки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28400" y="1599840"/>
            <a:ext cx="8715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Подведение объема наивысших нагрузок к оптимальному возрасту спортсмена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Осторожное планирование тренировочного процесса в пубертатный период развития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Исключение побочных эффектов ранней спортивной специализации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Оптимальное  соотношение интенсификации тренировочного процесса и периода выступлений спортсменов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еобходимость системы коррекции эмоционально-психического, функционального и физического истощения организма спортсмена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Своевременный переход из одной дисциплины в другую дисциплину или другой вид спорта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68200" y="103320"/>
            <a:ext cx="6096240" cy="1311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786880" cy="4714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Центр психолого-валеологического образования АКИПКР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Кафедра здоровьесберегающих технологи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Отдел  сопровождения школ здоровь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       </a:t>
            </a:r>
            <a:r>
              <a:rPr b="1" lang="ru-RU" sz="2200" spc="-1" strike="noStrike">
                <a:solidFill>
                  <a:srgbClr val="20c9f8"/>
                </a:solidFill>
                <a:latin typeface="Constantia"/>
              </a:rPr>
              <a:t>Электронная почта:</a:t>
            </a:r>
            <a:r>
              <a:rPr b="1" lang="en-US" sz="2200" spc="-1" strike="noStrike">
                <a:solidFill>
                  <a:srgbClr val="20c9f8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20c9f8"/>
                </a:solidFill>
                <a:latin typeface="Constantia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lopuga@akipkro.ru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1" lang="ru-RU" sz="2200" spc="-1" strike="noStrike">
                <a:solidFill>
                  <a:srgbClr val="20c9f8"/>
                </a:solidFill>
                <a:latin typeface="Constantia"/>
              </a:rPr>
              <a:t>интернет-сайт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www.valeo.akipkro.ru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                       </a:t>
            </a:r>
            <a:r>
              <a:rPr b="1" lang="ru-RU" sz="2200" spc="-1" strike="noStrike">
                <a:solidFill>
                  <a:srgbClr val="b5edfd"/>
                </a:solidFill>
                <a:latin typeface="Constantia"/>
              </a:rPr>
              <a:t>Телефоны: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8-3852- 36-19-80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5edfd"/>
                </a:solidFill>
                <a:latin typeface="Constantia"/>
              </a:rPr>
              <a:t>                               </a:t>
            </a:r>
            <a:r>
              <a:rPr b="1" lang="ru-RU" sz="2200" spc="-1" strike="noStrike">
                <a:solidFill>
                  <a:srgbClr val="b5edfd"/>
                </a:solidFill>
                <a:latin typeface="Constantia"/>
              </a:rPr>
              <a:t>Адрес: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656049, г. Барнаул,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пр-т Социалистический,60, каб.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17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786720" y="214200"/>
            <a:ext cx="235728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Основания построения структуры тренировочного процесса 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040" y="2071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кономерности становления спортивного мастерства в конкретном виде спор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кономерности явления суперкомпенсации и гетерохронности восстановительных процессов, адаптации организма к перенесению тренировочных и соревновательных нагрузо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роки календарных соревновани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Условия и организация проведения тренировочного занятия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рограммное обеспечение: годовое и поурочное планирование, расписание занят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адровое обеспечение: наличие тренера по спорт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атериально-техническое обеспечение: наличие спортивного зала, спортивного стадиона, спортивного инвентаря (лыжи, спортивные снаряды, свисток, хронометр, протоколы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анитарно-гигиеническое обеспечение: соответствие спортивной формы, спортивных сооружений и снарядов санитарно-гигиеническим требованиям, соблюдение правил занятий на свежем воздухе, в бассейне, спортза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рачебно-физкультурное обеспечение: контроль за состоянием здоровья, допуск к занятиям спортом и соревнования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Педагогическая направленность занятий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хема последовательности задач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Обучение,  закрепление, совершенствовани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 развитии физических качеств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гибкость, координация, быстрота, сила и выносливость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 развитии энергетических механизмов: анаэробные (креатинфосфатные), анаэробные (гликолитические), аэробны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очетания средств различной направленности</a:t>
            </a:r>
            <a:br>
              <a:rPr sz="25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115964"/>
          </a:solidFill>
          <a:ln w="9360">
            <a:solidFill>
              <a:srgbClr val="0d0d0d"/>
            </a:solidFill>
            <a:miter/>
          </a:ln>
        </p:spPr>
        <p:txBody>
          <a:bodyPr anchor="t">
            <a:normAutofit fontScale="95000"/>
          </a:bodyPr>
          <a:p>
            <a:pPr lvl="1" marL="702720" indent="-2714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оложительное сочетание, </a:t>
            </a:r>
            <a:r>
              <a:rPr b="1" lang="ru-RU" sz="2400" spc="-1" strike="noStrike">
                <a:solidFill>
                  <a:srgbClr val="c9fafc"/>
                </a:solidFill>
                <a:latin typeface="Constantia"/>
              </a:rPr>
              <a:t>когда очередная нагрузка усиливает физиологические сдвиги, вызванные предыдущей нагрузкой. Например, упражнения алактатной анаэробной работы усиливают эффект гликолитической анаэробной направлен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425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ейтральное сочетание, 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когда очередная нагрузка существенно не изменяет характера и величины ответных реакций организма. Например, нагрузки анаэробной направленности не сказываются на развитии аэроб­ных способност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425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Отрицательное сочетание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, когда последующая нагрузка уменьшает сдвиги, возникшие в ответ на предыдущие воздействия. Например, длительная аэробная нагрузка снижает эффект гликолитической анаэробной направлен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Рациональное построение тренировки 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вначале тренировки проводить упражнения алактатного анаэробного характера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затем лактатного анаэробного характера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в конце - аэробной направленности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4" name="Picture 2" descr="C:\Documents and Settings\Василий\Мои документы\Мои рисунки\дети спорт\36.jpeg"/>
          <p:cNvPicPr/>
          <p:nvPr/>
        </p:nvPicPr>
        <p:blipFill>
          <a:blip r:embed="rId1"/>
          <a:stretch/>
        </p:blipFill>
        <p:spPr>
          <a:xfrm>
            <a:off x="357120" y="478620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" descr="C:\Documents and Settings\Василий\Мои документы\Мои рисунки\дети спорт\25.jpeg"/>
          <p:cNvPicPr/>
          <p:nvPr/>
        </p:nvPicPr>
        <p:blipFill>
          <a:blip r:embed="rId2"/>
          <a:stretch/>
        </p:blipFill>
        <p:spPr>
          <a:xfrm>
            <a:off x="3214800" y="4838760"/>
            <a:ext cx="2928960" cy="2019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C:\Documents and Settings\Василий\Мои документы\Мои рисунки\дети спорт\10.jpeg"/>
          <p:cNvPicPr/>
          <p:nvPr/>
        </p:nvPicPr>
        <p:blipFill>
          <a:blip r:embed="rId3"/>
          <a:stretch/>
        </p:blipFill>
        <p:spPr>
          <a:xfrm>
            <a:off x="6143760" y="4857840"/>
            <a:ext cx="300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0" y="-360"/>
            <a:ext cx="91440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Упражнения, преимущественно способствующие повышению алактатных анаэробных способностей. Продолжительность работы 10—15 с, интенсивность максимальная. Упражнения используются в режиме повторного выполнения, серия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94f7dc"/>
                </a:solidFill>
                <a:latin typeface="Constantia"/>
              </a:rPr>
              <a:t>Упражнения, позволяющие параллельно совершенствовать алактатные и лактатные анаэробные способности. Продолжительность работы 15—30 с, интенсивность 90—100% от максимально доступно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. Упражнения, способствующие повышению лактатных анаэробных возможностей. Продолжительность работы 30—60 с, интенсивность 85—90% от максимально доступно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. Упражнения, позволяющие параллельно совершенствовать алактатные анаэробные и аэробные возможности. Продолжительность работы 1—5 мин, интенсивность 85—90% от максимально доступно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6:23:34Z</dcterms:created>
  <dc:creator>Admin</dc:creator>
  <dc:description/>
  <dc:language>en-US</dc:language>
  <cp:lastModifiedBy>Admin</cp:lastModifiedBy>
  <dcterms:modified xsi:type="dcterms:W3CDTF">2014-02-10T07:56:20Z</dcterms:modified>
  <cp:revision>20</cp:revision>
  <dc:subject/>
  <dc:title>   Содержание и методика организации тренировочного процесса    </dc:title>
</cp:coreProperties>
</file>