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1A9-4D81-46DB-964E-39DAD3AB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28C-9DB8-4D1A-8FCF-ACDD003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E93-29D1-481E-92B3-8DD52F1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B86-B028-4326-AE7F-486C18E6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FEE-99F4-4CFF-A166-D98A005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D9E-16AE-4AFD-A12C-9A14B6A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8FD-6232-4B7F-B696-B16D87A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33A-4D27-4AD1-8C57-8174A4D1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84F-06CE-4007-BCC4-D3F0C58D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F5F-B727-42AD-9D97-059FE70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A95-118C-4D1F-AFFC-4938F28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951-6394-47C6-B7C3-2F66D70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1585-FD57-4D16-8776-7C13FCC83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photobucket.com/albums/v157/nucuoi/springwall/SLGG_2015.jpg" TargetMode="External"/><Relationship Id="rId3" Type="http://schemas.openxmlformats.org/officeDocument/2006/relationships/hyperlink" Target="http://img1.liveinternet.ru/images/attach/b/4/103/323/103323655_1__19_.png" TargetMode="Externa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765000"/>
            <a:ext cx="360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4000" y="2924280"/>
            <a:ext cx="157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429264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пелова Г. 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 №2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Новомоск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101080" y="333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10800" y="431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639">
                <a:moveTo>
                  <a:pt x="10800" y="468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639">
                <a:moveTo>
                  <a:pt x="8224" y="8743"/>
                </a:moveTo>
                <a:lnTo>
                  <a:pt x="12088" y="8743"/>
                </a:lnTo>
                <a:lnTo>
                  <a:pt x="12088" y="15741"/>
                </a:lnTo>
                <a:lnTo>
                  <a:pt x="13376" y="15741"/>
                </a:lnTo>
                <a:lnTo>
                  <a:pt x="13376" y="16664"/>
                </a:lnTo>
                <a:lnTo>
                  <a:pt x="8224" y="16664"/>
                </a:lnTo>
                <a:lnTo>
                  <a:pt x="8224" y="15741"/>
                </a:lnTo>
                <a:lnTo>
                  <a:pt x="9512" y="15741"/>
                </a:lnTo>
                <a:lnTo>
                  <a:pt x="9512" y="9648"/>
                </a:lnTo>
                <a:lnTo>
                  <a:pt x="8224" y="964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995640" y="649764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96000" y="2924280"/>
            <a:ext cx="151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асть1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484280"/>
            <a:ext cx="77058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ловарные слова в образах и картинках» Пособие в 2х частях. Издательство: "Владос",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Л.П. Работа со словарными словами. – М.: Экзамен,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ова Н.В.Практические материалы учителя начальной школы.- СПб.: ИПК СПО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lass39.ru/slovarnye-slova-v-nachalnoj-shkol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Фон слай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Угловая винь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435600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276640"/>
            <a:ext cx="743904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ЯТ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Т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И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О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20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060640"/>
            <a:ext cx="6769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Г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20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060640"/>
            <a:ext cx="6769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Х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6084720" y="5950080"/>
            <a:ext cx="935280" cy="71892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97" h="21600">
                <a:moveTo>
                  <a:pt x="0" y="0"/>
                </a:moveTo>
                <a:lnTo>
                  <a:pt x="28097" y="0"/>
                </a:lnTo>
                <a:lnTo>
                  <a:pt x="28097" y="21600"/>
                </a:lnTo>
                <a:lnTo>
                  <a:pt x="0" y="21600"/>
                </a:lnTo>
                <a:close/>
              </a:path>
              <a:path fill="lightenLess" w="28097" h="21600">
                <a:moveTo>
                  <a:pt x="0" y="0"/>
                </a:moveTo>
                <a:lnTo>
                  <a:pt x="28097" y="0"/>
                </a:lnTo>
                <a:lnTo>
                  <a:pt x="26697" y="1400"/>
                </a:lnTo>
                <a:lnTo>
                  <a:pt x="1400" y="1400"/>
                </a:lnTo>
                <a:close/>
              </a:path>
              <a:path fill="darken" w="28097" h="21600">
                <a:moveTo>
                  <a:pt x="28097" y="0"/>
                </a:moveTo>
                <a:lnTo>
                  <a:pt x="28097" y="21600"/>
                </a:lnTo>
                <a:lnTo>
                  <a:pt x="26697" y="20200"/>
                </a:lnTo>
                <a:lnTo>
                  <a:pt x="26697" y="1400"/>
                </a:lnTo>
                <a:close/>
              </a:path>
              <a:path fill="darkenLess" w="28097" h="21600">
                <a:moveTo>
                  <a:pt x="28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7" y="20200"/>
                </a:lnTo>
                <a:close/>
              </a:path>
              <a:path fill="lighten" w="28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7" h="21600">
                <a:moveTo>
                  <a:pt x="14049" y="3837"/>
                </a:moveTo>
                <a:lnTo>
                  <a:pt x="16625" y="6448"/>
                </a:ln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lnTo>
                  <a:pt x="21012" y="10800"/>
                </a:lnTo>
                <a:lnTo>
                  <a:pt x="19358" y="10800"/>
                </a:lnTo>
                <a:lnTo>
                  <a:pt x="19358" y="17989"/>
                </a:lnTo>
                <a:lnTo>
                  <a:pt x="8739" y="17989"/>
                </a:lnTo>
                <a:lnTo>
                  <a:pt x="8739" y="10800"/>
                </a:lnTo>
                <a:lnTo>
                  <a:pt x="7086" y="10800"/>
                </a:lnTo>
                <a:close/>
              </a:path>
              <a:path fill="darkenLess" w="28097" h="21600">
                <a:moveTo>
                  <a:pt x="16625" y="6448"/>
                </a:move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close/>
              </a:path>
              <a:path fill="darkenLess" w="28097" h="21600">
                <a:moveTo>
                  <a:pt x="13126" y="14299"/>
                </a:moveTo>
                <a:lnTo>
                  <a:pt x="14971" y="14299"/>
                </a:lnTo>
                <a:lnTo>
                  <a:pt x="14971" y="17989"/>
                </a:lnTo>
                <a:lnTo>
                  <a:pt x="19358" y="17989"/>
                </a:lnTo>
                <a:lnTo>
                  <a:pt x="19358" y="10800"/>
                </a:lnTo>
                <a:lnTo>
                  <a:pt x="8739" y="10800"/>
                </a:lnTo>
                <a:lnTo>
                  <a:pt x="8739" y="17989"/>
                </a:lnTo>
                <a:lnTo>
                  <a:pt x="13126" y="17989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20:20Z</dcterms:created>
  <dc:creator>user</dc:creator>
  <dc:description/>
  <dc:language>en-US</dc:language>
  <cp:lastModifiedBy>user</cp:lastModifiedBy>
  <dcterms:modified xsi:type="dcterms:W3CDTF">2015-04-19T12:02:24Z</dcterms:modified>
  <cp:revision>17</cp:revision>
  <dc:subject/>
  <dc:title>Слайд 1</dc:title>
</cp:coreProperties>
</file>