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FD22-53A2-46F8-949A-D5D4F9710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9A73-AE82-4D3B-A190-D91EF2966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D695-3B85-4246-9587-15330F88F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54E8-CFB1-4D99-AF78-AB56707DB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D12C-6206-491A-92C9-CE55454D6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B817-307F-4D86-9120-51A6C9C3C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F003-558B-485E-BC48-FDE6C71F4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5A9A-A925-4839-99EC-AC60487D4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2BBF-6A30-42A0-99BA-D3F3A5062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89DB-2841-4AB3-935F-63B3F88F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9722-028B-479F-9550-F5A1B500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A8D0-6850-4E46-BB26-4E34ED56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A645B-1C4F-416C-A2D3-DDE36103CF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g.photobucket.com/albums/v157/nucuoi/springwall/SLGG_2015.jpg" TargetMode="External"/><Relationship Id="rId3" Type="http://schemas.openxmlformats.org/officeDocument/2006/relationships/hyperlink" Target="http://img1.liveinternet.ru/images/attach/b/4/103/323/103323655_1__19_.png" TargetMode="External"/><Relationship Id="rId4" Type="http://schemas.openxmlformats.org/officeDocument/2006/relationships/hyperlink" Target="http://www.goodfellas.pl/BLUZY/images/butterfly-drawings-with-color-i9.png" TargetMode="External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56000" y="765000"/>
            <a:ext cx="360036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ловарные</a:t>
            </a:r>
            <a:endParaRPr b="1" i="1" lang="en-US" sz="4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лова</a:t>
            </a:r>
            <a:endParaRPr b="1" i="1" lang="en-US" sz="4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564000" y="2924280"/>
            <a:ext cx="1571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 класс</a:t>
            </a:r>
            <a:endParaRPr b="0" i="1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27280" y="4292640"/>
            <a:ext cx="306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боту выполни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пелова Г. В.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 информат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БОУ «СОШ №20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. Новомосков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lastslide"/>
          </p:cNvPr>
          <p:cNvSpPr/>
          <p:nvPr/>
        </p:nvSpPr>
        <p:spPr>
          <a:xfrm>
            <a:off x="8101080" y="333360"/>
            <a:ext cx="755640" cy="79200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792000"/>
              <a:gd name="textAreaBottom" fmla="*/ 743040 h 792000"/>
            </a:gdLst>
            <a:ahLst/>
            <a:rect l="textAreaLeft" t="textAreaTop" r="textAreaRight" b="textAreaBottom"/>
            <a:pathLst>
              <a:path w="21600" h="22639">
                <a:moveTo>
                  <a:pt x="0" y="0"/>
                </a:moveTo>
                <a:lnTo>
                  <a:pt x="21600" y="0"/>
                </a:lnTo>
                <a:lnTo>
                  <a:pt x="21600" y="22639"/>
                </a:lnTo>
                <a:lnTo>
                  <a:pt x="0" y="22639"/>
                </a:lnTo>
                <a:close/>
              </a:path>
              <a:path fill="lightenLess" w="21600" h="2263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39">
                <a:moveTo>
                  <a:pt x="21600" y="0"/>
                </a:moveTo>
                <a:lnTo>
                  <a:pt x="21600" y="22639"/>
                </a:lnTo>
                <a:lnTo>
                  <a:pt x="20200" y="21239"/>
                </a:lnTo>
                <a:lnTo>
                  <a:pt x="20200" y="1400"/>
                </a:lnTo>
                <a:close/>
              </a:path>
              <a:path fill="darkenLess" w="21600" h="22639">
                <a:moveTo>
                  <a:pt x="21600" y="22639"/>
                </a:moveTo>
                <a:lnTo>
                  <a:pt x="0" y="22639"/>
                </a:lnTo>
                <a:lnTo>
                  <a:pt x="1400" y="21239"/>
                </a:lnTo>
                <a:lnTo>
                  <a:pt x="20200" y="21239"/>
                </a:lnTo>
                <a:close/>
              </a:path>
              <a:path fill="lighten" w="21600" h="22639">
                <a:moveTo>
                  <a:pt x="0" y="2263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39"/>
                </a:lnTo>
                <a:close/>
              </a:path>
              <a:path fill="darken" w="21600" h="22639">
                <a:moveTo>
                  <a:pt x="10800" y="4313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2639">
                <a:moveTo>
                  <a:pt x="10800" y="4687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2639">
                <a:moveTo>
                  <a:pt x="8224" y="8743"/>
                </a:moveTo>
                <a:lnTo>
                  <a:pt x="12088" y="8743"/>
                </a:lnTo>
                <a:lnTo>
                  <a:pt x="12088" y="15741"/>
                </a:lnTo>
                <a:lnTo>
                  <a:pt x="13376" y="15741"/>
                </a:lnTo>
                <a:lnTo>
                  <a:pt x="13376" y="16664"/>
                </a:lnTo>
                <a:lnTo>
                  <a:pt x="8224" y="16664"/>
                </a:lnTo>
                <a:lnTo>
                  <a:pt x="8224" y="15741"/>
                </a:lnTo>
                <a:lnTo>
                  <a:pt x="9512" y="15741"/>
                </a:lnTo>
                <a:lnTo>
                  <a:pt x="9512" y="9648"/>
                </a:lnTo>
                <a:lnTo>
                  <a:pt x="8224" y="9648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3995640" y="6497640"/>
            <a:ext cx="1150920" cy="360360"/>
          </a:xfrm>
          <a:prstGeom prst="rightArrow">
            <a:avLst>
              <a:gd name="adj1" fmla="val 50000"/>
              <a:gd name="adj2" fmla="val 79845"/>
            </a:avLst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  <a:effectLst>
            <a:outerShdw dist="107932" dir="18900000" blurRad="0" rotWithShape="0">
              <a:srgbClr val="00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796000" y="2924280"/>
            <a:ext cx="151272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часть 3</a:t>
            </a:r>
            <a:endParaRPr b="0" i="1" lang="en-US" sz="3200" spc="1" strike="noStrike">
              <a:ln w="9360">
                <a:solidFill>
                  <a:srgbClr val="008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900000" y="333360"/>
            <a:ext cx="7272360" cy="934920"/>
          </a:xfrm>
          <a:prstGeom prst="roundRect">
            <a:avLst>
              <a:gd name="adj" fmla="val 16667"/>
            </a:avLst>
          </a:prstGeom>
          <a:solidFill>
            <a:srgbClr val="99ffcc">
              <a:alpha val="45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Источники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26920" y="1484280"/>
            <a:ext cx="7705800" cy="43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Словарные слова в образах и картинках» Пособие в 2х частях. Издательство: "Владос", 2005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колаева Л.П. Работа со словарными словами. – М.: Экзамен,200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нова Н.В.Практические материалы учителя начальной школы.- СПб.: ИПК СПО, 200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klass39.ru/slovarnye-slova-v-nachalnoj-shkole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66"/>
                </a:solidFill>
                <a:uFillTx/>
                <a:latin typeface="Arial"/>
                <a:hlinkClick r:id="rId2"/>
              </a:rPr>
              <a:t>Фон слай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66"/>
                </a:solidFill>
                <a:uFillTx/>
                <a:latin typeface="Arial"/>
                <a:hlinkClick r:id="rId3"/>
              </a:rPr>
              <a:t>Угловая винье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66"/>
                </a:solidFill>
                <a:uFillTx/>
                <a:latin typeface="Arial"/>
                <a:hlinkClick r:id="rId4"/>
              </a:rPr>
              <a:t>Бабочка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бочка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4356000" y="5877000"/>
            <a:ext cx="863640" cy="5763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360" h="21600">
                <a:moveTo>
                  <a:pt x="0" y="0"/>
                </a:moveTo>
                <a:lnTo>
                  <a:pt x="32360" y="0"/>
                </a:lnTo>
                <a:lnTo>
                  <a:pt x="32360" y="21600"/>
                </a:lnTo>
                <a:lnTo>
                  <a:pt x="0" y="21600"/>
                </a:lnTo>
                <a:close/>
              </a:path>
              <a:path fill="lightenLess" w="32360" h="21600">
                <a:moveTo>
                  <a:pt x="0" y="0"/>
                </a:moveTo>
                <a:lnTo>
                  <a:pt x="32360" y="0"/>
                </a:lnTo>
                <a:lnTo>
                  <a:pt x="30960" y="1400"/>
                </a:lnTo>
                <a:lnTo>
                  <a:pt x="1400" y="1400"/>
                </a:lnTo>
                <a:close/>
              </a:path>
              <a:path fill="darken" w="32360" h="21600">
                <a:moveTo>
                  <a:pt x="32360" y="0"/>
                </a:moveTo>
                <a:lnTo>
                  <a:pt x="32360" y="21600"/>
                </a:lnTo>
                <a:lnTo>
                  <a:pt x="30960" y="20200"/>
                </a:lnTo>
                <a:lnTo>
                  <a:pt x="30960" y="1400"/>
                </a:lnTo>
                <a:close/>
              </a:path>
              <a:path fill="darkenLess" w="32360" h="21600">
                <a:moveTo>
                  <a:pt x="32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60" y="20200"/>
                </a:lnTo>
                <a:close/>
              </a:path>
              <a:path fill="lighten" w="32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60" h="21600">
                <a:moveTo>
                  <a:pt x="9173" y="7493"/>
                </a:moveTo>
                <a:lnTo>
                  <a:pt x="12681" y="7493"/>
                </a:lnTo>
                <a:lnTo>
                  <a:pt x="12681" y="12828"/>
                </a:lnTo>
                <a:cubicBezTo>
                  <a:pt x="12681" y="13751"/>
                  <a:pt x="13482" y="14482"/>
                  <a:pt x="14517" y="14482"/>
                </a:cubicBezTo>
                <a:lnTo>
                  <a:pt x="16180" y="14482"/>
                </a:lnTo>
                <a:cubicBezTo>
                  <a:pt x="17216" y="14482"/>
                  <a:pt x="18016" y="13751"/>
                  <a:pt x="18016" y="12828"/>
                </a:cubicBezTo>
                <a:lnTo>
                  <a:pt x="18016" y="7493"/>
                </a:lnTo>
                <a:lnTo>
                  <a:pt x="16180" y="7493"/>
                </a:lnTo>
                <a:lnTo>
                  <a:pt x="19687" y="3985"/>
                </a:lnTo>
                <a:lnTo>
                  <a:pt x="23360" y="7493"/>
                </a:lnTo>
                <a:lnTo>
                  <a:pt x="21524" y="7493"/>
                </a:lnTo>
                <a:lnTo>
                  <a:pt x="21524" y="12828"/>
                </a:lnTo>
                <a:cubicBezTo>
                  <a:pt x="21524" y="15596"/>
                  <a:pt x="18948" y="18155"/>
                  <a:pt x="16180" y="18155"/>
                </a:cubicBezTo>
                <a:lnTo>
                  <a:pt x="14517" y="18155"/>
                </a:lnTo>
                <a:cubicBezTo>
                  <a:pt x="11750" y="18155"/>
                  <a:pt x="9173" y="15596"/>
                  <a:pt x="917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5435640" y="6093000"/>
            <a:ext cx="1800360" cy="431640"/>
          </a:xfrm>
          <a:custGeom>
            <a:avLst/>
            <a:gdLst>
              <a:gd name="textAreaLeft" fmla="*/ 27720 w 1800360"/>
              <a:gd name="textAreaRight" fmla="*/ 1772640 w 1800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90036" h="21600">
                <a:moveTo>
                  <a:pt x="0" y="0"/>
                </a:moveTo>
                <a:lnTo>
                  <a:pt x="90036" y="0"/>
                </a:lnTo>
                <a:lnTo>
                  <a:pt x="90036" y="21600"/>
                </a:lnTo>
                <a:lnTo>
                  <a:pt x="0" y="21600"/>
                </a:lnTo>
                <a:close/>
              </a:path>
              <a:path fill="lightenLess" w="90036" h="21600">
                <a:moveTo>
                  <a:pt x="0" y="0"/>
                </a:moveTo>
                <a:lnTo>
                  <a:pt x="90036" y="0"/>
                </a:lnTo>
                <a:lnTo>
                  <a:pt x="88636" y="1400"/>
                </a:lnTo>
                <a:lnTo>
                  <a:pt x="1400" y="1400"/>
                </a:lnTo>
                <a:close/>
              </a:path>
              <a:path fill="darken" w="90036" h="21600">
                <a:moveTo>
                  <a:pt x="90036" y="0"/>
                </a:moveTo>
                <a:lnTo>
                  <a:pt x="90036" y="21600"/>
                </a:lnTo>
                <a:lnTo>
                  <a:pt x="88636" y="20200"/>
                </a:lnTo>
                <a:lnTo>
                  <a:pt x="88636" y="1400"/>
                </a:lnTo>
                <a:close/>
              </a:path>
              <a:path fill="darkenLess" w="90036" h="21600">
                <a:moveTo>
                  <a:pt x="90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636" y="20200"/>
                </a:lnTo>
                <a:close/>
              </a:path>
              <a:path fill="lighten" w="90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0036" h="21600">
                <a:moveTo>
                  <a:pt x="38012" y="3794"/>
                </a:moveTo>
                <a:lnTo>
                  <a:pt x="52024" y="10800"/>
                </a:lnTo>
                <a:lnTo>
                  <a:pt x="38012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826920" y="2276640"/>
            <a:ext cx="7439040" cy="23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cc33"/>
                    </a:gs>
                    <a:gs pos="50000">
                      <a:srgbClr val="66ccff"/>
                    </a:gs>
                    <a:gs pos="100000">
                      <a:srgbClr val="33cc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пиши слова,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cc33"/>
                  </a:gs>
                  <a:gs pos="50000">
                    <a:srgbClr val="66ccff"/>
                  </a:gs>
                  <a:gs pos="100000">
                    <a:srgbClr val="33cc33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cc33"/>
                    </a:gs>
                    <a:gs pos="50000">
                      <a:srgbClr val="66ccff"/>
                    </a:gs>
                    <a:gs pos="100000">
                      <a:srgbClr val="33cc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ставь пропущенные буквы.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cc33"/>
                  </a:gs>
                  <a:gs pos="50000">
                    <a:srgbClr val="66ccff"/>
                  </a:gs>
                  <a:gs pos="100000">
                    <a:srgbClr val="33cc33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cc33"/>
                    </a:gs>
                    <a:gs pos="50000">
                      <a:srgbClr val="66ccff"/>
                    </a:gs>
                    <a:gs pos="100000">
                      <a:srgbClr val="33cc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жми кнопку "проверка"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cc33"/>
                  </a:gs>
                  <a:gs pos="50000">
                    <a:srgbClr val="66ccff"/>
                  </a:gs>
                  <a:gs pos="100000">
                    <a:srgbClr val="33cc33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cc33"/>
                    </a:gs>
                    <a:gs pos="50000">
                      <a:srgbClr val="66ccff"/>
                    </a:gs>
                    <a:gs pos="100000">
                      <a:srgbClr val="33cc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 узнай, верно ли записаны слова.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cc33"/>
                  </a:gs>
                  <a:gs pos="50000">
                    <a:srgbClr val="66ccff"/>
                  </a:gs>
                  <a:gs pos="100000">
                    <a:srgbClr val="33cc33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68360" y="1700280"/>
            <a:ext cx="8207280" cy="4033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cc33"/>
              </a:gs>
              <a:gs pos="50000">
                <a:srgbClr val="99ffcc"/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87280" y="5950080"/>
            <a:ext cx="2735280" cy="50472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5435640" y="6093000"/>
            <a:ext cx="1800360" cy="431640"/>
          </a:xfrm>
          <a:custGeom>
            <a:avLst/>
            <a:gdLst>
              <a:gd name="textAreaLeft" fmla="*/ 27720 w 1800360"/>
              <a:gd name="textAreaRight" fmla="*/ 1772640 w 1800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90036" h="21600">
                <a:moveTo>
                  <a:pt x="0" y="0"/>
                </a:moveTo>
                <a:lnTo>
                  <a:pt x="90036" y="0"/>
                </a:lnTo>
                <a:lnTo>
                  <a:pt x="90036" y="21600"/>
                </a:lnTo>
                <a:lnTo>
                  <a:pt x="0" y="21600"/>
                </a:lnTo>
                <a:close/>
              </a:path>
              <a:path fill="lightenLess" w="90036" h="21600">
                <a:moveTo>
                  <a:pt x="0" y="0"/>
                </a:moveTo>
                <a:lnTo>
                  <a:pt x="90036" y="0"/>
                </a:lnTo>
                <a:lnTo>
                  <a:pt x="88636" y="1400"/>
                </a:lnTo>
                <a:lnTo>
                  <a:pt x="1400" y="1400"/>
                </a:lnTo>
                <a:close/>
              </a:path>
              <a:path fill="darken" w="90036" h="21600">
                <a:moveTo>
                  <a:pt x="90036" y="0"/>
                </a:moveTo>
                <a:lnTo>
                  <a:pt x="90036" y="21600"/>
                </a:lnTo>
                <a:lnTo>
                  <a:pt x="88636" y="20200"/>
                </a:lnTo>
                <a:lnTo>
                  <a:pt x="88636" y="1400"/>
                </a:lnTo>
                <a:close/>
              </a:path>
              <a:path fill="darkenLess" w="90036" h="21600">
                <a:moveTo>
                  <a:pt x="90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636" y="20200"/>
                </a:lnTo>
                <a:close/>
              </a:path>
              <a:path fill="lighten" w="90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0036" h="21600">
                <a:moveTo>
                  <a:pt x="38012" y="3794"/>
                </a:moveTo>
                <a:lnTo>
                  <a:pt x="52024" y="10800"/>
                </a:lnTo>
                <a:lnTo>
                  <a:pt x="38012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00000" y="333360"/>
            <a:ext cx="7272360" cy="934920"/>
          </a:xfrm>
          <a:prstGeom prst="roundRect">
            <a:avLst>
              <a:gd name="adj" fmla="val 16667"/>
            </a:avLst>
          </a:prstGeom>
          <a:solidFill>
            <a:srgbClr val="99ffcc">
              <a:alpha val="45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Проверь запись словарных с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26920" y="2276640"/>
            <a:ext cx="74170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ОБУ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БИ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АДР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68360" y="1700280"/>
            <a:ext cx="8207280" cy="4033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cc33"/>
              </a:gs>
              <a:gs pos="50000">
                <a:srgbClr val="99ffcc"/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87280" y="5950080"/>
            <a:ext cx="2735280" cy="50472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" action="ppaction://hlinkshowjump?jump=nextslide"/>
          </p:cNvPr>
          <p:cNvSpPr/>
          <p:nvPr/>
        </p:nvSpPr>
        <p:spPr>
          <a:xfrm>
            <a:off x="5435640" y="6093000"/>
            <a:ext cx="1800360" cy="431640"/>
          </a:xfrm>
          <a:custGeom>
            <a:avLst/>
            <a:gdLst>
              <a:gd name="textAreaLeft" fmla="*/ 27720 w 1800360"/>
              <a:gd name="textAreaRight" fmla="*/ 1772640 w 1800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90036" h="21600">
                <a:moveTo>
                  <a:pt x="0" y="0"/>
                </a:moveTo>
                <a:lnTo>
                  <a:pt x="90036" y="0"/>
                </a:lnTo>
                <a:lnTo>
                  <a:pt x="90036" y="21600"/>
                </a:lnTo>
                <a:lnTo>
                  <a:pt x="0" y="21600"/>
                </a:lnTo>
                <a:close/>
              </a:path>
              <a:path fill="lightenLess" w="90036" h="21600">
                <a:moveTo>
                  <a:pt x="0" y="0"/>
                </a:moveTo>
                <a:lnTo>
                  <a:pt x="90036" y="0"/>
                </a:lnTo>
                <a:lnTo>
                  <a:pt x="88636" y="1400"/>
                </a:lnTo>
                <a:lnTo>
                  <a:pt x="1400" y="1400"/>
                </a:lnTo>
                <a:close/>
              </a:path>
              <a:path fill="darken" w="90036" h="21600">
                <a:moveTo>
                  <a:pt x="90036" y="0"/>
                </a:moveTo>
                <a:lnTo>
                  <a:pt x="90036" y="21600"/>
                </a:lnTo>
                <a:lnTo>
                  <a:pt x="88636" y="20200"/>
                </a:lnTo>
                <a:lnTo>
                  <a:pt x="88636" y="1400"/>
                </a:lnTo>
                <a:close/>
              </a:path>
              <a:path fill="darkenLess" w="90036" h="21600">
                <a:moveTo>
                  <a:pt x="90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636" y="20200"/>
                </a:lnTo>
                <a:close/>
              </a:path>
              <a:path fill="lighten" w="90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0036" h="21600">
                <a:moveTo>
                  <a:pt x="38012" y="3794"/>
                </a:moveTo>
                <a:lnTo>
                  <a:pt x="52024" y="10800"/>
                </a:lnTo>
                <a:lnTo>
                  <a:pt x="38012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333360"/>
            <a:ext cx="7272360" cy="934920"/>
          </a:xfrm>
          <a:prstGeom prst="roundRect">
            <a:avLst>
              <a:gd name="adj" fmla="val 16667"/>
            </a:avLst>
          </a:prstGeom>
          <a:solidFill>
            <a:srgbClr val="99ffcc">
              <a:alpha val="45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Проверь запись словарных с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26920" y="2276640"/>
            <a:ext cx="74170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Ё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БЫСТР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68360" y="1700280"/>
            <a:ext cx="8207280" cy="4033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cc33"/>
              </a:gs>
              <a:gs pos="50000">
                <a:srgbClr val="99ffcc"/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87280" y="5950080"/>
            <a:ext cx="2735280" cy="50472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" action="ppaction://hlinkshowjump?jump=nextslide"/>
          </p:cNvPr>
          <p:cNvSpPr/>
          <p:nvPr/>
        </p:nvSpPr>
        <p:spPr>
          <a:xfrm>
            <a:off x="5435640" y="6093000"/>
            <a:ext cx="1800360" cy="431640"/>
          </a:xfrm>
          <a:custGeom>
            <a:avLst/>
            <a:gdLst>
              <a:gd name="textAreaLeft" fmla="*/ 27720 w 1800360"/>
              <a:gd name="textAreaRight" fmla="*/ 1772640 w 1800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90036" h="21600">
                <a:moveTo>
                  <a:pt x="0" y="0"/>
                </a:moveTo>
                <a:lnTo>
                  <a:pt x="90036" y="0"/>
                </a:lnTo>
                <a:lnTo>
                  <a:pt x="90036" y="21600"/>
                </a:lnTo>
                <a:lnTo>
                  <a:pt x="0" y="21600"/>
                </a:lnTo>
                <a:close/>
              </a:path>
              <a:path fill="lightenLess" w="90036" h="21600">
                <a:moveTo>
                  <a:pt x="0" y="0"/>
                </a:moveTo>
                <a:lnTo>
                  <a:pt x="90036" y="0"/>
                </a:lnTo>
                <a:lnTo>
                  <a:pt x="88636" y="1400"/>
                </a:lnTo>
                <a:lnTo>
                  <a:pt x="1400" y="1400"/>
                </a:lnTo>
                <a:close/>
              </a:path>
              <a:path fill="darken" w="90036" h="21600">
                <a:moveTo>
                  <a:pt x="90036" y="0"/>
                </a:moveTo>
                <a:lnTo>
                  <a:pt x="90036" y="21600"/>
                </a:lnTo>
                <a:lnTo>
                  <a:pt x="88636" y="20200"/>
                </a:lnTo>
                <a:lnTo>
                  <a:pt x="88636" y="1400"/>
                </a:lnTo>
                <a:close/>
              </a:path>
              <a:path fill="darkenLess" w="90036" h="21600">
                <a:moveTo>
                  <a:pt x="90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636" y="20200"/>
                </a:lnTo>
                <a:close/>
              </a:path>
              <a:path fill="lighten" w="90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0036" h="21600">
                <a:moveTo>
                  <a:pt x="38012" y="3794"/>
                </a:moveTo>
                <a:lnTo>
                  <a:pt x="52024" y="10800"/>
                </a:lnTo>
                <a:lnTo>
                  <a:pt x="38012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00000" y="333360"/>
            <a:ext cx="7272360" cy="934920"/>
          </a:xfrm>
          <a:prstGeom prst="roundRect">
            <a:avLst>
              <a:gd name="adj" fmla="val 16667"/>
            </a:avLst>
          </a:prstGeom>
          <a:solidFill>
            <a:srgbClr val="99ffcc">
              <a:alpha val="45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Проверь запись словарных с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26920" y="2276640"/>
            <a:ext cx="74170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ЕС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Л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ЕТ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ОГРА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68360" y="1700280"/>
            <a:ext cx="8207280" cy="4033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cc33"/>
              </a:gs>
              <a:gs pos="50000">
                <a:srgbClr val="99ffcc"/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5950080"/>
            <a:ext cx="2735280" cy="50472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" action="ppaction://hlinkshowjump?jump=nextslide"/>
          </p:cNvPr>
          <p:cNvSpPr/>
          <p:nvPr/>
        </p:nvSpPr>
        <p:spPr>
          <a:xfrm>
            <a:off x="5435640" y="6093000"/>
            <a:ext cx="1800360" cy="431640"/>
          </a:xfrm>
          <a:custGeom>
            <a:avLst/>
            <a:gdLst>
              <a:gd name="textAreaLeft" fmla="*/ 27720 w 1800360"/>
              <a:gd name="textAreaRight" fmla="*/ 1772640 w 1800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90036" h="21600">
                <a:moveTo>
                  <a:pt x="0" y="0"/>
                </a:moveTo>
                <a:lnTo>
                  <a:pt x="90036" y="0"/>
                </a:lnTo>
                <a:lnTo>
                  <a:pt x="90036" y="21600"/>
                </a:lnTo>
                <a:lnTo>
                  <a:pt x="0" y="21600"/>
                </a:lnTo>
                <a:close/>
              </a:path>
              <a:path fill="lightenLess" w="90036" h="21600">
                <a:moveTo>
                  <a:pt x="0" y="0"/>
                </a:moveTo>
                <a:lnTo>
                  <a:pt x="90036" y="0"/>
                </a:lnTo>
                <a:lnTo>
                  <a:pt x="88636" y="1400"/>
                </a:lnTo>
                <a:lnTo>
                  <a:pt x="1400" y="1400"/>
                </a:lnTo>
                <a:close/>
              </a:path>
              <a:path fill="darken" w="90036" h="21600">
                <a:moveTo>
                  <a:pt x="90036" y="0"/>
                </a:moveTo>
                <a:lnTo>
                  <a:pt x="90036" y="21600"/>
                </a:lnTo>
                <a:lnTo>
                  <a:pt x="88636" y="20200"/>
                </a:lnTo>
                <a:lnTo>
                  <a:pt x="88636" y="1400"/>
                </a:lnTo>
                <a:close/>
              </a:path>
              <a:path fill="darkenLess" w="90036" h="21600">
                <a:moveTo>
                  <a:pt x="90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636" y="20200"/>
                </a:lnTo>
                <a:close/>
              </a:path>
              <a:path fill="lighten" w="90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0036" h="21600">
                <a:moveTo>
                  <a:pt x="38012" y="3794"/>
                </a:moveTo>
                <a:lnTo>
                  <a:pt x="52024" y="10800"/>
                </a:lnTo>
                <a:lnTo>
                  <a:pt x="38012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00000" y="333360"/>
            <a:ext cx="7272360" cy="934920"/>
          </a:xfrm>
          <a:prstGeom prst="roundRect">
            <a:avLst>
              <a:gd name="adj" fmla="val 16667"/>
            </a:avLst>
          </a:prstGeom>
          <a:solidFill>
            <a:srgbClr val="99ffcc">
              <a:alpha val="45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Проверь запись словарных с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26920" y="2276640"/>
            <a:ext cx="74170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ЗА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КР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ЕНЬ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Ч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68360" y="1700280"/>
            <a:ext cx="8207280" cy="4033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cc33"/>
              </a:gs>
              <a:gs pos="50000">
                <a:srgbClr val="99ffcc"/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87280" y="5950080"/>
            <a:ext cx="2735280" cy="50472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" action="ppaction://hlinkshowjump?jump=nextslide"/>
          </p:cNvPr>
          <p:cNvSpPr/>
          <p:nvPr/>
        </p:nvSpPr>
        <p:spPr>
          <a:xfrm>
            <a:off x="5435640" y="6093000"/>
            <a:ext cx="1800360" cy="431640"/>
          </a:xfrm>
          <a:custGeom>
            <a:avLst/>
            <a:gdLst>
              <a:gd name="textAreaLeft" fmla="*/ 27720 w 1800360"/>
              <a:gd name="textAreaRight" fmla="*/ 1772640 w 1800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90036" h="21600">
                <a:moveTo>
                  <a:pt x="0" y="0"/>
                </a:moveTo>
                <a:lnTo>
                  <a:pt x="90036" y="0"/>
                </a:lnTo>
                <a:lnTo>
                  <a:pt x="90036" y="21600"/>
                </a:lnTo>
                <a:lnTo>
                  <a:pt x="0" y="21600"/>
                </a:lnTo>
                <a:close/>
              </a:path>
              <a:path fill="lightenLess" w="90036" h="21600">
                <a:moveTo>
                  <a:pt x="0" y="0"/>
                </a:moveTo>
                <a:lnTo>
                  <a:pt x="90036" y="0"/>
                </a:lnTo>
                <a:lnTo>
                  <a:pt x="88636" y="1400"/>
                </a:lnTo>
                <a:lnTo>
                  <a:pt x="1400" y="1400"/>
                </a:lnTo>
                <a:close/>
              </a:path>
              <a:path fill="darken" w="90036" h="21600">
                <a:moveTo>
                  <a:pt x="90036" y="0"/>
                </a:moveTo>
                <a:lnTo>
                  <a:pt x="90036" y="21600"/>
                </a:lnTo>
                <a:lnTo>
                  <a:pt x="88636" y="20200"/>
                </a:lnTo>
                <a:lnTo>
                  <a:pt x="88636" y="1400"/>
                </a:lnTo>
                <a:close/>
              </a:path>
              <a:path fill="darkenLess" w="90036" h="21600">
                <a:moveTo>
                  <a:pt x="90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636" y="20200"/>
                </a:lnTo>
                <a:close/>
              </a:path>
              <a:path fill="lighten" w="90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0036" h="21600">
                <a:moveTo>
                  <a:pt x="38012" y="3794"/>
                </a:moveTo>
                <a:lnTo>
                  <a:pt x="52024" y="10800"/>
                </a:lnTo>
                <a:lnTo>
                  <a:pt x="38012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00000" y="333360"/>
            <a:ext cx="7272360" cy="934920"/>
          </a:xfrm>
          <a:prstGeom prst="roundRect">
            <a:avLst>
              <a:gd name="adj" fmla="val 16667"/>
            </a:avLst>
          </a:prstGeom>
          <a:solidFill>
            <a:srgbClr val="99ffcc">
              <a:alpha val="45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Проверь запись словарных с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26920" y="2276640"/>
            <a:ext cx="74170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АБР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ЕКТ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68360" y="1700280"/>
            <a:ext cx="8207280" cy="4033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cc33"/>
              </a:gs>
              <a:gs pos="50000">
                <a:srgbClr val="99ffcc"/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87280" y="5950080"/>
            <a:ext cx="2735280" cy="50472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" action="ppaction://hlinkshowjump?jump=nextslide"/>
          </p:cNvPr>
          <p:cNvSpPr/>
          <p:nvPr/>
        </p:nvSpPr>
        <p:spPr>
          <a:xfrm>
            <a:off x="5435640" y="6093000"/>
            <a:ext cx="1800360" cy="431640"/>
          </a:xfrm>
          <a:custGeom>
            <a:avLst/>
            <a:gdLst>
              <a:gd name="textAreaLeft" fmla="*/ 27720 w 1800360"/>
              <a:gd name="textAreaRight" fmla="*/ 1772640 w 1800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90036" h="21600">
                <a:moveTo>
                  <a:pt x="0" y="0"/>
                </a:moveTo>
                <a:lnTo>
                  <a:pt x="90036" y="0"/>
                </a:lnTo>
                <a:lnTo>
                  <a:pt x="90036" y="21600"/>
                </a:lnTo>
                <a:lnTo>
                  <a:pt x="0" y="21600"/>
                </a:lnTo>
                <a:close/>
              </a:path>
              <a:path fill="lightenLess" w="90036" h="21600">
                <a:moveTo>
                  <a:pt x="0" y="0"/>
                </a:moveTo>
                <a:lnTo>
                  <a:pt x="90036" y="0"/>
                </a:lnTo>
                <a:lnTo>
                  <a:pt x="88636" y="1400"/>
                </a:lnTo>
                <a:lnTo>
                  <a:pt x="1400" y="1400"/>
                </a:lnTo>
                <a:close/>
              </a:path>
              <a:path fill="darken" w="90036" h="21600">
                <a:moveTo>
                  <a:pt x="90036" y="0"/>
                </a:moveTo>
                <a:lnTo>
                  <a:pt x="90036" y="21600"/>
                </a:lnTo>
                <a:lnTo>
                  <a:pt x="88636" y="20200"/>
                </a:lnTo>
                <a:lnTo>
                  <a:pt x="88636" y="1400"/>
                </a:lnTo>
                <a:close/>
              </a:path>
              <a:path fill="darkenLess" w="90036" h="21600">
                <a:moveTo>
                  <a:pt x="90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636" y="20200"/>
                </a:lnTo>
                <a:close/>
              </a:path>
              <a:path fill="lighten" w="90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0036" h="21600">
                <a:moveTo>
                  <a:pt x="38012" y="3794"/>
                </a:moveTo>
                <a:lnTo>
                  <a:pt x="52024" y="10800"/>
                </a:lnTo>
                <a:lnTo>
                  <a:pt x="38012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00000" y="333360"/>
            <a:ext cx="7272360" cy="934920"/>
          </a:xfrm>
          <a:prstGeom prst="roundRect">
            <a:avLst>
              <a:gd name="adj" fmla="val 16667"/>
            </a:avLst>
          </a:prstGeom>
          <a:solidFill>
            <a:srgbClr val="99ffcc">
              <a:alpha val="45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Проверь запись словарных с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26920" y="2276640"/>
            <a:ext cx="74170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О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ЛЕЗ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68360" y="1700280"/>
            <a:ext cx="8207280" cy="4033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cc33"/>
              </a:gs>
              <a:gs pos="50000">
                <a:srgbClr val="99ffcc"/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87280" y="5950080"/>
            <a:ext cx="2735280" cy="50472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00000" y="333360"/>
            <a:ext cx="7272360" cy="934920"/>
          </a:xfrm>
          <a:prstGeom prst="roundRect">
            <a:avLst>
              <a:gd name="adj" fmla="val 16667"/>
            </a:avLst>
          </a:prstGeom>
          <a:solidFill>
            <a:srgbClr val="99ffcc">
              <a:alpha val="45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Проверь запись словарных с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" action="ppaction://hlinkshowjump?jump=endshow"/>
          </p:cNvPr>
          <p:cNvSpPr/>
          <p:nvPr/>
        </p:nvSpPr>
        <p:spPr>
          <a:xfrm>
            <a:off x="6084720" y="5950080"/>
            <a:ext cx="935280" cy="718920"/>
          </a:xfrm>
          <a:custGeom>
            <a:avLst/>
            <a:gdLst>
              <a:gd name="textAreaLeft" fmla="*/ 46440 w 935280"/>
              <a:gd name="textAreaRight" fmla="*/ 888840 w 935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8097" h="21600">
                <a:moveTo>
                  <a:pt x="0" y="0"/>
                </a:moveTo>
                <a:lnTo>
                  <a:pt x="28097" y="0"/>
                </a:lnTo>
                <a:lnTo>
                  <a:pt x="28097" y="21600"/>
                </a:lnTo>
                <a:lnTo>
                  <a:pt x="0" y="21600"/>
                </a:lnTo>
                <a:close/>
              </a:path>
              <a:path fill="lightenLess" w="28097" h="21600">
                <a:moveTo>
                  <a:pt x="0" y="0"/>
                </a:moveTo>
                <a:lnTo>
                  <a:pt x="28097" y="0"/>
                </a:lnTo>
                <a:lnTo>
                  <a:pt x="26697" y="1400"/>
                </a:lnTo>
                <a:lnTo>
                  <a:pt x="1400" y="1400"/>
                </a:lnTo>
                <a:close/>
              </a:path>
              <a:path fill="darken" w="28097" h="21600">
                <a:moveTo>
                  <a:pt x="28097" y="0"/>
                </a:moveTo>
                <a:lnTo>
                  <a:pt x="28097" y="21600"/>
                </a:lnTo>
                <a:lnTo>
                  <a:pt x="26697" y="20200"/>
                </a:lnTo>
                <a:lnTo>
                  <a:pt x="26697" y="1400"/>
                </a:lnTo>
                <a:close/>
              </a:path>
              <a:path fill="darkenLess" w="28097" h="21600">
                <a:moveTo>
                  <a:pt x="280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97" y="20200"/>
                </a:lnTo>
                <a:close/>
              </a:path>
              <a:path fill="lighten" w="280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97" h="21600">
                <a:moveTo>
                  <a:pt x="14049" y="3837"/>
                </a:moveTo>
                <a:lnTo>
                  <a:pt x="16625" y="6448"/>
                </a:lnTo>
                <a:lnTo>
                  <a:pt x="16625" y="4707"/>
                </a:lnTo>
                <a:lnTo>
                  <a:pt x="18401" y="4707"/>
                </a:lnTo>
                <a:lnTo>
                  <a:pt x="18401" y="8224"/>
                </a:lnTo>
                <a:lnTo>
                  <a:pt x="21012" y="10800"/>
                </a:lnTo>
                <a:lnTo>
                  <a:pt x="19358" y="10800"/>
                </a:lnTo>
                <a:lnTo>
                  <a:pt x="19358" y="17989"/>
                </a:lnTo>
                <a:lnTo>
                  <a:pt x="8739" y="17989"/>
                </a:lnTo>
                <a:lnTo>
                  <a:pt x="8739" y="10800"/>
                </a:lnTo>
                <a:lnTo>
                  <a:pt x="7086" y="10800"/>
                </a:lnTo>
                <a:close/>
              </a:path>
              <a:path fill="darkenLess" w="28097" h="21600">
                <a:moveTo>
                  <a:pt x="16625" y="6448"/>
                </a:moveTo>
                <a:lnTo>
                  <a:pt x="16625" y="4707"/>
                </a:lnTo>
                <a:lnTo>
                  <a:pt x="18401" y="4707"/>
                </a:lnTo>
                <a:lnTo>
                  <a:pt x="18401" y="8224"/>
                </a:lnTo>
                <a:close/>
              </a:path>
              <a:path fill="darkenLess" w="28097" h="21600">
                <a:moveTo>
                  <a:pt x="13126" y="14299"/>
                </a:moveTo>
                <a:lnTo>
                  <a:pt x="14971" y="14299"/>
                </a:lnTo>
                <a:lnTo>
                  <a:pt x="14971" y="17989"/>
                </a:lnTo>
                <a:lnTo>
                  <a:pt x="19358" y="17989"/>
                </a:lnTo>
                <a:lnTo>
                  <a:pt x="19358" y="10800"/>
                </a:lnTo>
                <a:lnTo>
                  <a:pt x="8739" y="10800"/>
                </a:lnTo>
                <a:lnTo>
                  <a:pt x="8739" y="17989"/>
                </a:lnTo>
                <a:lnTo>
                  <a:pt x="13126" y="17989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26920" y="2276640"/>
            <a:ext cx="74170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ЛЯ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Н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Т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4T17:20:20Z</dcterms:created>
  <dc:creator>user</dc:creator>
  <dc:description/>
  <dc:language>en-US</dc:language>
  <cp:lastModifiedBy>user</cp:lastModifiedBy>
  <dcterms:modified xsi:type="dcterms:W3CDTF">2015-04-24T15:07:33Z</dcterms:modified>
  <cp:revision>20</cp:revision>
  <dc:subject/>
  <dc:title>Слайд 1</dc:title>
</cp:coreProperties>
</file>