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AD6-10A1-45BC-805A-7BEBD7DF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807-0EC5-429B-99A2-5FC0054F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361-331B-46F7-9DD1-7E53AB4D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A67-D8D2-4CDD-91C9-67FEDA84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3BC-C452-4896-B702-79F3A95F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E4F-FCBD-4E4D-A73D-256ABFA8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29CE-EBD4-494C-8043-047FDF9E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68D-B436-4844-8536-8748E147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830-AD1D-4E0D-9DE4-F987E2AB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1CE-3F82-4A52-8BDE-BD44FD1A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E95-1CED-471F-934C-6235458C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2FA4-DD52-417F-A8FA-9E01F9C2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78AC-9600-4E1C-9739-74D02AA83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.photobucket.com/albums/v157/nucuoi/springwall/SLGG_2015.jpg" TargetMode="External"/><Relationship Id="rId3" Type="http://schemas.openxmlformats.org/officeDocument/2006/relationships/hyperlink" Target="http://img1.liveinternet.ru/images/attach/b/4/103/323/103323655_1__19_.png" TargetMode="External"/><Relationship Id="rId4" Type="http://schemas.openxmlformats.org/officeDocument/2006/relationships/hyperlink" Target="http://www.goodfellas.pl/BLUZY/images/butterfly-drawings-with-color-i9.png" TargetMode="Externa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56000" y="765000"/>
            <a:ext cx="360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арные</a:t>
            </a:r>
            <a:endParaRPr b="1" i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а</a:t>
            </a:r>
            <a:endParaRPr b="1" i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64000" y="2924280"/>
            <a:ext cx="157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 класс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4292640"/>
            <a:ext cx="30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пелова Г. В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У «СОШ №20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 Новомоско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8101080" y="333360"/>
            <a:ext cx="755640" cy="792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92000"/>
              <a:gd name="textAreaBottom" fmla="*/ 743040 h 792000"/>
            </a:gdLst>
            <a:ahLst/>
            <a:rect l="textAreaLeft" t="textAreaTop" r="textAreaRight" b="textAreaBottom"/>
            <a:pathLst>
              <a:path w="21600" h="22639">
                <a:moveTo>
                  <a:pt x="0" y="0"/>
                </a:moveTo>
                <a:lnTo>
                  <a:pt x="21600" y="0"/>
                </a:lnTo>
                <a:lnTo>
                  <a:pt x="21600" y="22639"/>
                </a:lnTo>
                <a:lnTo>
                  <a:pt x="0" y="22639"/>
                </a:lnTo>
                <a:close/>
              </a:path>
              <a:path fill="lightenLess" w="21600" h="226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39">
                <a:moveTo>
                  <a:pt x="21600" y="0"/>
                </a:moveTo>
                <a:lnTo>
                  <a:pt x="21600" y="22639"/>
                </a:lnTo>
                <a:lnTo>
                  <a:pt x="20200" y="21239"/>
                </a:lnTo>
                <a:lnTo>
                  <a:pt x="20200" y="1400"/>
                </a:lnTo>
                <a:close/>
              </a:path>
              <a:path fill="darkenLess" w="21600" h="22639">
                <a:moveTo>
                  <a:pt x="21600" y="22639"/>
                </a:moveTo>
                <a:lnTo>
                  <a:pt x="0" y="22639"/>
                </a:lnTo>
                <a:lnTo>
                  <a:pt x="1400" y="21239"/>
                </a:lnTo>
                <a:lnTo>
                  <a:pt x="20200" y="21239"/>
                </a:lnTo>
                <a:close/>
              </a:path>
              <a:path fill="lighten" w="21600" h="22639">
                <a:moveTo>
                  <a:pt x="0" y="226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39"/>
                </a:lnTo>
                <a:close/>
              </a:path>
              <a:path fill="darken" w="21600" h="22639">
                <a:moveTo>
                  <a:pt x="10800" y="4313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639">
                <a:moveTo>
                  <a:pt x="10800" y="4687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639">
                <a:moveTo>
                  <a:pt x="8224" y="8743"/>
                </a:moveTo>
                <a:lnTo>
                  <a:pt x="12088" y="8743"/>
                </a:lnTo>
                <a:lnTo>
                  <a:pt x="12088" y="15741"/>
                </a:lnTo>
                <a:lnTo>
                  <a:pt x="13376" y="15741"/>
                </a:lnTo>
                <a:lnTo>
                  <a:pt x="13376" y="16664"/>
                </a:lnTo>
                <a:lnTo>
                  <a:pt x="8224" y="16664"/>
                </a:lnTo>
                <a:lnTo>
                  <a:pt x="8224" y="15741"/>
                </a:lnTo>
                <a:lnTo>
                  <a:pt x="9512" y="15741"/>
                </a:lnTo>
                <a:lnTo>
                  <a:pt x="9512" y="9648"/>
                </a:lnTo>
                <a:lnTo>
                  <a:pt x="8224" y="9648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3995640" y="6497640"/>
            <a:ext cx="1150920" cy="360360"/>
          </a:xfrm>
          <a:prstGeom prst="rightArrow">
            <a:avLst>
              <a:gd name="adj1" fmla="val 50000"/>
              <a:gd name="adj2" fmla="val 79845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  <a:effectLst>
            <a:outerShdw dist="107932" dir="189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96000" y="2924280"/>
            <a:ext cx="1512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асть 3</a:t>
            </a:r>
            <a:endParaRPr b="0" i="1" lang="en-US" sz="3200" spc="1" strike="noStrike">
              <a:ln w="936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484280"/>
            <a:ext cx="7705800" cy="43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ловарные слова в образах и картинках» Пособие в 2х частях. Издательство: "Владос", 200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лаева Л.П. Работа со словарными словами. – М.: Экзамен,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ова Н.В.Практические материалы учителя начальной школы.- СПб.: ИПК СПО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klass39.ru/slovarnye-slova-v-nachalnoj-shkol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  <a:hlinkClick r:id="rId2"/>
              </a:rPr>
              <a:t>Фон слай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  <a:hlinkClick r:id="rId3"/>
              </a:rPr>
              <a:t>Угловая винь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  <a:hlinkClick r:id="rId4"/>
              </a:rPr>
              <a:t>Бабочка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бочка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4356000" y="587700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7493"/>
                </a:moveTo>
                <a:lnTo>
                  <a:pt x="12681" y="7493"/>
                </a:lnTo>
                <a:lnTo>
                  <a:pt x="12681" y="12828"/>
                </a:lnTo>
                <a:cubicBezTo>
                  <a:pt x="12681" y="13751"/>
                  <a:pt x="13482" y="14482"/>
                  <a:pt x="14517" y="14482"/>
                </a:cubicBezTo>
                <a:lnTo>
                  <a:pt x="16180" y="14482"/>
                </a:lnTo>
                <a:cubicBezTo>
                  <a:pt x="17216" y="14482"/>
                  <a:pt x="18016" y="13751"/>
                  <a:pt x="18016" y="12828"/>
                </a:cubicBezTo>
                <a:lnTo>
                  <a:pt x="18016" y="7493"/>
                </a:lnTo>
                <a:lnTo>
                  <a:pt x="16180" y="7493"/>
                </a:lnTo>
                <a:lnTo>
                  <a:pt x="19687" y="3985"/>
                </a:lnTo>
                <a:lnTo>
                  <a:pt x="23360" y="7493"/>
                </a:lnTo>
                <a:lnTo>
                  <a:pt x="21524" y="7493"/>
                </a:lnTo>
                <a:lnTo>
                  <a:pt x="21524" y="12828"/>
                </a:lnTo>
                <a:cubicBezTo>
                  <a:pt x="21524" y="15596"/>
                  <a:pt x="18948" y="18155"/>
                  <a:pt x="16180" y="18155"/>
                </a:cubicBezTo>
                <a:lnTo>
                  <a:pt x="14517" y="18155"/>
                </a:lnTo>
                <a:cubicBezTo>
                  <a:pt x="11750" y="18155"/>
                  <a:pt x="9173" y="15596"/>
                  <a:pt x="91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26920" y="2276640"/>
            <a:ext cx="743904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ши слова,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авь пропущенные буквы.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жми кнопку "проверка"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узнай, верно ли записаны слова.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О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Д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ЫСТ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С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Т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О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З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К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Ч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Б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К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ЕЗ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endshow"/>
          </p:cNvPr>
          <p:cNvSpPr/>
          <p:nvPr/>
        </p:nvSpPr>
        <p:spPr>
          <a:xfrm>
            <a:off x="6084720" y="5950080"/>
            <a:ext cx="935280" cy="718920"/>
          </a:xfrm>
          <a:custGeom>
            <a:avLst/>
            <a:gdLst>
              <a:gd name="textAreaLeft" fmla="*/ 46440 w 935280"/>
              <a:gd name="textAreaRight" fmla="*/ 888840 w 935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097" h="21600">
                <a:moveTo>
                  <a:pt x="0" y="0"/>
                </a:moveTo>
                <a:lnTo>
                  <a:pt x="28097" y="0"/>
                </a:lnTo>
                <a:lnTo>
                  <a:pt x="28097" y="21600"/>
                </a:lnTo>
                <a:lnTo>
                  <a:pt x="0" y="21600"/>
                </a:lnTo>
                <a:close/>
              </a:path>
              <a:path fill="lightenLess" w="28097" h="21600">
                <a:moveTo>
                  <a:pt x="0" y="0"/>
                </a:moveTo>
                <a:lnTo>
                  <a:pt x="28097" y="0"/>
                </a:lnTo>
                <a:lnTo>
                  <a:pt x="26697" y="1400"/>
                </a:lnTo>
                <a:lnTo>
                  <a:pt x="1400" y="1400"/>
                </a:lnTo>
                <a:close/>
              </a:path>
              <a:path fill="darken" w="28097" h="21600">
                <a:moveTo>
                  <a:pt x="28097" y="0"/>
                </a:moveTo>
                <a:lnTo>
                  <a:pt x="28097" y="21600"/>
                </a:lnTo>
                <a:lnTo>
                  <a:pt x="26697" y="20200"/>
                </a:lnTo>
                <a:lnTo>
                  <a:pt x="26697" y="1400"/>
                </a:lnTo>
                <a:close/>
              </a:path>
              <a:path fill="darkenLess" w="28097" h="21600">
                <a:moveTo>
                  <a:pt x="28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97" y="20200"/>
                </a:lnTo>
                <a:close/>
              </a:path>
              <a:path fill="lighten" w="28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97" h="21600">
                <a:moveTo>
                  <a:pt x="14049" y="3837"/>
                </a:moveTo>
                <a:lnTo>
                  <a:pt x="16625" y="6448"/>
                </a:lnTo>
                <a:lnTo>
                  <a:pt x="16625" y="4707"/>
                </a:lnTo>
                <a:lnTo>
                  <a:pt x="18401" y="4707"/>
                </a:lnTo>
                <a:lnTo>
                  <a:pt x="18401" y="8224"/>
                </a:lnTo>
                <a:lnTo>
                  <a:pt x="21012" y="10800"/>
                </a:lnTo>
                <a:lnTo>
                  <a:pt x="19358" y="10800"/>
                </a:lnTo>
                <a:lnTo>
                  <a:pt x="19358" y="17989"/>
                </a:lnTo>
                <a:lnTo>
                  <a:pt x="8739" y="17989"/>
                </a:lnTo>
                <a:lnTo>
                  <a:pt x="8739" y="10800"/>
                </a:lnTo>
                <a:lnTo>
                  <a:pt x="7086" y="10800"/>
                </a:lnTo>
                <a:close/>
              </a:path>
              <a:path fill="darkenLess" w="28097" h="21600">
                <a:moveTo>
                  <a:pt x="16625" y="6448"/>
                </a:moveTo>
                <a:lnTo>
                  <a:pt x="16625" y="4707"/>
                </a:lnTo>
                <a:lnTo>
                  <a:pt x="18401" y="4707"/>
                </a:lnTo>
                <a:lnTo>
                  <a:pt x="18401" y="8224"/>
                </a:lnTo>
                <a:close/>
              </a:path>
              <a:path fill="darkenLess" w="28097" h="21600">
                <a:moveTo>
                  <a:pt x="13126" y="14299"/>
                </a:moveTo>
                <a:lnTo>
                  <a:pt x="14971" y="14299"/>
                </a:lnTo>
                <a:lnTo>
                  <a:pt x="14971" y="17989"/>
                </a:lnTo>
                <a:lnTo>
                  <a:pt x="19358" y="17989"/>
                </a:lnTo>
                <a:lnTo>
                  <a:pt x="19358" y="10800"/>
                </a:lnTo>
                <a:lnTo>
                  <a:pt x="8739" y="10800"/>
                </a:lnTo>
                <a:lnTo>
                  <a:pt x="8739" y="17989"/>
                </a:lnTo>
                <a:lnTo>
                  <a:pt x="13126" y="17989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ЛЯ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7:20:20Z</dcterms:created>
  <dc:creator>user</dc:creator>
  <dc:description/>
  <dc:language>en-US</dc:language>
  <cp:lastModifiedBy>user</cp:lastModifiedBy>
  <dcterms:modified xsi:type="dcterms:W3CDTF">2015-04-24T15:07:33Z</dcterms:modified>
  <cp:revision>20</cp:revision>
  <dc:subject/>
  <dc:title>Слайд 1</dc:title>
</cp:coreProperties>
</file>