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B92C-C3B3-4F7D-A90E-106110B1A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4D74-FFB1-4C5A-806F-DF6FB3BC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1CB5-CCB3-482B-9CEA-F22BF3EEE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A040-936F-483E-9788-B05479BEF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4A7B-77A6-42C9-820D-646073B8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B1C0-C93F-45E8-ABFD-5B04FEFC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FBDE-4D46-4134-AD35-5F8E68B7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598B-0F6E-4662-8CFB-D290BCE8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5F27-D6ED-4E2A-8753-B9AFE8EA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35B2-87A0-424C-996A-88CCC7C6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1B99-4A26-41EC-8B6A-3D884B17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0786-F4DD-4739-8E39-EE179BFC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2F1A-5553-4325-B380-EF70450880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2360" y="549000"/>
            <a:ext cx="66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20000"/>
                </a:solidFill>
                <a:latin typeface="Times New Roman"/>
              </a:rPr>
              <a:t>Спасибо деду за победу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92360" y="1916280"/>
            <a:ext cx="66960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олнила: ученица МОУ СОШ№3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«В» класса Мурзина Юл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. Комсомольск-на Амур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 участие в боях против немецко-фашистских захватчиком прадед был награждён медалями и орден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Объект 3" descr=""/>
          <p:cNvPicPr/>
          <p:nvPr/>
        </p:nvPicPr>
        <p:blipFill>
          <a:blip r:embed="rId1"/>
          <a:stretch/>
        </p:blipFill>
        <p:spPr>
          <a:xfrm>
            <a:off x="1325520" y="1628640"/>
            <a:ext cx="7693200" cy="5113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 этот бой мой прадед был награждён орденом красной звез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Объект 3" descr=""/>
          <p:cNvPicPr/>
          <p:nvPr/>
        </p:nvPicPr>
        <p:blipFill>
          <a:blip r:embed="rId1"/>
          <a:stretch/>
        </p:blipFill>
        <p:spPr>
          <a:xfrm>
            <a:off x="1403280" y="2421000"/>
            <a:ext cx="7653240" cy="324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акже был награждён орденом Отечественной войны 2 степен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2414520" y="1600200"/>
            <a:ext cx="431496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ши прадеды сражались за нас и их подвиг ни с чем не сравним, низкий поклон им и вечная память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Объект 5" descr=""/>
          <p:cNvPicPr/>
          <p:nvPr/>
        </p:nvPicPr>
        <p:blipFill>
          <a:blip r:embed="rId1"/>
          <a:stretch/>
        </p:blipFill>
        <p:spPr>
          <a:xfrm>
            <a:off x="5148360" y="2276640"/>
            <a:ext cx="3816360" cy="3168360"/>
          </a:xfrm>
          <a:prstGeom prst="rect">
            <a:avLst/>
          </a:prstGeom>
          <a:ln w="0">
            <a:noFill/>
          </a:ln>
        </p:spPr>
      </p:pic>
      <p:pic>
        <p:nvPicPr>
          <p:cNvPr id="68" name="Объект 7" descr=""/>
          <p:cNvPicPr/>
          <p:nvPr/>
        </p:nvPicPr>
        <p:blipFill>
          <a:blip r:embed="rId2"/>
          <a:stretch/>
        </p:blipFill>
        <p:spPr>
          <a:xfrm>
            <a:off x="1187280" y="2303640"/>
            <a:ext cx="3889440" cy="3119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476360" y="907920"/>
            <a:ext cx="743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сожалению, мой прадед  умер и лично с ним я не знакома, но я благодарна ему за победу и память о нем всегда с нами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7" descr="1bPum"/>
          <p:cNvPicPr/>
          <p:nvPr/>
        </p:nvPicPr>
        <p:blipFill>
          <a:blip r:embed="rId1"/>
          <a:stretch/>
        </p:blipFill>
        <p:spPr>
          <a:xfrm>
            <a:off x="2627280" y="3484440"/>
            <a:ext cx="5581800" cy="279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3280" y="620640"/>
            <a:ext cx="728352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й прадед Мурзин Сергей Сергеевич родился 2 августа 1916 года в деревне Цыповка, Сурского района, Ульяновской област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Объект 5" descr=""/>
          <p:cNvPicPr/>
          <p:nvPr/>
        </p:nvPicPr>
        <p:blipFill>
          <a:blip r:embed="rId1"/>
          <a:stretch/>
        </p:blipFill>
        <p:spPr>
          <a:xfrm>
            <a:off x="3348000" y="2276640"/>
            <a:ext cx="3816360" cy="4216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1692360" y="549360"/>
            <a:ext cx="66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октябре 1941 года прадед был призван на фронт и зачислен в ряды Красной арм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8" descr="RIAN_archive_598597_Conscripts'_departure_to_the_army"/>
          <p:cNvPicPr/>
          <p:nvPr/>
        </p:nvPicPr>
        <p:blipFill>
          <a:blip r:embed="rId1"/>
          <a:stretch/>
        </p:blipFill>
        <p:spPr>
          <a:xfrm>
            <a:off x="2340000" y="2492280"/>
            <a:ext cx="5715000" cy="3981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72520"/>
            <a:ext cx="227808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ященная вой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Объект 4" descr=""/>
          <p:cNvPicPr/>
          <p:nvPr/>
        </p:nvPicPr>
        <p:blipFill>
          <a:blip r:embed="rId1"/>
          <a:stretch/>
        </p:blipFill>
        <p:spPr>
          <a:xfrm>
            <a:off x="3780000" y="404640"/>
            <a:ext cx="5113080" cy="5761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7280" y="1434600"/>
            <a:ext cx="22780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тавай, страна огромная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тавай на смертный б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фашистской силой темною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проклятою ордой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усть ярость благородн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кипает, как волна,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дет война народная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ященная война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йна для него началась с первых месяцев. Службу проходил в звание Красноармейца на должности разведчика взвода управления 4 дивизиона 108 гаубичной артилерийской Тарнопольской Краснознамённой ордена Кутузова, ордена Богдана Хмельницкого, бригады большой мощнос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Объект 5" descr=""/>
          <p:cNvPicPr/>
          <p:nvPr/>
        </p:nvPicPr>
        <p:blipFill>
          <a:blip r:embed="rId1"/>
          <a:stretch/>
        </p:blipFill>
        <p:spPr>
          <a:xfrm>
            <a:off x="2873520" y="3500280"/>
            <a:ext cx="4262400" cy="295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ыл на фронтах Волховский, Брянский, Воронежский, 1-й Украинский, был несколько раз ранен и войну закончил в Берлин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Объект 3" descr=""/>
          <p:cNvPicPr/>
          <p:nvPr/>
        </p:nvPicPr>
        <p:blipFill>
          <a:blip r:embed="rId1"/>
          <a:stretch/>
        </p:blipFill>
        <p:spPr>
          <a:xfrm>
            <a:off x="1668600" y="2205000"/>
            <a:ext cx="688644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403280" y="620280"/>
            <a:ext cx="72835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марта  по апрель1943 года – участвовал в боях Волховском фронт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мая  по август 1943 года участвовал в боях на Брянском фронт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августа по октябрь 1943 на Воронежском фронт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1004339-i_122"/>
          <p:cNvPicPr/>
          <p:nvPr/>
        </p:nvPicPr>
        <p:blipFill>
          <a:blip r:embed="rId1"/>
          <a:stretch/>
        </p:blipFill>
        <p:spPr>
          <a:xfrm>
            <a:off x="2556000" y="3789360"/>
            <a:ext cx="5256000" cy="2652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виг праде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89148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48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писание подвиг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33200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д прорывом глубоко эшелонированной обороны противника 16 апреля 1945г в районе Кёбельна красноармеец Мурзин находился на передовом наблюдательном пункте и круглые сутки вёл разведку, обнаружив батарею противника, пулемётную точку, ДЗОТ и один блиндаж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 время наступления 16.04.1945г, когда наша пехота прошла первые траншеи противника, красноармеец Мурзин вёл разведку в составе разведгруппы. Разведгруппа наткнулась на роту немцев. Мурзин первый бросился в атаку, увлекая за собой остальных товарищей. В этом бою красноармеец Мурзин уничтожил двух немцев. Рота немцев была рассеяна и частично уничтоже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Бойко</cp:lastModifiedBy>
  <dcterms:modified xsi:type="dcterms:W3CDTF">2015-04-24T03:53:09Z</dcterms:modified>
  <cp:revision>26</cp:revision>
  <dc:subject/>
  <dc:title>Слайд 1</dc:title>
</cp:coreProperties>
</file>