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5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CBB-BECB-4C16-BB2C-F64C6D13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C10-1B67-47C8-9D7F-1EDFA3C3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C29-35F4-413D-954F-A41711A3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29C-33D1-4C32-82F0-55FC8908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B7D9-B984-4C99-A79A-54F6745B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77C2-D9DA-42D3-939A-204B22F2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8E10-7C87-40B4-90C9-39CF54B6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AB91-CF5E-413C-B334-A52804D8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B6A0-D96B-486F-9E2F-0F67D4DB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71DC-4133-4C45-9769-1C251E42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9489-D6CA-42F9-BD05-0E58F859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815-E110-4C06-A131-1C4E854D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817F-B660-492A-8AFB-57F907F9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8D96-BC51-4CAB-88DE-371C7B6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A333-1C0B-4C4F-BC0A-BBFAF15D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E097-0A39-476B-ADFA-5D902E53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4259-F0F4-436B-B1BB-35FC8EE6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B39-E186-4AFB-AF45-D6978C34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969-4579-493F-A9FD-A5156002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E60-1706-470A-B643-5DCE6B73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F20-F9BD-45A2-9FDF-0F8E373D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25A-B22B-4C8F-A93D-2D7F776E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0C0-8A73-4728-8F93-40693EFC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379-7A6D-4473-BA05-936D07C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D1C9-2A18-48D3-A929-6340E61ED64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DFD4-50EF-4C04-9740-49FCD9EB2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D3ED-42C6-4C5E-AD57-2448E526C39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86A8-ED87-4AB8-B99A-23D78AE54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63680" y="6480"/>
            <a:ext cx="4803480" cy="4065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468360" y="46530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ученица 7Б класса Салтыкова Алё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зоне со средиземноморским климатом выращивались маслины, инжир, миндаль и другие субтропические культуры. В Румынии, Болгарии, Венгрии много яблоневых, сливовых, персиковых садов и виноградников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10 &amp;zcy;&amp;ocy;&amp;lcy;&amp;ocy;&amp;tcy;&amp;ycy;&amp;khcy; &amp;pcy;&amp;rcy;&amp;acy;&amp;vcy;&amp;icy;&amp;lcy; &amp;pcy;&amp;rcy;&amp;acy;&amp;vcy;&amp;icy;&amp;lcy;&amp;softcy;&amp;ncy;&amp;ocy;&amp;gcy;&amp;ocy; &amp;pcy;&amp;icy;&amp;tcy;&amp;acy;&amp;ncy;&amp;icy;&amp;yacy;"/>
          <p:cNvPicPr/>
          <p:nvPr/>
        </p:nvPicPr>
        <p:blipFill>
          <a:blip r:embed="rId2"/>
          <a:stretch/>
        </p:blipFill>
        <p:spPr>
          <a:xfrm>
            <a:off x="5508720" y="2997360"/>
            <a:ext cx="2452680" cy="2087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&amp;tscy;&amp;icy;&amp;tcy;&amp;rcy;&amp;ucy;&amp;scy;&amp;ocy;&amp;vcy;&amp;ycy;&amp;iecy; &amp;Scy;&amp;ucy;&amp;pcy;&amp;iecy;&amp;rcy;&amp;Scy;&amp;acy;&amp;dcy;&amp;ocy;&amp;vcy;&amp;ncy;&amp;icy;&amp;kcy;"/>
          <p:cNvPicPr/>
          <p:nvPr/>
        </p:nvPicPr>
        <p:blipFill>
          <a:blip r:embed="rId3"/>
          <a:stretch/>
        </p:blipFill>
        <p:spPr>
          <a:xfrm>
            <a:off x="3132000" y="242100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&amp;Rcy;&amp;acy;&amp;scy;&amp;tcy;&amp;iecy;&amp;ncy;&amp;icy;&amp;iecy;&amp;vcy;&amp;ocy;&amp;dcy;&amp;scy;&amp;tcy;&amp;vcy;&amp;ocy; &amp;vcy; &amp;ncy;&amp;acy;&amp;shcy;&amp;iecy;&amp;mcy; &amp;kcy;&amp;rcy;&amp;acy;&amp;iecy;"/>
          <p:cNvPicPr/>
          <p:nvPr/>
        </p:nvPicPr>
        <p:blipFill>
          <a:blip r:embed="rId4"/>
          <a:stretch/>
        </p:blipFill>
        <p:spPr>
          <a:xfrm>
            <a:off x="324000" y="2205000"/>
            <a:ext cx="2808000" cy="2108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&amp;acy;&amp;scy;&amp;kcy;&amp;ocy;&amp;rcy;&amp;bcy;&amp;icy;&amp;ncy;&amp;ocy;&amp;vcy;&amp;acy;&amp;yacy; &amp;kcy;&amp;icy;&amp;scy;&amp;lcy;&amp;ocy;&amp;tcy;&amp;acy;"/>
          <p:cNvPicPr/>
          <p:nvPr/>
        </p:nvPicPr>
        <p:blipFill>
          <a:blip r:embed="rId5"/>
          <a:stretch/>
        </p:blipFill>
        <p:spPr>
          <a:xfrm>
            <a:off x="395280" y="4437000"/>
            <a:ext cx="2700360" cy="2027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&amp;Tcy;&amp;ocy;&amp;rcy;&amp;tcy; &amp;kcy;&amp;ocy;&amp;rcy;&amp;zcy;&amp;icy;&amp;ncy;&amp;acy; &amp;scy; &amp;fcy;&amp;rcy;&amp;ucy;&amp;kcy;&amp;tcy;&amp;acy;&amp;mcy;&amp;icy; &amp;fcy;&amp;ocy;&amp;tcy;&amp;ocy;"/>
          <p:cNvPicPr/>
          <p:nvPr/>
        </p:nvPicPr>
        <p:blipFill>
          <a:blip r:embed="rId6"/>
          <a:stretch/>
        </p:blipFill>
        <p:spPr>
          <a:xfrm>
            <a:off x="3203640" y="4834080"/>
            <a:ext cx="2160360" cy="1619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&amp;fcy;&amp;rcy;&amp;ucy;&amp;kcy;&amp;tcy;&amp;ycy;, &amp;yacy;&amp;gcy;&amp;ocy;&amp;dcy;&amp;ycy;, &amp;scy;&amp;lcy;&amp;icy;&amp;vcy;&amp;ycy;, &amp;vcy;&amp;icy;&amp;ncy;&amp;ocy;&amp;gcy;&amp;rcy;&amp;acy;&amp;dcy;, &amp;yacy;&amp;bcy;&amp;lcy;&amp;ocy;&amp;kcy;&amp;icy;, &amp;lcy;&amp;acy;&amp;jcy;&amp;mcy;, &amp;acy;&amp;pcy;&amp;iecy;&amp;lcy;&amp;softcy;&amp;scy;&amp;icy;&amp;ncy;, &amp;fcy;&amp;ocy;&amp;tcy;&amp;ocy;, &amp;ocy;&amp;bcy;&amp;ocy;&amp;icy;, &amp;kcy;&amp;acy;&amp;rcy;&amp;tcy;&amp;icy;&amp;ncy;&amp;kcy;&amp;acy; #12408009 - a-matata.ru"/>
          <p:cNvPicPr/>
          <p:nvPr/>
        </p:nvPicPr>
        <p:blipFill>
          <a:blip r:embed="rId7"/>
          <a:stretch/>
        </p:blipFill>
        <p:spPr>
          <a:xfrm>
            <a:off x="5724360" y="5157720"/>
            <a:ext cx="2087640" cy="139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семестно выращивают различные овощи – помидоры, огурцы, сладкий перец. Без овощей в этих странах практически не обходится ни одно блюдо. Фрукты и овощи перерабатываются на многих предприят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&amp;Fcy;&amp;ocy;&amp;tcy;&amp;ocy; &amp;tcy;&amp;iecy;&amp;pcy;&amp;lcy;&amp;icy;&amp;tscy;&amp;ycy;. . &amp;Ucy;&amp;rcy;&amp;acy;&amp;lcy;&amp;Scy;&amp;tcy;&amp;rcy;&amp;ocy;&amp;jcy;&amp;Pcy;&amp;rcy;&amp;ocy;&amp;gcy;&amp;rcy;&amp;iecy;&amp;scy;&amp;scy;"/>
          <p:cNvPicPr/>
          <p:nvPr/>
        </p:nvPicPr>
        <p:blipFill>
          <a:blip r:embed="rId2"/>
          <a:stretch/>
        </p:blipFill>
        <p:spPr>
          <a:xfrm>
            <a:off x="611280" y="436572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&amp;Ocy;&amp;bcy;&amp;hardcy;&amp;iecy;&amp;mcy;&amp;ycy; &amp;pcy;&amp;rcy;&amp;ocy;&amp;icy;&amp;zcy;&amp;vcy;&amp;ocy;&amp;dcy;&amp;scy;&amp;tcy;&amp;vcy;&amp;acy; &amp;pcy;&amp;rcy;&amp;ocy;&amp;dcy;&amp;ucy;&amp;kcy;&amp;tscy;&amp;icy;&amp;icy; &amp;rcy;&amp;acy;&amp;scy;&amp;tcy;&amp;iecy;&amp;ncy;&amp;icy;&amp;iecy;&amp;vcy;&amp;ocy;&amp;dcy;&amp;scy;&amp;tcy;&amp;vcy;&amp;acy; &amp;vcy; &amp;Scy;&amp;acy;&amp;rcy;&amp;acy;&amp;tcy;&amp;ocy;&amp;vcy;&amp;scy;&amp;kcy;&amp;ocy;&amp;jcy; …"/>
          <p:cNvPicPr/>
          <p:nvPr/>
        </p:nvPicPr>
        <p:blipFill>
          <a:blip r:embed="rId3"/>
          <a:stretch/>
        </p:blipFill>
        <p:spPr>
          <a:xfrm>
            <a:off x="3203640" y="4292640"/>
            <a:ext cx="28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&amp;Pcy;&amp;iecy;&amp;rcy;&amp;iecy;&amp;tscy; &amp;zhcy;&amp;iecy;&amp;lcy;&amp;tcy;&amp;ycy;&amp;jcy; 1 &amp;kcy;&amp;gcy; &amp;kcy;&amp;ucy;&amp;pcy;&amp;icy;&amp;tcy;&amp;softcy; &amp;vcy; &amp;KHcy;&amp;acy;&amp;rcy;&amp;softcy;&amp;kcy;&amp;ocy;&amp;vcy;&amp;iecy;, &amp;scy; &amp;dcy;&amp;ocy;&amp;scy;&amp;tcy;&amp;acy;&amp;vcy;&amp;kcy;&amp;ocy;&amp;jcy;. . &amp;Scy;&amp;vcy;&amp;iecy;&amp;zhcy;&amp;icy;&amp;iecy; &amp;ocy;&amp;vcy;&amp;ocy;&amp;shchcy;&amp;icy; &amp;pcy;&amp;ocy; &amp;dcy;&amp;ocy;&amp;scy;&amp;tcy;&amp;ucy;&amp;pcy;&amp;ncy;&amp;ocy;&amp;jcy; &amp;tscy;&amp;iecy;&amp;ncy;&amp;iecy; &amp;vcy; &amp;pcy;&amp;rcy;&amp;ocy;&amp;dcy;&amp;ucy;&amp;kcy;&amp;tcy;&amp;ocy;&amp;vcy;&amp;ocy;&amp;mcy; &amp;icy;&amp;ncy;&amp;tcy;&amp;iecy;&amp;rcy;&amp;ncy;&amp;iecy;&amp;tcy;-&amp;mcy;&amp;acy;&amp;gcy;&amp;acy;&amp;zcy;&amp;icy;&amp;ncy;&amp;iecy; &amp;Bcy;&amp;ucy;&amp;lcy;&amp;kcy;&amp;acy;."/>
          <p:cNvPicPr/>
          <p:nvPr/>
        </p:nvPicPr>
        <p:blipFill>
          <a:blip r:embed="rId4"/>
          <a:stretch/>
        </p:blipFill>
        <p:spPr>
          <a:xfrm>
            <a:off x="7236000" y="26028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&amp;Mcy;&amp;ocy;&amp;yacy; &amp;bcy;&amp;iecy;&amp;rcy;&amp;iecy;&amp;mcy;&amp;iecy;&amp;ncy;&amp;ncy;&amp;ocy;&amp;scy;&amp;tcy;&amp;softcy; &amp;vcy; &amp;kcy;&amp;acy;&amp;rcy;&amp;tcy;&amp;icy;&amp;ncy;&amp;kcy;&amp;acy;&amp;khcy; &amp;icy; &amp;fcy;&amp;ocy;&amp;tcy;&amp;ocy;."/>
          <p:cNvPicPr/>
          <p:nvPr/>
        </p:nvPicPr>
        <p:blipFill>
          <a:blip r:embed="rId5"/>
          <a:stretch/>
        </p:blipFill>
        <p:spPr>
          <a:xfrm>
            <a:off x="6156360" y="4365720"/>
            <a:ext cx="2685960" cy="201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&amp;Kcy;&amp;acy;&amp;rcy;&amp;tcy;&amp;icy;&amp;ncy;&amp;kcy;&amp;icy; &amp;fcy;&amp;rcy;&amp;ucy;&amp;kcy;&amp;tcy;&amp;ycy; &amp;icy; &amp;ocy;&amp;vcy;&amp;ocy;&amp;shchcy;&amp;icy; &amp;fcy;&amp;ocy;&amp;tcy;&amp;ocy;"/>
          <p:cNvPicPr/>
          <p:nvPr/>
        </p:nvPicPr>
        <p:blipFill>
          <a:blip r:embed="rId6"/>
          <a:stretch/>
        </p:blipFill>
        <p:spPr>
          <a:xfrm>
            <a:off x="250920" y="189000"/>
            <a:ext cx="230508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вотноводство развито в меньшей степен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5000"/>
                </a:solidFill>
                <a:latin typeface="Times New Roman"/>
              </a:rPr>
              <a:t>Можно выделить две зоны животноводства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едение крупного рогатого скота и лошадей, свиноводство, птицеводство — на севере, так как эти направления животноводства традиционно распространены на территории распространения зерновых культу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рно-пастбищное овцеводство — в горной местности Македонии и Черногории. Сыр из овечьего молока(брынза) очень популярен среди на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&amp;Vcy;&amp;ocy;&amp;lcy;&amp;ocy;&amp;kcy;&amp;ncy;&amp;ocy;-&amp;Tcy;&amp;iecy;&amp;khcy;&amp;ncy;&amp;ocy;&amp;mcy;&amp;acy;&amp;shcy; - &amp;Scy;&amp;acy;&amp;ncy;&amp;kcy;&amp;tcy;-&amp;Pcy;&amp;iecy;&amp;tcy;&amp;iecy;&amp;rcy;&amp;bcy;&amp;ucy;&amp;rcy;&amp;gcy; - N4.Biz"/>
          <p:cNvPicPr/>
          <p:nvPr/>
        </p:nvPicPr>
        <p:blipFill>
          <a:blip r:embed="rId2"/>
          <a:stretch/>
        </p:blipFill>
        <p:spPr>
          <a:xfrm>
            <a:off x="6156360" y="4581360"/>
            <a:ext cx="2781360" cy="198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&amp;Kcy;&amp;rcy;&amp;ucy;&amp;tcy;&amp;ycy;&amp;iecy; &amp;Pcy;&amp;acy;&amp;rcy;&amp;ncy;&amp;icy; &amp;Scy;&amp;acy;&amp;mcy;&amp;acy;&amp;rcy;&amp;ycy; &amp;Ncy;&amp;ocy;&amp;vcy;&amp;ocy;&amp;scy;&amp;tcy;&amp;icy; &amp;icy; &amp;scy;&amp;ocy;&amp;bcy;&amp;ycy;&amp;tcy;&amp;icy;&amp;yacy; &amp;Scy;&amp;acy;&amp;mcy;&amp;acy;&amp;rcy;&amp;ycy; Page 2158"/>
          <p:cNvPicPr/>
          <p:nvPr/>
        </p:nvPicPr>
        <p:blipFill>
          <a:blip r:embed="rId3"/>
          <a:stretch/>
        </p:blipFill>
        <p:spPr>
          <a:xfrm>
            <a:off x="7308720" y="404640"/>
            <a:ext cx="1535400" cy="115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&amp;Kcy;&amp;ucy;&amp;rcy;&amp;bcy;&amp;iecy;&amp;tcy; &amp;fcy;&amp;ocy;&amp;tcy;&amp;ocy;. &amp;icy;&amp;zcy;&amp;ocy;&amp;bcy;&amp;rcy;&amp;acy;&amp;zhcy;&amp;iecy;&amp;ncy;&amp;icy;&amp;iecy; 2541"/>
          <p:cNvPicPr/>
          <p:nvPr/>
        </p:nvPicPr>
        <p:blipFill>
          <a:blip r:embed="rId4"/>
          <a:stretch/>
        </p:blipFill>
        <p:spPr>
          <a:xfrm>
            <a:off x="250920" y="3860640"/>
            <a:ext cx="2089080" cy="147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&amp;Kcy;&amp;ocy;&amp;ncy;&amp;ncy;&amp;ycy;&amp;jcy; &amp;zcy;&amp;acy;&amp;vcy;&amp;ocy;&amp;dcy; &quot;&amp;Scy;&amp;tcy;&amp;acy;&amp;tcy;&amp;ucy;&amp;scy;&quot;"/>
          <p:cNvPicPr/>
          <p:nvPr/>
        </p:nvPicPr>
        <p:blipFill>
          <a:blip r:embed="rId5"/>
          <a:stretch/>
        </p:blipFill>
        <p:spPr>
          <a:xfrm>
            <a:off x="3564000" y="3716280"/>
            <a:ext cx="2736720" cy="1825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&amp;Scy;&amp;ucy;&amp;bcy;&amp;scy;&amp;icy;&amp;dcy;&amp;icy;&amp;icy; &amp;pcy;&amp;ocy;&amp;lcy;&amp;ucy;&amp;chcy;&amp;acy;&amp;tcy; &amp;pcy;&amp;rcy;&amp;iecy;&amp;dcy;&amp;pcy;&amp;rcy;&amp;icy;&amp;yacy;&amp;tcy;&amp;icy;&amp;yacy;&amp;mcy; &amp;scy;&amp;vcy;&amp;icy;&amp;ncy;&amp;ocy;&amp;vcy;&amp;ocy;&amp;dcy;&amp;scy;&amp;tcy;&amp;vcy;&amp;acy; &amp;icy; &amp;pcy;&amp;tcy;&amp;icy;&amp;tscy;&amp;iecy;&amp;vcy;&amp;ocy;&amp;dcy;&amp;scy;&amp;tcy;&amp;vcy;&amp;acy; &amp;vcy; &amp;Ucy;&amp;dcy;&amp;mcy;&amp;ucy;&amp;rcy;&amp;tcy;&amp;icy;&amp;icy; / &amp;Icy;&amp;zcy;&amp;vcy;&amp;iecy;&amp;scy;&amp;tcy;&amp;icy;&amp;yacy; &amp;Ucy;&amp;dcy;&amp;mcy;&amp;ucy;&amp;rcy;&amp;tcy;&amp;scy;&amp;kcy;&amp;ocy;&amp;jcy; &amp;Rcy;&amp;iecy;&amp;scy;&amp;pcy;&amp;ucy;&amp;bcy;&amp;lcy;&amp;icy;&amp;kcy;&amp;icy;"/>
          <p:cNvPicPr/>
          <p:nvPr/>
        </p:nvPicPr>
        <p:blipFill>
          <a:blip r:embed="rId6"/>
          <a:stretch/>
        </p:blipFill>
        <p:spPr>
          <a:xfrm>
            <a:off x="1692360" y="5084640"/>
            <a:ext cx="2255760" cy="16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ы богаты полезными ископаемыми. Особенно известны месторождения руд, содержащих цинк, свинец, серебро. Значительны запасы никелевых и хромитовых руд, ме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химической промышленности — переработка газа и неф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&amp;Pcy;&amp;ocy;&amp;lcy;&amp;iecy;&amp;zcy;&amp;ncy;&amp;ocy;&amp;iecy; &amp;icy;&amp;scy;&amp;kcy;&amp;ocy;&amp;pcy;&amp;acy;&amp;iecy;&amp;mcy;&amp;ocy;&amp;iecy; &amp;acy;&amp;lcy;&amp;yucy;&amp;mcy;&amp;icy;&amp;ncy;&amp;icy;&amp;iecy;&amp;vcy;&amp;ycy;&amp;iecy; &amp;rcy;&amp;ucy;&amp;dcy;&amp;ycy; :: &amp;Vcy;&amp;scy;&amp;iecy; &amp;acy;&amp;vcy;&amp;tcy;&amp;ocy;&amp;mcy;&amp;ocy;&amp;bcy;&amp;icy;&amp;lcy;&amp;icy;"/>
          <p:cNvPicPr/>
          <p:nvPr/>
        </p:nvPicPr>
        <p:blipFill>
          <a:blip r:embed="rId2"/>
          <a:stretch/>
        </p:blipFill>
        <p:spPr>
          <a:xfrm>
            <a:off x="250920" y="189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&amp;Scy;&amp;ocy;&amp;ocy;&amp;bcy;&amp;shchcy;&amp;iecy;&amp;ncy;&amp;icy;&amp;iecy; &amp;ocy;&amp;bcy; &amp;pcy;&amp;ocy;&amp;lcy;&amp;iecy;&amp;zcy;&amp;ncy;&amp;ocy;&amp;mcy; &amp;icy;&amp;scy;&amp;kcy;&amp;ocy;&amp;pcy;&amp;acy;&amp;iecy;&amp;mcy;&amp;ocy;&amp;mcy; &amp;zhcy;&amp;iecy;&amp;lcy;&amp;iecy;&amp;zcy;&amp;ncy;&amp;acy;&amp;yacy; &amp;rcy;&amp;ucy;&amp;dcy;&amp;acy;"/>
          <p:cNvPicPr/>
          <p:nvPr/>
        </p:nvPicPr>
        <p:blipFill>
          <a:blip r:embed="rId3"/>
          <a:stretch/>
        </p:blipFill>
        <p:spPr>
          <a:xfrm>
            <a:off x="6732720" y="260280"/>
            <a:ext cx="2111400" cy="151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&amp;Mcy;&amp;iecy;&amp;dcy;&amp;ncy;&amp;acy;&amp;yacy; &amp;rcy;&amp;ucy;&amp;dcy;&amp;acy; - &amp;Kcy;&amp;acy;&amp;rcy;&amp;tcy;&amp;icy;&amp;ncy;&amp;kcy;&amp;acy; 1325/44"/>
          <p:cNvPicPr/>
          <p:nvPr/>
        </p:nvPicPr>
        <p:blipFill>
          <a:blip r:embed="rId4"/>
          <a:stretch/>
        </p:blipFill>
        <p:spPr>
          <a:xfrm>
            <a:off x="5999040" y="4292640"/>
            <a:ext cx="3144960" cy="2359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&amp;Rcy;&amp;ocy;&amp;scy;&amp;scy;&amp;icy;&amp;yacy; &amp;ncy;&amp;iecy; &amp;scy;&amp;dcy;&amp;acy;&amp;iecy;&amp;tcy;&amp;scy;&amp;yacy;!!! . &amp;Vcy;&amp;Kcy;&amp;ocy;&amp;ncy;&amp;tcy;&amp;acy;&amp;kcy;&amp;tcy;&amp;iecy;"/>
          <p:cNvPicPr/>
          <p:nvPr/>
        </p:nvPicPr>
        <p:blipFill>
          <a:blip r:embed="rId5"/>
          <a:stretch/>
        </p:blipFill>
        <p:spPr>
          <a:xfrm>
            <a:off x="250920" y="4292640"/>
            <a:ext cx="2133360" cy="228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&amp;Fcy;&amp;ocy;&amp;tcy;&amp;ocy;&amp;gcy;&amp;rcy;&amp;acy;&amp;fcy;&amp;icy;&amp;yacy; &amp;Ncy;&amp;ocy;&amp;vcy;&amp;ycy;&amp;jcy; &amp;Ucy;&amp;rcy;&amp;iecy;&amp;ncy;&amp;gcy;&amp;ocy;&amp;jcy; &amp;Fcy;&amp;ocy;&amp;tcy;&amp;ocy;&amp;bcy;&amp;acy;&amp;ncy;&amp;kcy; &amp;Gcy;&amp;iecy;&amp;ocy;&amp;Fcy;&amp;ocy;&amp;tcy;&amp;ocy;/GeoPhoto GetImages Group"/>
          <p:cNvPicPr/>
          <p:nvPr/>
        </p:nvPicPr>
        <p:blipFill>
          <a:blip r:embed="rId6"/>
          <a:stretch/>
        </p:blipFill>
        <p:spPr>
          <a:xfrm>
            <a:off x="3564000" y="4076640"/>
            <a:ext cx="1871640" cy="236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еталлург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руд цветных металлов определило развитие цветной металлургии в стране. Производство лёгких металлов тяготеет к источникам электроэнергии (крупный центр производства алюминия в Словении (у каскада ГЭС на реке Драве) и на побережье Адриатического мор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ом чёрной металлургии стала Босния и Герцеговина, где находился самый большой в Югославии металлургический комбинат (город Зениц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&amp;Ncy;&amp;ocy;&amp;vcy;&amp;ocy;&amp;scy;&amp;tcy;&amp;icy; &amp;scy; &amp;tcy;&amp;ecy;&amp;gcy;&amp;ocy;&amp;mcy; - &amp;Pcy;&amp;ocy;&amp;lcy;&amp;yucy;&amp;scy; &amp;zcy;&amp;ocy;&amp;lcy;&amp;ocy;&amp;tcy;&amp;ocy;"/>
          <p:cNvPicPr/>
          <p:nvPr/>
        </p:nvPicPr>
        <p:blipFill>
          <a:blip r:embed="rId2"/>
          <a:stretch/>
        </p:blipFill>
        <p:spPr>
          <a:xfrm>
            <a:off x="6659640" y="4508640"/>
            <a:ext cx="2171520" cy="2012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&amp;Pcy;&amp;rcy;&amp;icy;&amp;ocy;&amp;kcy;&amp;scy;&amp;kcy;&amp;icy;&amp;jcy; &amp;zcy;&amp;acy;&amp;vcy;&amp;ocy;&amp;dcy; &amp;tscy;&amp;vcy;&amp;iecy;&amp;tcy;&amp;ncy;&amp;ycy;&amp;khcy; &amp;mcy;&amp;iecy;&amp;tcy;&amp;acy;&amp;lcy;&amp;lcy;&amp;ocy;&amp;vcy;: &amp;icy;&amp;scy;&amp;tcy;&amp;ocy;&amp;rcy;&amp;icy;&amp;yacy; &amp;pcy;&amp;rcy;&amp;iecy;&amp;dcy;&amp;pcy;&amp;rcy;&amp;icy;&amp;yacy;&amp;tcy;&amp;icy;&amp;yacy;"/>
          <p:cNvPicPr/>
          <p:nvPr/>
        </p:nvPicPr>
        <p:blipFill>
          <a:blip r:embed="rId3"/>
          <a:stretch/>
        </p:blipFill>
        <p:spPr>
          <a:xfrm>
            <a:off x="395280" y="4581360"/>
            <a:ext cx="2521080" cy="1887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&amp;Tcy;&amp;ocy;&amp;vcy;&amp;acy;&amp;rcy;&amp;ycy; &amp;icy; &amp;ucy;&amp;scy;&amp;lcy;&amp;ucy;&amp;gcy;&amp;icy; &amp;kcy;&amp;ocy;&amp;mcy;&amp;pcy;&amp;acy;&amp;ncy;&amp;icy;&amp;icy;: &amp;tscy;&amp;iecy;&amp;ncy;&amp;acy;, &amp;pcy;&amp;rcy;&amp;acy;&amp;jcy;&amp;scy;, &amp;acy;&amp;dcy;&amp;rcy;&amp;iecy;&amp;scy;, &amp;tcy;&amp;iecy;&amp;lcy;&amp;iecy;&amp;fcy;&amp;ocy;&amp;ncy; - &amp;Acy;&amp;rcy;&amp;tcy;&amp;iecy;&amp;mcy;&amp;ocy;&amp;vcy;&amp;scy;&amp;kcy;&amp;icy;&amp;jcy; &amp;zcy;&amp;acy;&amp;vcy;&amp;ocy;&amp;dcy; &amp;pcy;&amp;ocy; &amp;ocy;&amp;bcy;&amp;rcy;&amp;acy;&amp;bcy;&amp;ocy;&amp;tcy;&amp;kcy;&amp;iecy; &amp;tscy;&amp;vcy;&amp;iecy;&amp;tcy;&amp;ncy;&amp;ycy;&amp;khcy; &amp;mcy;&amp;iecy;&amp;tcy;&amp;acy;&amp;lcy;&amp;lcy;&amp;ocy;&amp;vcy; (&amp;Acy;&amp;Zcy;&amp;Ocy;&amp;TScy;&amp;Mcy;), &amp;Ocy;&amp;Acy;&amp;Ocy; - &amp;Lcy;&amp;ucy;&amp;gcy;&amp;acy;&amp;ncy;&amp;scy;&amp;kcy;&amp;acy;&amp;yacy;"/>
          <p:cNvPicPr/>
          <p:nvPr/>
        </p:nvPicPr>
        <p:blipFill>
          <a:blip r:embed="rId4"/>
          <a:stretch/>
        </p:blipFill>
        <p:spPr>
          <a:xfrm>
            <a:off x="3132000" y="4365720"/>
            <a:ext cx="316728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промышленности развито также машиностроение – производство автомобилей, сельскохозяйственных машин, транспорта, морских 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900000" y="285264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центры машиностро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гре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гр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ля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и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гуев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т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ае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" descr="&amp;Fcy;&amp;ocy;&amp;tcy;&amp;ocy; &amp;mcy;&amp;acy;&amp;shcy;&amp;icy;&amp;ncy;&amp;ycy; &amp;lcy;&amp;acy;&amp;dcy;&amp;acy; 2112 - &amp;Fcy;&amp;ocy;&amp;tcy;&amp;ocy; &amp;mcy;&amp;acy;&amp;shcy;&amp;icy;&amp;ncy; - &amp;Fcy;&amp;ocy;&amp;tcy;&amp;ocy;&amp;acy;&amp;lcy;&amp;softcy;&amp;bcy;&amp;ocy;&amp;mcy;&amp;ycy; - &amp;Pcy;&amp;iecy;&amp;rcy;&amp;scy;&amp;ocy;&amp;ncy;&amp;acy;&amp;lcy;&amp;softcy;&amp;ncy;&amp;ycy;&amp;jcy; &amp;scy;&amp;acy;&amp;jcy;&amp;tcy;"/>
          <p:cNvPicPr/>
          <p:nvPr/>
        </p:nvPicPr>
        <p:blipFill>
          <a:blip r:embed="rId2"/>
          <a:stretch/>
        </p:blipFill>
        <p:spPr>
          <a:xfrm>
            <a:off x="6012000" y="4437000"/>
            <a:ext cx="2736720" cy="2049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&amp;Bcy;&amp;ocy;&amp;rcy;&amp;tcy;&amp;ocy;&amp;vcy;&amp;ycy;&amp;iecy; &amp;mcy;&amp;acy;&amp;shcy;&amp;icy;&amp;ncy;&amp;ycy; &amp;Mcy;&amp;ocy;&amp;scy;&amp;kcy;&amp;vcy;&amp;acy;. &amp;Pcy;&amp;rcy;&amp;iecy;&amp;dcy;&amp;lcy;&amp;acy;&amp;gcy;&amp;acy;&amp;yucy; &amp;ucy;&amp;scy;&amp;lcy;&amp;ucy;&amp;gcy;&amp;icy;"/>
          <p:cNvPicPr/>
          <p:nvPr/>
        </p:nvPicPr>
        <p:blipFill>
          <a:blip r:embed="rId3"/>
          <a:stretch/>
        </p:blipFill>
        <p:spPr>
          <a:xfrm>
            <a:off x="2700360" y="3933720"/>
            <a:ext cx="2786040" cy="208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&amp;Acy;&amp;dcy;&amp;mcy;&amp;icy;&amp;ncy;&amp;icy;&amp;scy;&amp;tcy;&amp;rcy;&amp;acy;&amp;tscy;&amp;icy;&amp;yacy; &amp;Zcy;&amp;iecy;&amp;mcy;&amp;iecy;&amp;tcy;&amp;chcy;&amp;icy;&amp;ncy;&amp;scy;&amp;kcy;&amp;ocy;&amp;gcy;&amp;ocy; &amp;rcy;&amp;acy;&amp;jcy;&amp;ocy;&amp;ncy;&amp;acy;. . &amp;Scy;&amp;iecy;&amp;lcy;&amp;softcy;&amp;khcy;&amp;ocy;&amp;zcy;&amp;tcy;&amp;ocy;&amp;vcy;&amp;acy;&amp;rcy;&amp;ocy;&amp;pcy;&amp;rcy;&amp;ocy;&amp;icy;&amp;zcy;&amp;vcy;&amp;ocy;&amp;dcy;&amp;icy;&amp;tcy;&amp;iecy;&amp;lcy;&amp;icy; &amp;Zcy;&amp;iecy;&amp;mcy;&amp;iecy;&amp;tcy;&amp;chcy;&amp;icy;&amp;ncy;&amp;scy;&amp;kcy;&amp;ocy;&amp;gcy;&amp;ocy; &amp;rcy;&amp;acy;&amp;jcy;&amp;ocy;&amp;ncy;&amp;acy; &amp;pcy;&amp;rcy;&amp;icy;&amp;gcy;&amp;lcy;&amp;acy;&amp;shcy;&amp;acy;&amp;yucy;&amp;tcy;&amp;scy;&amp;yacy; &amp;kcy; &amp;ucy;&amp;chcy;&amp;acy;&amp;scy;&amp;tcy;&amp;icy;&amp;yucy; &amp;vcy; &amp;vcy;&amp;ycy;&amp;scy;&amp;tcy;&amp;acy;&amp;vcy;&amp;kcy;&amp;iecy; &amp;scy;&amp;iecy;&amp;lcy;&amp;softcy;&amp;scy;&amp;kcy;&amp;ocy;&amp;khcy;"/>
          <p:cNvPicPr/>
          <p:nvPr/>
        </p:nvPicPr>
        <p:blipFill>
          <a:blip r:embed="rId4"/>
          <a:stretch/>
        </p:blipFill>
        <p:spPr>
          <a:xfrm>
            <a:off x="6012000" y="2060640"/>
            <a:ext cx="268920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63640" y="692280"/>
            <a:ext cx="590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ре, горы, тёплый климат,    исторические памятники привлекают сюда много туристов. Туризм приносит большие дох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&amp;Fcy;&amp;ocy;&amp;tcy;&amp;ocy; - &amp;Scy;&amp;lcy;&amp;ocy;&amp;vcy;&amp;iecy;&amp;ncy;&amp;icy;&amp;yacy; - &amp;Dcy;&amp;ocy;&amp;scy;&amp;tcy;&amp;ocy;&amp;pcy;&amp;rcy;&amp;icy;&amp;mcy;&amp;iecy;&amp;chcy;&amp;acy;&amp;tcy;&amp;iecy;&amp;lcy;&amp;softcy;&amp;ncy;&amp;ocy;&amp;scy;&amp;tcy;&amp;icy; &amp;Scy;&amp;lcy;&amp;ocy;&amp;vcy;&amp;iecy;&amp;ncy;&amp;icy;&amp;icy;"/>
          <p:cNvPicPr/>
          <p:nvPr/>
        </p:nvPicPr>
        <p:blipFill>
          <a:blip r:embed="rId2"/>
          <a:stretch/>
        </p:blipFill>
        <p:spPr>
          <a:xfrm>
            <a:off x="179280" y="3573360"/>
            <a:ext cx="4068720" cy="275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&amp;Scy;&amp;tcy;&amp;rcy;&amp;acy;&amp;ncy;&amp;ycy; &amp;Scy;&amp;lcy;&amp;ocy;&amp;vcy;&amp;iecy;&amp;ncy;&amp;icy;&amp;yacy; &amp;Fcy;&amp;ocy;&amp;tcy;&amp;ocy; &amp;Tcy;&amp;ucy;&amp;rcy;&amp;icy;&amp;scy;&amp;tcy;&amp;icy;&amp;chcy;&amp;iecy;&amp;scy;&amp;kcy;&amp;ocy;&amp;iecy; &amp;acy;&amp;gcy;&amp;iecy;&amp;ncy;&amp;tcy;&amp;scy;&amp;tcy;&amp;vcy;&amp;ocy; &amp;Icy;&amp;Ncy;&amp;Dcy;&amp;IEcy;&amp;Kcy;&amp;Scy;-&amp;Tcy;&amp;Ucy;&amp;Rcy;"/>
          <p:cNvPicPr/>
          <p:nvPr/>
        </p:nvPicPr>
        <p:blipFill>
          <a:blip r:embed="rId3"/>
          <a:stretch/>
        </p:blipFill>
        <p:spPr>
          <a:xfrm>
            <a:off x="5076720" y="3573360"/>
            <a:ext cx="3721320" cy="278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5000"/>
                </a:solidFill>
                <a:latin typeface="Times New Roman"/>
              </a:rPr>
              <a:t>          </a:t>
            </a:r>
            <a:r>
              <a:rPr b="0" lang="ru-RU" sz="2900" spc="-1" strike="noStrike">
                <a:solidFill>
                  <a:srgbClr val="005000"/>
                </a:solidFill>
                <a:latin typeface="Times New Roman"/>
              </a:rPr>
              <a:t>Список использованной литературы:</a:t>
            </a:r>
            <a:br>
              <a:rPr sz="2900"/>
            </a:b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srpski.ru/countries/former_yugoslavia/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s://ru.wikipedia.org/wiki/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krugosvet.ru/node/42381</a:t>
            </a:r>
            <a:br>
              <a:rPr sz="1800"/>
            </a:br>
            <a:br>
              <a:rPr sz="2200"/>
            </a:b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Коринская, И.В.Душина, В.А.Щенев учебник географии 7 класс издательство Дрофа 2011 г.</a:t>
            </a:r>
            <a:br>
              <a:rPr sz="1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52084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Столица: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град (1,5 млн. жителей, 1992).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Государственные языки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сербскохорватский, словенский и македонский; в качестве официальных признавались также венгерский и албанский. </a:t>
            </a:r>
            <a:br>
              <a:rPr sz="2000"/>
            </a:b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Религия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истианство и ислам. </a:t>
            </a:r>
            <a:br>
              <a:rPr sz="2000"/>
            </a:b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Денежная единица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югославский динар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-108000" y="333360"/>
            <a:ext cx="55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Официальное наз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Союзная Республика Югосла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5435640" y="260280"/>
            <a:ext cx="3519360" cy="194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5867280" y="3284640"/>
            <a:ext cx="2721240" cy="32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468360" y="1916280"/>
            <a:ext cx="36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ыла расположена на юге Европы, в основном на Балканском полуострове (кроме Румынии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4067280" y="1413000"/>
            <a:ext cx="4821120" cy="4752720"/>
          </a:xfrm>
          <a:prstGeom prst="rect">
            <a:avLst/>
          </a:prstGeom>
          <a:ln w="9360">
            <a:solidFill>
              <a:srgbClr val="194b32"/>
            </a:solidFill>
            <a:miter/>
          </a:ln>
        </p:spPr>
      </p:pic>
      <p:pic>
        <p:nvPicPr>
          <p:cNvPr id="90" name="Прямоугольник 6" descr=""/>
          <p:cNvPicPr/>
          <p:nvPr/>
        </p:nvPicPr>
        <p:blipFill>
          <a:blip r:embed="rId3"/>
          <a:stretch/>
        </p:blipFill>
        <p:spPr>
          <a:xfrm>
            <a:off x="-42840" y="231840"/>
            <a:ext cx="9015480" cy="110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24000" y="76500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000"/>
                </a:solidFill>
                <a:latin typeface="Times New Roman"/>
              </a:rPr>
              <a:t>Белгра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крупнейший экономический и культурный центр страны. В городе и его окрестностях около 200 промышленных предприятий, свыше 120 библиотек, много театров и музеев. В Белграде сотни памятников архитекту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85680"/>
            <a:ext cx="9156960" cy="75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809172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Бывшая Югослав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самое крупное государство южных славян. Политический и военный конфликт в Югославии в начале 90-х годов 20 века привели к распаду страны на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езависимых государств(Сербия, Черногория, Хорватия, Словения, Македония, Босния и Герцеговин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&amp;Ocy; &amp;scy;&amp;tcy;&amp;rcy;&amp;acy;&amp;ncy;&amp;acy;&amp;khcy; &amp;bcy;&amp;ycy;&amp;vcy;&amp;shcy;&amp;iecy;&amp;jcy; &amp;YUcy;&amp;gcy;&amp;ocy;&amp;scy;&amp;lcy;&amp;acy;&amp;vcy;&amp;icy;&amp;icy;"/>
          <p:cNvPicPr/>
          <p:nvPr/>
        </p:nvPicPr>
        <p:blipFill>
          <a:blip r:embed="rId2"/>
          <a:stretch/>
        </p:blipFill>
        <p:spPr>
          <a:xfrm>
            <a:off x="1692360" y="1557360"/>
            <a:ext cx="5595840" cy="475128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лаг Румынии                             Флаг Болгарии                                       Флаг Алб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Флаги стран бывшей Югослав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лаг Македонии                          Флаг Сербии                                     Флаг Черногор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лаг Боснии и Герцоговины          Флаг Словении                              Флаг  Хорват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Flag of Romania.svg"/>
          <p:cNvPicPr/>
          <p:nvPr/>
        </p:nvPicPr>
        <p:blipFill>
          <a:blip r:embed="rId2"/>
          <a:stretch/>
        </p:blipFill>
        <p:spPr>
          <a:xfrm>
            <a:off x="468360" y="404640"/>
            <a:ext cx="2336760" cy="12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4" descr="Flag of Bulgaria.svg"/>
          <p:cNvPicPr/>
          <p:nvPr/>
        </p:nvPicPr>
        <p:blipFill>
          <a:blip r:embed="rId3"/>
          <a:stretch/>
        </p:blipFill>
        <p:spPr>
          <a:xfrm>
            <a:off x="3132000" y="404640"/>
            <a:ext cx="2336760" cy="12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6" descr="Flag of Albania.svg"/>
          <p:cNvPicPr/>
          <p:nvPr/>
        </p:nvPicPr>
        <p:blipFill>
          <a:blip r:embed="rId4"/>
          <a:stretch/>
        </p:blipFill>
        <p:spPr>
          <a:xfrm>
            <a:off x="5867280" y="404640"/>
            <a:ext cx="2449800" cy="12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Picture 8" descr="Flag of Macedonia.svg"/>
          <p:cNvPicPr/>
          <p:nvPr/>
        </p:nvPicPr>
        <p:blipFill>
          <a:blip r:embed="rId5"/>
          <a:stretch/>
        </p:blipFill>
        <p:spPr>
          <a:xfrm>
            <a:off x="395280" y="2852640"/>
            <a:ext cx="2448000" cy="12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Picture 10" descr="Flag of Serbia.svg"/>
          <p:cNvPicPr/>
          <p:nvPr/>
        </p:nvPicPr>
        <p:blipFill>
          <a:blip r:embed="rId6"/>
          <a:stretch/>
        </p:blipFill>
        <p:spPr>
          <a:xfrm>
            <a:off x="3276720" y="2852640"/>
            <a:ext cx="2273040" cy="12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12" descr="Flag of Montenegro.svg"/>
          <p:cNvPicPr/>
          <p:nvPr/>
        </p:nvPicPr>
        <p:blipFill>
          <a:blip r:embed="rId7"/>
          <a:stretch/>
        </p:blipFill>
        <p:spPr>
          <a:xfrm>
            <a:off x="5796000" y="2781360"/>
            <a:ext cx="250812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Flag of Bosnia and Herzegovina.svg"/>
          <p:cNvPicPr/>
          <p:nvPr/>
        </p:nvPicPr>
        <p:blipFill>
          <a:blip r:embed="rId8"/>
          <a:stretch/>
        </p:blipFill>
        <p:spPr>
          <a:xfrm>
            <a:off x="468360" y="4724280"/>
            <a:ext cx="2381040" cy="119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lag of Slovenia.svg"/>
          <p:cNvPicPr/>
          <p:nvPr/>
        </p:nvPicPr>
        <p:blipFill>
          <a:blip r:embed="rId9"/>
          <a:stretch/>
        </p:blipFill>
        <p:spPr>
          <a:xfrm>
            <a:off x="3203640" y="4724280"/>
            <a:ext cx="230508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4" descr="Flag of Croatia.svg"/>
          <p:cNvPicPr/>
          <p:nvPr/>
        </p:nvPicPr>
        <p:blipFill>
          <a:blip r:embed="rId10"/>
          <a:stretch/>
        </p:blipFill>
        <p:spPr>
          <a:xfrm>
            <a:off x="5940360" y="4724280"/>
            <a:ext cx="2303640" cy="11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784872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539640" y="422100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Times New Roman"/>
              </a:rPr>
              <a:t>Народы, проживающие на территории государст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овения - словен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орватия -  хорваты, сербы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сния и Герцеговина - боснийцы, сербы, хорва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ербия - сербы, албанцы, венгры, черногор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ногория - черногорцы, серб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кедония -  македонцы, албанцы, тур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&amp;Kcy;&amp;acy;&amp;rcy;&amp;tcy;&amp;acy; &amp;YUcy;&amp;gcy;&amp;ocy;&amp;scy;&amp;lcy;&amp;acy;&amp;vcy;&amp;icy;&amp;icy;"/>
          <p:cNvPicPr/>
          <p:nvPr/>
        </p:nvPicPr>
        <p:blipFill>
          <a:blip r:embed="rId1"/>
          <a:stretch/>
        </p:blipFill>
        <p:spPr>
          <a:xfrm>
            <a:off x="826920" y="0"/>
            <a:ext cx="7705800" cy="6381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тениевод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 всех странах, кроме Болгарии, население живёт главным образом в сельской местности. Главное занятие сельского населения – растениеводство. Обширные поля заняты посевами пшеницы и кукурузы, сахарной свеклой и подсолнечником. Появились новые культуры – рис, хлопчатник, соя. В южных районах (Македония и Герцеговина) выращивается таба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&amp;YAcy;&amp;gcy;&amp;ocy;&amp;dcy;&amp;ycy; &amp;gcy;&amp;ocy;&amp;dcy;&amp;zhcy;&amp;icy; &amp;rcy;&amp;acy;&amp;scy;&amp;tcy;&amp;iecy;&amp;ncy;&amp;icy;&amp;iecy;&amp;vcy;&amp;ocy;&amp;dcy;&amp;scy;&amp;tcy;&amp;vcy;&amp;ocy; &amp;icy; &amp;zhcy;&amp;icy;&amp;vcy;&amp;ocy;&amp;tcy;&amp;ncy;&amp;ocy;&amp;vcy;&amp;ocy;&amp;dcy;&amp;scy;&amp;tcy;&amp;vcy;&amp;ocy; &amp;kcy;&amp;acy;&amp;rcy;&amp;tcy;&amp;icy;&amp;ncy;&amp;kcy;&amp;icy; &amp;KHcy;&amp;ucy;&amp;dcy;&amp;iecy;&amp;iecy;&amp;mcy; &amp;vcy;&amp;mcy;&amp;iecy;&amp;scy;&amp;tcy;&amp;iecy;!"/>
          <p:cNvPicPr/>
          <p:nvPr/>
        </p:nvPicPr>
        <p:blipFill>
          <a:blip r:embed="rId2"/>
          <a:stretch/>
        </p:blipFill>
        <p:spPr>
          <a:xfrm>
            <a:off x="324000" y="3357720"/>
            <a:ext cx="2636640" cy="180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&amp;Ucy;&amp;rcy;&amp;ocy;&amp;kcy; &amp;rcy;&amp;acy;&amp;scy;&amp;tcy;&amp;iecy;&amp;ncy;&amp;icy;&amp;iecy;&amp;vcy;&amp;ocy;&amp;dcy;&amp;scy;&amp;tcy;&amp;vcy;&amp;acy; - &amp;Kcy;&amp;ucy;&amp;lcy;&amp;softcy;&amp;tcy;&amp;ucy;&amp;rcy;&amp;ncy;&amp;ycy;&amp;iecy; &amp;rcy;&amp;acy;&amp;scy;&amp;tcy;&amp;iecy;&amp;ncy;&amp;icy;&amp;yacy; - &amp;Fcy;&amp;ocy;&amp;tcy;&amp;ocy; &amp;pcy;&amp;ocy; &amp;bcy;&amp;icy;&amp;ocy;&amp;lcy;&amp;ocy;&amp;gcy;&amp;icy;&amp;icy;"/>
          <p:cNvPicPr/>
          <p:nvPr/>
        </p:nvPicPr>
        <p:blipFill>
          <a:blip r:embed="rId3"/>
          <a:stretch/>
        </p:blipFill>
        <p:spPr>
          <a:xfrm>
            <a:off x="3059280" y="4653000"/>
            <a:ext cx="2233440" cy="167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orticulture"/>
          <p:cNvPicPr/>
          <p:nvPr/>
        </p:nvPicPr>
        <p:blipFill>
          <a:blip r:embed="rId4"/>
          <a:stretch/>
        </p:blipFill>
        <p:spPr>
          <a:xfrm>
            <a:off x="5940360" y="2924280"/>
            <a:ext cx="289080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&amp;Mcy;&amp;acy;&amp;scy;&amp;icy;&amp;mcy;&amp;ocy;&amp;vcy;: &amp;Vcy; 2011 &amp;gcy;&amp;ocy;&amp;dcy;&amp;ucy; &amp;ncy;&amp;acy; &amp;scy;&amp;ucy;&amp;bcy;&amp;scy;&amp;icy;&amp;dcy;&amp;icy;&amp;rcy;&amp;ocy;&amp;vcy;&amp;acy;&amp;ncy;&amp;icy;&amp;iecy; &amp;rcy;&amp;acy;&amp;scy;&amp;tcy;&amp;iecy;&amp;ncy;&amp;icy;&amp;iecy;&amp;vcy;&amp;ocy;&amp;dcy;&amp;scy;&amp;tcy;&amp;vcy;&amp;acy; &amp;vcy;&amp;ycy;&amp;dcy;&amp;iecy;&amp;lcy;&amp;iecy;&amp;ncy;&amp;ocy; 30 &amp;mcy;&amp;lcy;&amp;rcy;&amp;dcy;. &amp;tcy;&amp;iecy;&amp;ncy;&amp;gcy;&amp;iecy; / &amp;Kcy;&amp;acy;&amp;zcy;&amp;acy;&amp;khcy;&amp;scy;&amp;tcy;&amp;acy;&amp;ncy;&amp;scy;&amp;kcy;&amp;icy;&amp;jcy; &amp;acy;&amp;gcy;&amp;rcy;&amp;iecy;&amp;gcy;&amp;acy;&amp;tcy;&amp;ocy;&amp;rcy; &amp;ncy;&amp;ocy;&amp;vcy;&amp;ocy;&amp;scy;&amp;tcy;&amp;iecy;&amp;jcy;"/>
          <p:cNvPicPr/>
          <p:nvPr/>
        </p:nvPicPr>
        <p:blipFill>
          <a:blip r:embed="rId5"/>
          <a:stretch/>
        </p:blipFill>
        <p:spPr>
          <a:xfrm>
            <a:off x="5580000" y="4581360"/>
            <a:ext cx="1871640" cy="18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6:01:14Z</dcterms:created>
  <dc:creator>Елена</dc:creator>
  <dc:description/>
  <dc:language>en-US</dc:language>
  <cp:lastModifiedBy>User</cp:lastModifiedBy>
  <dcterms:modified xsi:type="dcterms:W3CDTF">2015-04-24T16:43:52Z</dcterms:modified>
  <cp:revision>53</cp:revision>
  <dc:subject/>
  <dc:title>Название презентации</dc:title>
</cp:coreProperties>
</file>