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999-350F-4CF8-AC16-6761C894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7D1-D639-4A70-98EC-7D5E8498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7D1-A067-4C99-95F0-EEC79D9F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8A8-BD01-4330-B129-B87107E7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504-E9EE-4BBB-A213-B504E5D2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D43-BF60-4042-9657-4F0951A0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E7F-432B-4AA0-BD37-0928E1A4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29A-ECE6-48FE-A61B-D52F2190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63A-51A0-4877-99DC-F9531FFC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A2A-1847-493A-BE28-A9AFC180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6E7-5CE8-4BCC-8777-ED57DF22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1BC-A01B-4700-A53C-CC20EC12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A395-4002-47B0-B7A8-A0F5F651F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24368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Monotype Corsiva"/>
              </a:rPr>
              <a:t>УРОК   ТЕХНОЛОГ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708280"/>
            <a:ext cx="450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6 - 7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КЛАС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1295400">
            <a:off x="5003280" y="2565000"/>
            <a:ext cx="3102120" cy="3751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600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0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- 3          ь- 7     е- 2       р- 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- 5          а- 6    о- 9                     ч- 11    й- 8     ш- 10    л- 12              т-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3860640"/>
            <a:ext cx="815832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  9,    11   1   9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  2   12   6   2   10   7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  2   12   6   8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  9   4   9   10   9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42920" y="980640"/>
            <a:ext cx="396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Я  </a:t>
            </a:r>
            <a:br>
              <a:rPr sz="6600"/>
            </a:b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ТЕПЕРЬ </a:t>
            </a:r>
            <a:br>
              <a:rPr sz="6600"/>
            </a:b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ЗНАЮ,</a:t>
            </a:r>
            <a:br>
              <a:rPr sz="6600"/>
            </a:b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 ЧТО</a:t>
            </a: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24000" y="1484280"/>
            <a:ext cx="4608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476360" y="2492280"/>
            <a:ext cx="65516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Monotype Corsiva"/>
              </a:rPr>
              <a:t>ПРАЗДНИК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 эт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ёплы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лы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а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рошее на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88000" y="1984320"/>
            <a:ext cx="388764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300" spc="-1" strike="noStrike">
                <a:solidFill>
                  <a:srgbClr val="ffff00"/>
                </a:solidFill>
                <a:latin typeface="Monotype Corsiva"/>
              </a:rPr>
              <a:t>14 февраля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781360"/>
            <a:ext cx="463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День Святого Валентина – </a:t>
            </a:r>
            <a:r>
              <a:rPr b="1" i="1" lang="en-US" sz="4100" spc="-1" strike="noStrike">
                <a:solidFill>
                  <a:srgbClr val="ff0000"/>
                </a:solidFill>
                <a:latin typeface="Arial"/>
              </a:rPr>
              <a:t>День влюблённых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427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94000" y="1839960"/>
            <a:ext cx="358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Я  ЗНАЮ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5077080" cy="459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МИНИ - ПРОЕКТ</a:t>
            </a:r>
            <a:br>
              <a:rPr sz="7200"/>
            </a:br>
            <a:r>
              <a:rPr b="0" i="1" lang="en-US" sz="7200" spc="-1" strike="noStrike">
                <a:solidFill>
                  <a:srgbClr val="ff0000"/>
                </a:solidFill>
                <a:latin typeface="Arial"/>
              </a:rPr>
              <a:t>« Валентинк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259920"/>
            <a:ext cx="72392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Исследование №1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Что необходимо для изготовления изделия?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2491920"/>
            <a:ext cx="80312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дравление               украшение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ика изготовления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ы              инстр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2997360"/>
            <a:ext cx="2055600" cy="1368360"/>
          </a:xfrm>
          <a:custGeom>
            <a:avLst/>
            <a:gdLst>
              <a:gd name="textAreaLeft" fmla="*/ 483120 w 2055600"/>
              <a:gd name="textAreaRight" fmla="*/ 1571040 w 2055600"/>
              <a:gd name="textAreaTop" fmla="*/ 160920 h 1368360"/>
              <a:gd name="textAreaBottom" fmla="*/ 858240 h 1368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84720" y="3284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3716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40360" y="270792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3933720"/>
            <a:ext cx="172872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692360" y="357336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68000" y="3789360"/>
            <a:ext cx="35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407664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18920" y="3284640"/>
            <a:ext cx="576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424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Исследование №2</a:t>
            </a:r>
            <a:br>
              <a:rPr sz="4800"/>
            </a:br>
            <a:br>
              <a:rPr sz="6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Каким должно быть издели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961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Исследование №3</a:t>
            </a:r>
            <a:br>
              <a:rPr sz="4400"/>
            </a:br>
            <a:br>
              <a:rPr sz="66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Оцени изделие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ВЫШИВКА ЛЕН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7386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Франция ,    18 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нточки укладывали прямо на ткани в разные 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розетки, кувшинки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йчас вышивают лентами, в основном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5:56:31Z</dcterms:created>
  <dc:creator>Biblio</dc:creator>
  <dc:description/>
  <dc:language>en-US</dc:language>
  <cp:lastModifiedBy>Учитель</cp:lastModifiedBy>
  <dcterms:modified xsi:type="dcterms:W3CDTF">2009-04-08T00:02:09Z</dcterms:modified>
  <cp:revision>58</cp:revision>
  <dc:subject/>
  <dc:title>УРОК ТЕХНОЛОГИИ</dc:title>
</cp:coreProperties>
</file>