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6BC-908D-4F52-98E0-9C446D04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F43-04E4-4AC7-A52F-602E570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CCB-F0C7-4A1F-AB40-9016BD9A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671-33BA-4006-A396-CD1E4702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7B8-9E03-4365-9B9F-A6B2A5D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A33-6E91-45B9-BA8B-A7278F22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1A2-8DCA-40C7-8C2B-A9CCB4F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FB-C21D-4E59-8B49-A63C458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FB2-456D-4451-A0EC-C90F4571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9F4-BE5E-413D-B080-E6042FA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DCD-51D9-485C-A09C-A029153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4AC-5BB4-4894-9B11-E5578BC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9F8E-6FC1-4249-91A1-E3A12179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24368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onotype Corsiva"/>
              </a:rPr>
              <a:t>УРОК   ТЕХНОЛОГ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708280"/>
            <a:ext cx="45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6 - 7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1295400">
            <a:off x="5003280" y="2565000"/>
            <a:ext cx="3102120" cy="375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600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0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- 3          ь- 7     е- 2       р-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- 5          а- 6    о- 9                     ч- 11    й- 8     ш- 10    л- 12              т-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3860640"/>
            <a:ext cx="81583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 9,    11   1   9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  2   12   6   2   10   7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  2   12   6   8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  9   4   9   10   9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39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Я  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ТЕПЕРЬ 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ЗНАЮ,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 ЧТО</a:t>
            </a: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148428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76360" y="2492280"/>
            <a:ext cx="655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Monotype Corsiva"/>
              </a:rPr>
              <a:t>ПРАЗДНИК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 э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ёпл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лы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рошее на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1984320"/>
            <a:ext cx="38876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300" spc="-1" strike="noStrike">
                <a:solidFill>
                  <a:srgbClr val="ffff00"/>
                </a:solidFill>
                <a:latin typeface="Monotype Corsiva"/>
              </a:rPr>
              <a:t>14 февраля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463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День Святого Валентина – </a:t>
            </a:r>
            <a:r>
              <a:rPr b="1" i="1" lang="en-US" sz="4100" spc="-1" strike="noStrike">
                <a:solidFill>
                  <a:srgbClr val="ff0000"/>
                </a:solidFill>
                <a:latin typeface="Arial"/>
              </a:rPr>
              <a:t>День влюблённы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27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94000" y="1839960"/>
            <a:ext cx="35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Я  ЗНАЮ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5077080" cy="459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МИНИ - ПРОЕКТ</a:t>
            </a:r>
            <a:br>
              <a:rPr sz="7200"/>
            </a:br>
            <a:r>
              <a:rPr b="0" i="1" lang="en-US" sz="7200" spc="-1" strike="noStrike">
                <a:solidFill>
                  <a:srgbClr val="ff0000"/>
                </a:solidFill>
                <a:latin typeface="Arial"/>
              </a:rPr>
              <a:t>« Валентин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259920"/>
            <a:ext cx="72392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Исследование №1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необходимо для изготовления изделия?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80312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дравление               украшение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ка изготовлени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ы             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997360"/>
            <a:ext cx="2055600" cy="1368360"/>
          </a:xfrm>
          <a:custGeom>
            <a:avLst/>
            <a:gdLst>
              <a:gd name="textAreaLeft" fmla="*/ 483120 w 2055600"/>
              <a:gd name="textAreaRight" fmla="*/ 1571040 w 2055600"/>
              <a:gd name="textAreaTop" fmla="*/ 160920 h 1368360"/>
              <a:gd name="textAreaBottom" fmla="*/ 858240 h 1368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84720" y="3284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37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7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3933720"/>
            <a:ext cx="1728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92360" y="3573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68000" y="378936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407664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18920" y="3284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424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Исследование №2</a:t>
            </a:r>
            <a:br>
              <a:rPr sz="4800"/>
            </a:br>
            <a:br>
              <a:rPr sz="6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Каким должно быть издели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61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Исследование №3</a:t>
            </a:r>
            <a:br>
              <a:rPr sz="4400"/>
            </a:br>
            <a:br>
              <a:rPr sz="6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цени изделие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ВЫШИВКА ЛЕН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386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Франция ,    18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точки укладывали прямо на ткани в разные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розетки, кувшинки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йчас вышивают лентами, в основном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5:56:31Z</dcterms:created>
  <dc:creator>Biblio</dc:creator>
  <dc:description/>
  <dc:language>en-US</dc:language>
  <cp:lastModifiedBy>Учитель</cp:lastModifiedBy>
  <dcterms:modified xsi:type="dcterms:W3CDTF">2009-04-08T00:02:09Z</dcterms:modified>
  <cp:revision>58</cp:revision>
  <dc:subject/>
  <dc:title>УРОК ТЕХНОЛОГИИ</dc:title>
</cp:coreProperties>
</file>