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276-FB97-4608-B1B4-173D3BE5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63F-D2B9-4FE9-9CEC-ACA18EBC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543-F4E6-4D1F-9BF7-A99D7165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C3F-65A5-4927-918F-67748C09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598-99C2-4755-94AA-A2F3121A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302-A34F-4D4A-97F1-452A3420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449-0D66-4D8F-BE96-34E56EE8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3ED-543D-4067-80EC-6725F555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D46-036E-4D1D-8A02-A04513D2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799-1E18-4C7B-96FB-CE78385B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637-68B4-4AB5-A25C-D1581709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1F4-5663-422E-BF28-ABBDE6B3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181C-6BFB-4168-A2BA-B76AB9429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titled-1"/>
          <p:cNvPicPr/>
          <p:nvPr/>
        </p:nvPicPr>
        <p:blipFill>
          <a:blip r:embed="rId1"/>
          <a:stretch/>
        </p:blipFill>
        <p:spPr>
          <a:xfrm>
            <a:off x="-324000" y="4221000"/>
            <a:ext cx="4104000" cy="296712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332000" y="1628640"/>
            <a:ext cx="6553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43" name="TextBox 4" descr=""/>
          <p:cNvPicPr/>
          <p:nvPr/>
        </p:nvPicPr>
        <p:blipFill>
          <a:blip r:embed="rId2"/>
          <a:stretch/>
        </p:blipFill>
        <p:spPr>
          <a:xfrm>
            <a:off x="396720" y="938160"/>
            <a:ext cx="8521920" cy="4041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971640" y="65880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Untitled-1"/>
          <p:cNvPicPr/>
          <p:nvPr/>
        </p:nvPicPr>
        <p:blipFill>
          <a:blip r:embed="rId1"/>
          <a:stretch/>
        </p:blipFill>
        <p:spPr>
          <a:xfrm>
            <a:off x="-252360" y="4724280"/>
            <a:ext cx="3603600" cy="242748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" descr=""/>
          <p:cNvPicPr/>
          <p:nvPr/>
        </p:nvPicPr>
        <p:blipFill>
          <a:blip r:embed="rId2"/>
          <a:stretch/>
        </p:blipFill>
        <p:spPr>
          <a:xfrm>
            <a:off x="969840" y="1305000"/>
            <a:ext cx="74916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1042920" y="615960"/>
            <a:ext cx="7564680" cy="51688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4"/>
          <p:cNvSpPr/>
          <p:nvPr/>
        </p:nvSpPr>
        <p:spPr>
          <a:xfrm>
            <a:off x="1116000" y="1628640"/>
            <a:ext cx="36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5"/>
          <p:cNvSpPr/>
          <p:nvPr/>
        </p:nvSpPr>
        <p:spPr>
          <a:xfrm flipV="1">
            <a:off x="4824360" y="620280"/>
            <a:ext cx="0" cy="51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Untitled-1"/>
          <p:cNvPicPr/>
          <p:nvPr/>
        </p:nvPicPr>
        <p:blipFill>
          <a:blip r:embed="rId2"/>
          <a:stretch/>
        </p:blipFill>
        <p:spPr>
          <a:xfrm>
            <a:off x="-181080" y="4581360"/>
            <a:ext cx="352908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258920" y="981000"/>
            <a:ext cx="69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olovki.ca/navy_solovki/sea_cadet_school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olovki.info/?action=archive&amp;id=3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rgvs.ru/arhangelsk-v-gody-vov-1941-1945-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gpress.ru/Arhigorod/Solovetskie-yungi-v-Samare6090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vk.com/wall-232050?own=1&amp;offset=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olovki-monastyr.ru/abbey/soviet-period/seabo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писок использованных источников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Untitled-1"/>
          <p:cNvPicPr/>
          <p:nvPr/>
        </p:nvPicPr>
        <p:blipFill>
          <a:blip r:embed="rId1"/>
          <a:stretch/>
        </p:blipFill>
        <p:spPr>
          <a:xfrm>
            <a:off x="-252360" y="4797360"/>
            <a:ext cx="410364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16000" y="620640"/>
            <a:ext cx="7378560" cy="561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0000"/>
                </a:solidFill>
                <a:uFillTx/>
                <a:latin typeface="Arial"/>
              </a:rPr>
              <a:t>Цель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знать о роли Архангельской области в годы Великой Отечественной Войны. Составить    математические задачи для учащихся девятого класса с использованием полученных исторических фа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0000"/>
                </a:solidFill>
                <a:uFillTx/>
                <a:latin typeface="Arial"/>
              </a:rPr>
              <a:t>Задачи:</a:t>
            </a: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яснить историческую значимость создания школы юнг на Соловецких островах для подготовки квалифицированных военно-морских специалистов в кратчайшие срок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ставление математической задачи на нахождение членов арифметической прогрессии зная ее сумму (4500 выпускников школы юнг) и первый чле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сследовать роль главного в экономики Архангельского лесоперерабатывающего комплекса в приближение победы в Великой Отечественной Войне, используя различные источники краеведческой информации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ставление математической задачи на нахождение суммы арифметической прогрессии зная некоторые ее чле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Untitled-1"/>
          <p:cNvPicPr/>
          <p:nvPr/>
        </p:nvPicPr>
        <p:blipFill>
          <a:blip r:embed="rId1"/>
          <a:stretch/>
        </p:blipFill>
        <p:spPr>
          <a:xfrm rot="18875400">
            <a:off x="-408960" y="5007960"/>
            <a:ext cx="2235240" cy="1504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611280" y="112536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НГА — ученик, подросток на судне, готовящийся стать матросом и обучающийся морскому делу. Слово «юнга» пришло к нам из голландского во времена Петра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е 1942 г. приказом наркома Военно-Морского флота адмирала Н.Г. Кузнецова при Учебном отряде Северного флота была создана Специальная Школа юнг ВМФ с дислокацией на Соловецких островах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юнги отбирали 15–16-летних юношей, имеющих 6–7-классное образование. Но, горя желанием воевать, некоторые мальчишки выправляли себе документы, чтобы начать учиться ра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ic.pics.livejournal.com/dergachev_va/58474394/678895/678895_original.jpg"/>
          <p:cNvPicPr/>
          <p:nvPr/>
        </p:nvPicPr>
        <p:blipFill>
          <a:blip r:embed="rId1"/>
          <a:stretch/>
        </p:blipFill>
        <p:spPr>
          <a:xfrm>
            <a:off x="2411280" y="3716280"/>
            <a:ext cx="3816360" cy="26258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1116000" y="476280"/>
            <a:ext cx="68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Untitled-1"/>
          <p:cNvPicPr/>
          <p:nvPr/>
        </p:nvPicPr>
        <p:blipFill>
          <a:blip r:embed="rId2"/>
          <a:stretch/>
        </p:blipFill>
        <p:spPr>
          <a:xfrm>
            <a:off x="-181080" y="5022720"/>
            <a:ext cx="360360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84360" y="404640"/>
            <a:ext cx="799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ецкие юнги воевали на кораблях Северного, Балтийского, Черноморского, Тихоокеанского флотов, а также на Амурской, Беломорской, Волжской, Дунайской, Днепровской, Каспийской и Онежской флотилиях. Среди них было немало настоящих героев. Далеко не все юнги вернулись из морских с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отъездом к местам службы мальчишки дава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ятву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одина! Великая Советская держава! В день отправки на боевые корабли, приносим тебе свою клятву: мы клянемся с достоинством и честью оправдать оказанное нам доверие, умножать боевые традиции советских моряков, хранить и оберегать честь Школы юнг ВМФ. Мы клянемся отдать все силы, отдать жизнь, если надо, за свободу и независимость нашей Родины. Мы клянемся до полного разгрома и уничтожения врага не знать отдыха и покоя, быть в первых рядах мужественных и смелых советских моряков. Если ослабнет воля, если подведу товарищей, если трусость постигнет в бою, то пусть презирают меня в веках, пусть покарает меня суровый закон Родины!»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Untitled-1"/>
          <p:cNvPicPr/>
          <p:nvPr/>
        </p:nvPicPr>
        <p:blipFill>
          <a:blip r:embed="rId1"/>
          <a:stretch/>
        </p:blipFill>
        <p:spPr>
          <a:xfrm>
            <a:off x="-108000" y="5013360"/>
            <a:ext cx="3029040" cy="2190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Arial"/>
              </a:rPr>
              <a:t>Задача №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лодную осень самого тяжелого для страны 1942 года тысяча 14-16-летних подростков приехали на Соловецкие острова, чтобы овладеть военными морскими специальностями, а затем воевать против немецко-фашистских захватчиков. За три выпуска школа подготовила 4500 рулевых, сигнальщиков, боцманов, мотористов и радистов, электриков и акустиков.  Сколько юнг выпустила школа за второй и третий выпуски, если известно, что с каждым набором количество обучающихся увеличивалось на одно и тоже число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solovki.ca/navy_solovki/images/znak.jpg"/>
          <p:cNvPicPr/>
          <p:nvPr/>
        </p:nvPicPr>
        <p:blipFill>
          <a:blip r:embed="rId1"/>
          <a:stretch/>
        </p:blipFill>
        <p:spPr>
          <a:xfrm>
            <a:off x="6227640" y="3789360"/>
            <a:ext cx="1944720" cy="224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Untitled-1"/>
          <p:cNvPicPr/>
          <p:nvPr/>
        </p:nvPicPr>
        <p:blipFill>
          <a:blip r:embed="rId2"/>
          <a:stretch/>
        </p:blipFill>
        <p:spPr>
          <a:xfrm>
            <a:off x="-181080" y="4581360"/>
            <a:ext cx="352908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одзаголовок 2" descr=""/>
          <p:cNvPicPr/>
          <p:nvPr/>
        </p:nvPicPr>
        <p:blipFill>
          <a:blip r:embed="rId1"/>
          <a:stretch/>
        </p:blipFill>
        <p:spPr>
          <a:xfrm>
            <a:off x="1189080" y="1371600"/>
            <a:ext cx="6400800" cy="1755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http://sgpress.ru/allimages/82597.jpg"/>
          <p:cNvPicPr/>
          <p:nvPr/>
        </p:nvPicPr>
        <p:blipFill>
          <a:blip r:embed="rId2"/>
          <a:srcRect l="63934" t="4658" r="3487" b="6817"/>
          <a:stretch/>
        </p:blipFill>
        <p:spPr>
          <a:xfrm>
            <a:off x="3033720" y="3284640"/>
            <a:ext cx="2708280" cy="280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Untitled-1"/>
          <p:cNvPicPr/>
          <p:nvPr/>
        </p:nvPicPr>
        <p:blipFill>
          <a:blip r:embed="rId3"/>
          <a:stretch/>
        </p:blipFill>
        <p:spPr>
          <a:xfrm>
            <a:off x="-181080" y="4581360"/>
            <a:ext cx="417672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920880" y="255600"/>
            <a:ext cx="7570800" cy="62244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5"/>
          <p:cNvSpPr/>
          <p:nvPr/>
        </p:nvSpPr>
        <p:spPr>
          <a:xfrm>
            <a:off x="4387680" y="620640"/>
            <a:ext cx="0" cy="532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7"/>
          <p:cNvSpPr/>
          <p:nvPr/>
        </p:nvSpPr>
        <p:spPr>
          <a:xfrm>
            <a:off x="930240" y="2060640"/>
            <a:ext cx="34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Untitled-1"/>
          <p:cNvPicPr/>
          <p:nvPr/>
        </p:nvPicPr>
        <p:blipFill>
          <a:blip r:embed="rId2"/>
          <a:stretch/>
        </p:blipFill>
        <p:spPr>
          <a:xfrm>
            <a:off x="-324000" y="5157720"/>
            <a:ext cx="288000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Untitled-1"/>
          <p:cNvPicPr/>
          <p:nvPr/>
        </p:nvPicPr>
        <p:blipFill>
          <a:blip r:embed="rId1"/>
          <a:stretch/>
        </p:blipFill>
        <p:spPr>
          <a:xfrm rot="261000">
            <a:off x="7018200" y="5372280"/>
            <a:ext cx="2197080" cy="1585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219320"/>
            <a:ext cx="73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ажное место в приближении Великой Победы занял главный в экономике Архангельска лесоперерабатывающий комплекс, выпускавший, казалось бы, сугубо гражданскую продукцию. Но и этой продукции нашлось применение в военных условиях. Лесом страна расплачивалась с союзниками по кредитам, предоставленным наряду с безвозмездной помощью. Лес широко применялся при строительстве оборонительных рубежей, а с середины войны в восстановительных работах.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се 22 архангельских лесозавода были привлечены к выполнению военных заказов: производству ящиков для снарядов, саней, лыж, корпусов мин, ружейных заготовок, деталей для самолетов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За годы войны лесопильщики Архангельска дали стране и фронту свыше 3 миллионов 218 тысяч кубометров пиломатериалов, 17 миллионов комплектов спецтары, 28 тысяч кубометров авиадеталей, на 24 миллиона рублей аэродромного и инженерного имущества. Около 200 пароходов, груженных 858 тысячами кубометров пиломатериалов, балансов, пропсов и круглого леса, отбыли из архангельского порта в страны - союзниц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7" descr="C:\Users\Пользователь\Рабочий стол\-kK7OCQhSvo.jpg"/>
          <p:cNvPicPr/>
          <p:nvPr/>
        </p:nvPicPr>
        <p:blipFill>
          <a:blip r:embed="rId1"/>
          <a:stretch/>
        </p:blipFill>
        <p:spPr>
          <a:xfrm>
            <a:off x="3492360" y="4076640"/>
            <a:ext cx="424836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Untitled-1"/>
          <p:cNvPicPr/>
          <p:nvPr/>
        </p:nvPicPr>
        <p:blipFill>
          <a:blip r:embed="rId2"/>
          <a:stretch/>
        </p:blipFill>
        <p:spPr>
          <a:xfrm>
            <a:off x="-252360" y="4797360"/>
            <a:ext cx="4103640" cy="2427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1403280" y="765000"/>
            <a:ext cx="69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нтябре на одном из Архангельских лесозаводов в первый и седьмой день выпустили 42 ящика для снарядов. А в 15-й и 20-й день – 123 ящика. Известно, что каждый последующий день выпускали на одно и тоже количество ящиков больше, чем в предыдущий. Сколько всего ящиков для снарядов выпустил завод за 20 дней сентябр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7:28:45Z</dcterms:created>
  <dc:creator>girls</dc:creator>
  <dc:description/>
  <dc:language>en-US</dc:language>
  <cp:lastModifiedBy>Олег Корчагин</cp:lastModifiedBy>
  <dcterms:modified xsi:type="dcterms:W3CDTF">2015-04-24T19:34:46Z</dcterms:modified>
  <cp:revision>76</cp:revision>
  <dc:subject/>
  <dc:title>Слайд 1</dc:title>
</cp:coreProperties>
</file>