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561960"/>
            <a:ext cx="79549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cc00ff"/>
                </a:solidFill>
                <a:latin typeface="Arial"/>
              </a:rPr>
              <a:t>Урок окружающего мира.</a:t>
            </a:r>
            <a:endParaRPr b="1" lang="en-US" sz="8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9920" y="7288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4360" y="1197000"/>
            <a:ext cx="7920000" cy="41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ff00">
                    <a:alpha val="90000"/>
                  </a:srgbClr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ок окончен.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ff00">
                  <a:alpha val="90000"/>
                </a:srgbClr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0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withEffect" fill="hold" presetClass="exit" presetID="20">
                                  <p:stCondLst>
                                    <p:cond delay="10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4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47640" y="317520"/>
            <a:ext cx="8640720" cy="63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99ccff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1.Минутка календар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2.Повторение изученно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3.Определение темы и целей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4.Изучение ново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5.Итог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0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cc00ff"/>
                </a:solidFill>
                <a:latin typeface="Arial"/>
              </a:rPr>
              <a:t>Материки.</a:t>
            </a:r>
            <a:endParaRPr b="1" lang="en-US" sz="7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1.Ев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2.Северная Аме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3.Южная Аме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4.Аф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5.Австра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6.Антаркт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0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6708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6600cc"/>
                </a:solidFill>
                <a:latin typeface="Arial"/>
              </a:rPr>
              <a:t>Облик Земли несколько миллионов лет назад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0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769080" cy="5040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3399"/>
                </a:solidFill>
                <a:latin typeface="Arial"/>
              </a:rPr>
              <a:t>Пангея.</a:t>
            </a:r>
            <a:endParaRPr b="1" lang="en-US" sz="6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660066"/>
                </a:solidFill>
                <a:latin typeface="Arial"/>
              </a:rPr>
              <a:t>Появление жизни на Земле.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327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dur="indefinite" fill="hold">
                      <p:stCondLst>
                        <p:cond delay="0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306000" cy="7101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b02c2"/>
                </a:solidFill>
                <a:latin typeface="Arial"/>
              </a:rPr>
              <a:t>История Урала.</a:t>
            </a:r>
            <a:endParaRPr b="1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7280" y="1052280"/>
            <a:ext cx="8855280" cy="35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«Каменный пояс Земли Русской» - так величали Уральские горы в старину. Действительно, они как бы перепоясывают Россию, отделяя европейскую часть от азиатс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fill="hold">
                      <p:stCondLst>
                        <p:cond delay="0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4084560"/>
            <a:ext cx="813600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"/>
              </a:rPr>
              <a:t>Это древние горы, возникшие несколько миллионов лет назад. Высшая точка Урала – гора Народная – поднимается всего на 1895 ме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260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Arial"/>
              </a:rPr>
              <a:t>Горные цепи протянулись более чем  на 2 тысячи киломе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fill="hold">
                      <p:stCondLst>
                        <p:cond delay="0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Итог урока</a:t>
            </a: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00ff"/>
                </a:solidFill>
                <a:latin typeface="Arial"/>
              </a:rPr>
              <a:t>1.Я вспомнил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00ff"/>
                </a:solidFill>
                <a:latin typeface="Arial"/>
              </a:rPr>
              <a:t>2.Я узнал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00ff"/>
                </a:solidFill>
                <a:latin typeface="Arial"/>
              </a:rPr>
              <a:t>3.Я хочу рассказат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00ff"/>
                </a:solidFill>
                <a:latin typeface="Arial"/>
              </a:rPr>
              <a:t>4.Мне было легк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00ff"/>
                </a:solidFill>
                <a:latin typeface="Arial"/>
              </a:rPr>
              <a:t>5.Мне было трудно</a:t>
            </a:r>
            <a:r>
              <a:rPr b="0" lang="ru-RU" sz="2900" spc="-1" strike="noStrike">
                <a:solidFill>
                  <a:srgbClr val="9900ff"/>
                </a:solidFill>
                <a:latin typeface="Arial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0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07:11:18Z</dcterms:created>
  <dc:creator>Добычина О Б</dc:creator>
  <dc:description/>
  <cp:keywords>1 класс; окружающий мир</cp:keywords>
  <dc:language>en-US</dc:language>
  <cp:lastModifiedBy>USER</cp:lastModifiedBy>
  <dcterms:modified xsi:type="dcterms:W3CDTF">2006-04-20T11:55:59Z</dcterms:modified>
  <cp:revision>14</cp:revision>
  <dc:subject/>
  <dc:title>Облик Земли постоянно меняется</dc:title>
</cp:coreProperties>
</file>