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4FD-5C77-4D2D-A3FE-2B554E05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D9D-3F0A-46AC-B5BB-07CD281E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5D22-0500-41A5-B383-6369D042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AE8-2A77-42DD-91F4-7CED7614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57DC-0F43-4099-BEC5-BA44F6CB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D5A-380A-44FB-9A68-9CD30950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EAE-E453-40F5-812A-4D39F9BA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7C0-DC81-4777-8A96-8AE55475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C87-59F7-4C9A-AD8B-C0C1461F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929-63FB-4A8E-B76E-78E373D2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471-E193-4E13-9583-C621BD30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AA3-C81D-4CF2-9374-FB8A4764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1118-D7EF-4C6E-9B1F-D3562A28D9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Безымянный"/>
          <p:cNvPicPr/>
          <p:nvPr/>
        </p:nvPicPr>
        <p:blipFill>
          <a:blip r:embed="rId1"/>
          <a:stretch/>
        </p:blipFill>
        <p:spPr>
          <a:xfrm>
            <a:off x="9047160" y="993600"/>
            <a:ext cx="3645000" cy="5235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-0.67136 0.0081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-324000" y="27000"/>
            <a:ext cx="94996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Группа 4"/>
          <p:cNvGrpSpPr/>
          <p:nvPr/>
        </p:nvGrpSpPr>
        <p:grpSpPr>
          <a:xfrm>
            <a:off x="1639800" y="98280"/>
            <a:ext cx="1974960" cy="858960"/>
            <a:chOff x="1639800" y="98280"/>
            <a:chExt cx="1974960" cy="858960"/>
          </a:xfrm>
        </p:grpSpPr>
        <p:pic>
          <p:nvPicPr>
            <p:cNvPr id="45" name="Picture 29" descr=""/>
            <p:cNvPicPr/>
            <p:nvPr/>
          </p:nvPicPr>
          <p:blipFill>
            <a:blip r:embed="rId2"/>
            <a:stretch/>
          </p:blipFill>
          <p:spPr>
            <a:xfrm>
              <a:off x="1639800" y="98280"/>
              <a:ext cx="19749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Box 6"/>
            <p:cNvSpPr/>
            <p:nvPr/>
          </p:nvSpPr>
          <p:spPr>
            <a:xfrm>
              <a:off x="2038320" y="98280"/>
              <a:ext cx="117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2 + 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Группа 7"/>
          <p:cNvGrpSpPr/>
          <p:nvPr/>
        </p:nvGrpSpPr>
        <p:grpSpPr>
          <a:xfrm>
            <a:off x="3870360" y="552600"/>
            <a:ext cx="2070000" cy="900000"/>
            <a:chOff x="3870360" y="552600"/>
            <a:chExt cx="2070000" cy="900000"/>
          </a:xfrm>
        </p:grpSpPr>
        <p:pic>
          <p:nvPicPr>
            <p:cNvPr id="48" name="Picture 28" descr=""/>
            <p:cNvPicPr/>
            <p:nvPr/>
          </p:nvPicPr>
          <p:blipFill>
            <a:blip r:embed="rId3"/>
            <a:stretch/>
          </p:blipFill>
          <p:spPr>
            <a:xfrm>
              <a:off x="3870360" y="552600"/>
              <a:ext cx="2070000" cy="9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9"/>
            <p:cNvSpPr/>
            <p:nvPr/>
          </p:nvSpPr>
          <p:spPr>
            <a:xfrm>
              <a:off x="4014360" y="556560"/>
              <a:ext cx="191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8 + 2 + 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Группа 10"/>
          <p:cNvGrpSpPr/>
          <p:nvPr/>
        </p:nvGrpSpPr>
        <p:grpSpPr>
          <a:xfrm>
            <a:off x="1639800" y="2478240"/>
            <a:ext cx="1874880" cy="764280"/>
            <a:chOff x="1639800" y="2478240"/>
            <a:chExt cx="1874880" cy="764280"/>
          </a:xfrm>
        </p:grpSpPr>
        <p:sp>
          <p:nvSpPr>
            <p:cNvPr id="51" name="Скругленная прямоугольная выноска 11"/>
            <p:cNvSpPr/>
            <p:nvPr/>
          </p:nvSpPr>
          <p:spPr>
            <a:xfrm>
              <a:off x="1639800" y="2503440"/>
              <a:ext cx="1874880" cy="717480"/>
            </a:xfrm>
            <a:prstGeom prst="wedgeRoundRectCallout">
              <a:avLst>
                <a:gd name="adj1" fmla="val -54120"/>
                <a:gd name="adj2" fmla="val 65486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44444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Box 12"/>
            <p:cNvSpPr/>
            <p:nvPr/>
          </p:nvSpPr>
          <p:spPr>
            <a:xfrm>
              <a:off x="1937160" y="2478240"/>
              <a:ext cx="1279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4 + 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Группа 13"/>
          <p:cNvGrpSpPr/>
          <p:nvPr/>
        </p:nvGrpSpPr>
        <p:grpSpPr>
          <a:xfrm>
            <a:off x="4998960" y="1413000"/>
            <a:ext cx="1776600" cy="772920"/>
            <a:chOff x="4998960" y="1413000"/>
            <a:chExt cx="1776600" cy="772920"/>
          </a:xfrm>
        </p:grpSpPr>
        <p:pic>
          <p:nvPicPr>
            <p:cNvPr id="54" name="Picture 30" descr=""/>
            <p:cNvPicPr/>
            <p:nvPr/>
          </p:nvPicPr>
          <p:blipFill>
            <a:blip r:embed="rId4"/>
            <a:stretch/>
          </p:blipFill>
          <p:spPr>
            <a:xfrm>
              <a:off x="4998960" y="1413000"/>
              <a:ext cx="17766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15"/>
            <p:cNvSpPr/>
            <p:nvPr/>
          </p:nvSpPr>
          <p:spPr>
            <a:xfrm>
              <a:off x="5147640" y="1428840"/>
              <a:ext cx="151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10 + 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Группа 16"/>
          <p:cNvGrpSpPr/>
          <p:nvPr/>
        </p:nvGrpSpPr>
        <p:grpSpPr>
          <a:xfrm>
            <a:off x="4398840" y="3716280"/>
            <a:ext cx="2333880" cy="843120"/>
            <a:chOff x="4398840" y="3716280"/>
            <a:chExt cx="2333880" cy="843120"/>
          </a:xfrm>
        </p:grpSpPr>
        <p:sp>
          <p:nvSpPr>
            <p:cNvPr id="57" name="Скругленная прямоугольная выноска 17"/>
            <p:cNvSpPr/>
            <p:nvPr/>
          </p:nvSpPr>
          <p:spPr>
            <a:xfrm>
              <a:off x="4425480" y="3716280"/>
              <a:ext cx="2164320" cy="843120"/>
            </a:xfrm>
            <a:prstGeom prst="wedgeRoundRectCallout">
              <a:avLst>
                <a:gd name="adj1" fmla="val 62402"/>
                <a:gd name="adj2" fmla="val -57013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18"/>
            <p:cNvSpPr/>
            <p:nvPr/>
          </p:nvSpPr>
          <p:spPr>
            <a:xfrm>
              <a:off x="4398840" y="3791160"/>
              <a:ext cx="2333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10 + 4 + 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Группа 19"/>
          <p:cNvGrpSpPr/>
          <p:nvPr/>
        </p:nvGrpSpPr>
        <p:grpSpPr>
          <a:xfrm>
            <a:off x="5724360" y="2276640"/>
            <a:ext cx="2162520" cy="844560"/>
            <a:chOff x="5724360" y="2276640"/>
            <a:chExt cx="2162520" cy="844560"/>
          </a:xfrm>
        </p:grpSpPr>
        <p:sp>
          <p:nvSpPr>
            <p:cNvPr id="60" name="Скругленная прямоугольная выноска 20"/>
            <p:cNvSpPr/>
            <p:nvPr/>
          </p:nvSpPr>
          <p:spPr>
            <a:xfrm>
              <a:off x="5724360" y="2276640"/>
              <a:ext cx="2162520" cy="844560"/>
            </a:xfrm>
            <a:prstGeom prst="wedgeRoundRectCallout">
              <a:avLst>
                <a:gd name="adj1" fmla="val 59416"/>
                <a:gd name="adj2" fmla="val -69796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21"/>
            <p:cNvSpPr/>
            <p:nvPr/>
          </p:nvSpPr>
          <p:spPr>
            <a:xfrm>
              <a:off x="5828400" y="2401920"/>
              <a:ext cx="195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5 + 2 + 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16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Calibri"/>
              </a:rPr>
              <a:t>7  11  12  15  15  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87280" y="3645000"/>
          <a:ext cx="6624720" cy="2103480"/>
        </p:xfrm>
        <a:graphic>
          <a:graphicData uri="http://schemas.openxmlformats.org/drawingml/2006/table">
            <a:tbl>
              <a:tblPr/>
              <a:tblGrid>
                <a:gridCol w="1325880"/>
                <a:gridCol w="1323720"/>
                <a:gridCol w="1325520"/>
                <a:gridCol w="1324080"/>
                <a:gridCol w="1325520"/>
              </a:tblGrid>
              <a:tr h="1051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г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2"/>
          <p:cNvSpPr/>
          <p:nvPr/>
        </p:nvSpPr>
        <p:spPr>
          <a:xfrm>
            <a:off x="1360440" y="1844640"/>
            <a:ext cx="65037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  Р  У  П   П  А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7929720" y="4005360"/>
            <a:ext cx="105552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-36360" y="11160"/>
            <a:ext cx="9204120" cy="68468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3060720" y="730080"/>
            <a:ext cx="265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1 + 6= 6 + 1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627200" y="1222200"/>
            <a:ext cx="64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ереместительное свой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246400" y="1963800"/>
            <a:ext cx="445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6 + 9 + 1 = 6 + (9 + 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1806120" y="2708280"/>
            <a:ext cx="55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Сочетательное свой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732600" y="3716280"/>
            <a:ext cx="796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9 + 6 + 1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9 + 1 + 6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(9 + 1) + 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534440" y="4645080"/>
            <a:ext cx="1749240" cy="2309760"/>
          </a:xfrm>
          <a:prstGeom prst="rect">
            <a:avLst/>
          </a:prstGeom>
          <a:ln w="0">
            <a:noFill/>
          </a:ln>
        </p:spPr>
      </p:pic>
      <p:sp>
        <p:nvSpPr>
          <p:cNvPr id="74" name="TextBox 13"/>
          <p:cNvSpPr/>
          <p:nvPr/>
        </p:nvSpPr>
        <p:spPr>
          <a:xfrm>
            <a:off x="716040" y="4842000"/>
            <a:ext cx="68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ГРУППИРОВКА      СЛАГАЕМ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Физминутка Ёлочка.avi" descr=""/>
          <p:cNvPicPr/>
          <p:nvPr/>
        </p:nvPicPr>
        <p:blipFill>
          <a:blip r:embed="rId1"/>
          <a:stretch/>
        </p:blipFill>
        <p:spPr>
          <a:xfrm>
            <a:off x="22320" y="36360"/>
            <a:ext cx="9121680" cy="6840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468360" y="2387520"/>
            <a:ext cx="820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58ed5"/>
                </a:solidFill>
                <a:latin typeface="Calibri"/>
              </a:rPr>
              <a:t>7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+5+</a:t>
            </a:r>
            <a:r>
              <a:rPr b="1" lang="ru-RU" sz="6000" spc="-1" strike="noStrike">
                <a:solidFill>
                  <a:srgbClr val="558ed5"/>
                </a:solidFill>
                <a:latin typeface="Calibri"/>
              </a:rPr>
              <a:t>3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= (7+3)+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=1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58ed5"/>
                </a:solidFill>
                <a:latin typeface="Calibri"/>
              </a:rPr>
              <a:t>5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6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6000" spc="-1" strike="noStrike">
                <a:solidFill>
                  <a:srgbClr val="558ed5"/>
                </a:solidFill>
                <a:latin typeface="Calibri"/>
              </a:rPr>
              <a:t>5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4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= (5+5)+(6+4)=2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Прямоугольник 3" descr=""/>
          <p:cNvPicPr/>
          <p:nvPr/>
        </p:nvPicPr>
        <p:blipFill>
          <a:blip r:embed="rId1"/>
          <a:stretch/>
        </p:blipFill>
        <p:spPr>
          <a:xfrm>
            <a:off x="2335320" y="2798640"/>
            <a:ext cx="4467240" cy="15112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7:05:40Z</dcterms:created>
  <dc:creator>user</dc:creator>
  <dc:description/>
  <dc:language>en-US</dc:language>
  <cp:lastModifiedBy>user</cp:lastModifiedBy>
  <dcterms:modified xsi:type="dcterms:W3CDTF">2015-04-25T19:12:57Z</dcterms:modified>
  <cp:revision>39</cp:revision>
  <dc:subject/>
  <dc:title>Презентация PowerPoint</dc:title>
</cp:coreProperties>
</file>