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619-1162-4A7A-83C2-63D0E4A7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EA6-6711-459F-B8B4-019ADB9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365-F530-4EC1-B77E-451A29D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56F-CA2A-41C5-B774-5D368367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5A5-8FD2-4570-9D8A-D1AEA8F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CF5-55B1-45E2-B85E-91E678C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E70-5FD7-4040-96BA-006E257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61A-2F71-408F-9E8B-CAF0D63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348-1A53-4A44-88C7-EDED81E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60D-6F32-4977-824D-EE45767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52B-38AE-495D-9774-7683C1C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6B8-0BA1-4502-95A9-A29D507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3C77-2A53-4BF5-8938-6BD21722ED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Безымянный"/>
          <p:cNvPicPr/>
          <p:nvPr/>
        </p:nvPicPr>
        <p:blipFill>
          <a:blip r:embed="rId1"/>
          <a:stretch/>
        </p:blipFill>
        <p:spPr>
          <a:xfrm>
            <a:off x="9047160" y="993600"/>
            <a:ext cx="3645000" cy="523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67136 0.008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-324000" y="27000"/>
            <a:ext cx="9499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4"/>
          <p:cNvGrpSpPr/>
          <p:nvPr/>
        </p:nvGrpSpPr>
        <p:grpSpPr>
          <a:xfrm>
            <a:off x="1639800" y="98280"/>
            <a:ext cx="1974960" cy="858960"/>
            <a:chOff x="1639800" y="98280"/>
            <a:chExt cx="1974960" cy="858960"/>
          </a:xfrm>
        </p:grpSpPr>
        <p:pic>
          <p:nvPicPr>
            <p:cNvPr id="45" name="Picture 29" descr=""/>
            <p:cNvPicPr/>
            <p:nvPr/>
          </p:nvPicPr>
          <p:blipFill>
            <a:blip r:embed="rId2"/>
            <a:stretch/>
          </p:blipFill>
          <p:spPr>
            <a:xfrm>
              <a:off x="1639800" y="98280"/>
              <a:ext cx="19749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6"/>
            <p:cNvSpPr/>
            <p:nvPr/>
          </p:nvSpPr>
          <p:spPr>
            <a:xfrm>
              <a:off x="2038320" y="98280"/>
              <a:ext cx="117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2 + 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Группа 7"/>
          <p:cNvGrpSpPr/>
          <p:nvPr/>
        </p:nvGrpSpPr>
        <p:grpSpPr>
          <a:xfrm>
            <a:off x="3870360" y="552600"/>
            <a:ext cx="2070000" cy="900000"/>
            <a:chOff x="3870360" y="552600"/>
            <a:chExt cx="2070000" cy="900000"/>
          </a:xfrm>
        </p:grpSpPr>
        <p:pic>
          <p:nvPicPr>
            <p:cNvPr id="48" name="Picture 28" descr=""/>
            <p:cNvPicPr/>
            <p:nvPr/>
          </p:nvPicPr>
          <p:blipFill>
            <a:blip r:embed="rId3"/>
            <a:stretch/>
          </p:blipFill>
          <p:spPr>
            <a:xfrm>
              <a:off x="3870360" y="552600"/>
              <a:ext cx="20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>
              <a:off x="4014360" y="556560"/>
              <a:ext cx="1916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8 + 2 + 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1639800" y="2478240"/>
            <a:ext cx="1874880" cy="764280"/>
            <a:chOff x="1639800" y="2478240"/>
            <a:chExt cx="1874880" cy="764280"/>
          </a:xfrm>
        </p:grpSpPr>
        <p:sp>
          <p:nvSpPr>
            <p:cNvPr id="51" name="Скругленная прямоугольная выноска 11"/>
            <p:cNvSpPr/>
            <p:nvPr/>
          </p:nvSpPr>
          <p:spPr>
            <a:xfrm>
              <a:off x="1639800" y="2503440"/>
              <a:ext cx="1874880" cy="717480"/>
            </a:xfrm>
            <a:prstGeom prst="wedgeRoundRectCallout">
              <a:avLst>
                <a:gd name="adj1" fmla="val -54120"/>
                <a:gd name="adj2" fmla="val 65486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44444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>
              <a:off x="1937160" y="2478240"/>
              <a:ext cx="127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4 + 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Группа 13"/>
          <p:cNvGrpSpPr/>
          <p:nvPr/>
        </p:nvGrpSpPr>
        <p:grpSpPr>
          <a:xfrm>
            <a:off x="4998960" y="1413000"/>
            <a:ext cx="1776600" cy="772920"/>
            <a:chOff x="4998960" y="1413000"/>
            <a:chExt cx="1776600" cy="772920"/>
          </a:xfrm>
        </p:grpSpPr>
        <p:pic>
          <p:nvPicPr>
            <p:cNvPr id="54" name="Picture 30" descr=""/>
            <p:cNvPicPr/>
            <p:nvPr/>
          </p:nvPicPr>
          <p:blipFill>
            <a:blip r:embed="rId4"/>
            <a:stretch/>
          </p:blipFill>
          <p:spPr>
            <a:xfrm>
              <a:off x="4998960" y="1413000"/>
              <a:ext cx="1776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5"/>
            <p:cNvSpPr/>
            <p:nvPr/>
          </p:nvSpPr>
          <p:spPr>
            <a:xfrm>
              <a:off x="5147640" y="1428840"/>
              <a:ext cx="151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10 + 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Группа 16"/>
          <p:cNvGrpSpPr/>
          <p:nvPr/>
        </p:nvGrpSpPr>
        <p:grpSpPr>
          <a:xfrm>
            <a:off x="4398840" y="3716280"/>
            <a:ext cx="2333880" cy="843120"/>
            <a:chOff x="4398840" y="3716280"/>
            <a:chExt cx="2333880" cy="843120"/>
          </a:xfrm>
        </p:grpSpPr>
        <p:sp>
          <p:nvSpPr>
            <p:cNvPr id="57" name="Скругленная прямоугольная выноска 17"/>
            <p:cNvSpPr/>
            <p:nvPr/>
          </p:nvSpPr>
          <p:spPr>
            <a:xfrm>
              <a:off x="4425480" y="3716280"/>
              <a:ext cx="2164320" cy="843120"/>
            </a:xfrm>
            <a:prstGeom prst="wedgeRoundRectCallout">
              <a:avLst>
                <a:gd name="adj1" fmla="val 62402"/>
                <a:gd name="adj2" fmla="val -57013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8"/>
            <p:cNvSpPr/>
            <p:nvPr/>
          </p:nvSpPr>
          <p:spPr>
            <a:xfrm>
              <a:off x="4398840" y="3791160"/>
              <a:ext cx="233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10 + 4 + 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Группа 19"/>
          <p:cNvGrpSpPr/>
          <p:nvPr/>
        </p:nvGrpSpPr>
        <p:grpSpPr>
          <a:xfrm>
            <a:off x="5724360" y="2276640"/>
            <a:ext cx="2162520" cy="844560"/>
            <a:chOff x="5724360" y="2276640"/>
            <a:chExt cx="2162520" cy="844560"/>
          </a:xfrm>
        </p:grpSpPr>
        <p:sp>
          <p:nvSpPr>
            <p:cNvPr id="60" name="Скругленная прямоугольная выноска 20"/>
            <p:cNvSpPr/>
            <p:nvPr/>
          </p:nvSpPr>
          <p:spPr>
            <a:xfrm>
              <a:off x="5724360" y="2276640"/>
              <a:ext cx="2162520" cy="844560"/>
            </a:xfrm>
            <a:prstGeom prst="wedgeRoundRectCallout">
              <a:avLst>
                <a:gd name="adj1" fmla="val 59416"/>
                <a:gd name="adj2" fmla="val -69796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21"/>
            <p:cNvSpPr/>
            <p:nvPr/>
          </p:nvSpPr>
          <p:spPr>
            <a:xfrm>
              <a:off x="5828400" y="2401920"/>
              <a:ext cx="195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5 + 2 + 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Calibri"/>
              </a:rPr>
              <a:t>7  11  12  15  15  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3645000"/>
          <a:ext cx="6624720" cy="2103480"/>
        </p:xfrm>
        <a:graphic>
          <a:graphicData uri="http://schemas.openxmlformats.org/drawingml/2006/table">
            <a:tbl>
              <a:tblPr/>
              <a:tblGrid>
                <a:gridCol w="1325880"/>
                <a:gridCol w="1323720"/>
                <a:gridCol w="1325520"/>
                <a:gridCol w="1324080"/>
                <a:gridCol w="1325520"/>
              </a:tblGrid>
              <a:tr h="105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2"/>
          <p:cNvSpPr/>
          <p:nvPr/>
        </p:nvSpPr>
        <p:spPr>
          <a:xfrm>
            <a:off x="1360440" y="1844640"/>
            <a:ext cx="6503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  Р  У  П   П  А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7929720" y="4005360"/>
            <a:ext cx="10555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-36360" y="11160"/>
            <a:ext cx="9204120" cy="68468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3060720" y="730080"/>
            <a:ext cx="265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 + 6= 6 + 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627200" y="1222200"/>
            <a:ext cx="64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ереместительное свой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246400" y="1963800"/>
            <a:ext cx="445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6 + 9 + 1 = 6 + (9 + 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806120" y="2708280"/>
            <a:ext cx="55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очетательное свой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732600" y="3716280"/>
            <a:ext cx="796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9 + 6 + 1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9 + 1 + 6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(9 + 1) +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534440" y="4645080"/>
            <a:ext cx="1749240" cy="2309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716040" y="4842000"/>
            <a:ext cx="68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ГРУППИРОВКА      СЛАГАЕМ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Физминутка Ёлочка.avi" descr=""/>
          <p:cNvPicPr/>
          <p:nvPr/>
        </p:nvPicPr>
        <p:blipFill>
          <a:blip r:embed="rId1"/>
          <a:stretch/>
        </p:blipFill>
        <p:spPr>
          <a:xfrm>
            <a:off x="22320" y="36360"/>
            <a:ext cx="9121680" cy="684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468360" y="238752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7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5+</a:t>
            </a: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 (7+3)+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6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558ed5"/>
                </a:solidFill>
                <a:latin typeface="Calibri"/>
              </a:rPr>
              <a:t>5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4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 (5+5)+(6+4)=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335320" y="2798640"/>
            <a:ext cx="4467240" cy="1511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7:05:40Z</dcterms:created>
  <dc:creator>user</dc:creator>
  <dc:description/>
  <dc:language>en-US</dc:language>
  <cp:lastModifiedBy>user</cp:lastModifiedBy>
  <dcterms:modified xsi:type="dcterms:W3CDTF">2015-04-25T19:12:57Z</dcterms:modified>
  <cp:revision>39</cp:revision>
  <dc:subject/>
  <dc:title>Презентация PowerPoint</dc:title>
</cp:coreProperties>
</file>