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B42E-8EC4-47A0-B618-5E57957E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648-A239-49DA-B034-32C0EC69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7490-44A6-4B49-B360-F1732142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992-57E3-4E88-BE3D-A87C8D76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F874-BCD5-4D61-93C0-F62D2C54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6F24-A980-4994-BD73-2DE9609C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53CB-2433-4234-90B0-D258B4B7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CE92-E940-4F8D-A951-C98A50D2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626E-7760-4628-972B-D10E63A0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7E07-D786-4975-877C-C99B33EB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AEFA-DD66-49A2-B716-C3D600C6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DD6-E8E5-4AFE-91E8-E30C8912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64FA-4BA1-496E-94EF-75E265EA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C0CE-B841-4E88-A3B8-21535BEC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E3F3-F869-4859-AF10-9E9DC883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585A-FE47-4D59-A1FF-A7212073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DE1F-98D3-4CC0-AA1A-E097CC39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ACA2-A283-4336-9AF3-AFEAC54F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72229-2DCA-48EB-9983-3E344B7F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379B-89D8-4AF3-A8DF-D71924A2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EC527-19FB-4294-B6D2-AECEDA38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57050-900D-46C1-88F4-5DED5FC0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EB9-A96F-4BAE-B44E-584FD692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990A7-CB73-4A1B-B7E1-717F7402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85113-68FD-4ADE-ABFA-C91305DC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8199-7DDE-4659-A71E-0DA102E1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5F86-3E14-4A6E-B1D5-98B76647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21752-4DF6-407A-8148-3C73ACAF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AE01D-A555-4BD0-AE86-19CE4B2D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9E924-6E9B-4A7C-B780-F69D73EC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58D83-CCAB-495E-9676-01B7ACB6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E5E24-F041-463C-973A-4153907E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3553D-01DF-4194-91CB-9A639C26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7F0-C547-4E51-A456-6E640C9C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FD422-ECA4-40E2-B003-088883CB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53BA9-45C0-450B-9C49-C1EF523A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E3F8C-CDEE-43A0-B279-750B1F98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26ED0-6880-4E28-BCB2-DA6DC43E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AE1EE-0DC1-4499-864E-5F41AAFD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94981-B6A9-49AA-9AB1-93E4900E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6579C-4151-4C9D-B123-E7E7A00B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778F5-2A62-4420-81D9-869891D2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74800-CA2E-4A95-9DC2-EED8A838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0ED-BDD3-40CB-B3C1-F30DF4E5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CCC-41C7-4F07-9BFD-039D0397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CED-2A6A-4575-B329-BA41F8E4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C92-D09E-419B-9285-D4EE9649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F73-9F6E-475A-9AB6-A9A85802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BFF8-399B-43F8-8E6D-F247280353E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7525-DD9C-455E-A26C-037B98B6944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F2AE-AD27-42A9-AB8C-3EE38E11341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43D4-233F-46DC-BA1D-FC4381FE5E0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92400"/>
            <a:ext cx="7864560" cy="4468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D:\ШКОЛА\4..картинки\риСУНКИ\48i.jpeg"/>
          <p:cNvPicPr/>
          <p:nvPr/>
        </p:nvPicPr>
        <p:blipFill>
          <a:blip r:embed="rId2"/>
          <a:stretch/>
        </p:blipFill>
        <p:spPr>
          <a:xfrm>
            <a:off x="6643800" y="4000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6480" y="701640"/>
            <a:ext cx="913752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9da92"/>
                </a:solidFill>
                <a:latin typeface="Calibri"/>
              </a:rPr>
              <a:t>Расшифруй слова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7860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Constantia"/>
              </a:rPr>
              <a:t>ВОКАЙД</a:t>
            </a:r>
            <a:endParaRPr b="0" lang="en-US" sz="7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2139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7e9632"/>
                </a:solidFill>
                <a:latin typeface="Calibri"/>
              </a:rPr>
              <a:t>ДВОЙКА</a:t>
            </a:r>
            <a:endParaRPr b="0" lang="en-US" sz="7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4" descr="http://www.contrasterra.ru/storage/newsimage/d0c2c91dff2b7e4873c6545a6994e8d3.jpg"/>
          <p:cNvPicPr/>
          <p:nvPr/>
        </p:nvPicPr>
        <p:blipFill>
          <a:blip r:embed="rId1"/>
          <a:stretch/>
        </p:blipFill>
        <p:spPr>
          <a:xfrm>
            <a:off x="4500720" y="2071800"/>
            <a:ext cx="46432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8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0" y="1365120"/>
            <a:ext cx="8394840" cy="19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://nashasemia.ucoz.ru/_si/0/s73037410.jpg"/>
          <p:cNvPicPr/>
          <p:nvPr/>
        </p:nvPicPr>
        <p:blipFill>
          <a:blip r:embed="rId2"/>
          <a:stretch/>
        </p:blipFill>
        <p:spPr>
          <a:xfrm>
            <a:off x="5429160" y="2714760"/>
            <a:ext cx="32194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8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0000"/>
                </a:solidFill>
                <a:latin typeface="Calibri"/>
              </a:rPr>
              <a:t>ПЯТЁРКА</a:t>
            </a:r>
            <a:endParaRPr b="0" lang="en-US" sz="7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http://i03.fsimg.ru/2/tlog_box/1254/1254426.jpg"/>
          <p:cNvPicPr/>
          <p:nvPr/>
        </p:nvPicPr>
        <p:blipFill>
          <a:blip r:embed="rId1"/>
          <a:stretch/>
        </p:blipFill>
        <p:spPr>
          <a:xfrm>
            <a:off x="4143240" y="1214280"/>
            <a:ext cx="4429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9288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0000"/>
                </a:solidFill>
                <a:latin typeface="Calibri"/>
              </a:rPr>
              <a:t>КАЙОРТ</a:t>
            </a:r>
            <a:endParaRPr b="0" lang="en-US" sz="7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0000"/>
                </a:solidFill>
                <a:latin typeface="Calibri"/>
              </a:rPr>
              <a:t>ТРОЙКА</a:t>
            </a:r>
            <a:endParaRPr b="0" lang="en-US" sz="7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http://img.1001golos.ru/ratings_tmp/c/295000/294067/pic2.jpg"/>
          <p:cNvPicPr/>
          <p:nvPr/>
        </p:nvPicPr>
        <p:blipFill>
          <a:blip r:embed="rId1"/>
          <a:stretch/>
        </p:blipFill>
        <p:spPr>
          <a:xfrm>
            <a:off x="4786200" y="2428920"/>
            <a:ext cx="35719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4:34:03Z</dcterms:created>
  <dc:creator>Администратор</dc:creator>
  <dc:description/>
  <dc:language>en-US</dc:language>
  <cp:lastModifiedBy>DNA7 X86</cp:lastModifiedBy>
  <dcterms:modified xsi:type="dcterms:W3CDTF">2014-09-17T07:09:12Z</dcterms:modified>
  <cp:revision>4</cp:revision>
  <dc:subject/>
  <dc:title>ПРАЗДНИК ПЕРВОЙ ОТМЕТКИ</dc:title>
</cp:coreProperties>
</file>