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B2F-B8A0-4C0B-B4B2-29F183B1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CB1-D2E3-49FE-BFE3-B19BEF11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A40-68BF-4890-BAF0-D0D1EAAF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A02-19CF-4D0C-A9A7-97A81161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1C64-BA28-430E-AD12-2AA5024B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FE2C-0F06-4623-95E8-EFD21E1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D858-A0CC-4A17-AE01-D6E16E1E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DE7A-957F-4980-AA85-A78D8158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E8AA-8093-49E1-BF0A-426F4505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34A6-3453-4CDE-857A-1716BFC3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59F8-6032-4FE8-B1B8-8D97AC3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703-1178-44E4-91AC-77CFAEB1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D6EB-8546-4989-BE76-14CFCFDB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47AB-6C5F-479B-9627-4E66CAE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291A-D31B-4428-A07E-DCBC01C4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539C-53CF-452A-B147-FC0F57CA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A2CA-FC05-444B-8BFC-FCE00C90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A693-CB2B-4356-8C7C-65C8EB9D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E0D5-F840-41DE-A050-BF4ACDB9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F958-5E69-48CD-9D26-AF2DD3E7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9DCA-BBE1-404C-B191-64108D2F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B321-5984-416D-982A-5E487079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D2C-BE54-4F89-9979-9DDE4CCD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F0F7-E26F-4BB3-A619-93FC3211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DA5E-4E91-4114-B37C-DEC0EBC7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BCB1-C358-41DA-B2A8-BD92F3B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210E-3E04-4C18-B44C-AA9E2A4E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F2D3-2210-4683-87C6-69C9B79C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53AE-73C6-4314-90B4-88149C49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F80FF-C0C8-49CA-A717-4E9353BD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8DEB-198F-4D36-BD74-0E6C9EE4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A1217-B910-428B-AA7A-825CA195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7D66-3665-4F49-9490-97EF1884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CBD-D2E4-4A0A-B2C3-F2C87EC0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39F2B-9F8A-40BC-971D-EF36BDBB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20A71-A3C1-43B5-A15B-F66D9A54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466C6-3A12-45F7-8CBE-3DCF01F9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BC97-6F84-436F-9ACA-D191EBCB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53D4-7B76-4BEB-8DD9-C244C770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91CD-D497-4F3E-9923-9ACC5E3D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9BF6-CC1C-4E67-87BD-67BBFCCB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B1CA-D40C-4086-91C1-538C1B25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4BE3-39FC-4B8A-890A-3B8232A5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36A-9F18-4DC9-A31D-6071C380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97F-8CE9-4AA4-A113-98F2C175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7EC-B329-489D-A9D7-FC086E3A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15E-299C-411C-8DFE-13507AD0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A61-1FDF-4453-8637-53D6CABA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2F40-23AB-4D70-BE9E-6EA935FF0FF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E051-9857-4F5A-978F-42D21B2FD0E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4EEE-FBC0-484E-8B02-76992E2F9B4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1CCE-8B21-48DD-9F49-407F1E8DE87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92400"/>
            <a:ext cx="7864560" cy="4468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D:\ШКОЛА\4..картинки\риСУНКИ\48i.jpeg"/>
          <p:cNvPicPr/>
          <p:nvPr/>
        </p:nvPicPr>
        <p:blipFill>
          <a:blip r:embed="rId2"/>
          <a:stretch/>
        </p:blipFill>
        <p:spPr>
          <a:xfrm>
            <a:off x="6643800" y="4000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480" y="701640"/>
            <a:ext cx="91375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9da92"/>
                </a:solidFill>
                <a:latin typeface="Calibri"/>
              </a:rPr>
              <a:t>Расшифруй слова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786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Constantia"/>
              </a:rPr>
              <a:t>ВОКАЙД</a:t>
            </a:r>
            <a:endParaRPr b="0" lang="en-US" sz="7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7e9632"/>
                </a:solidFill>
                <a:latin typeface="Calibri"/>
              </a:rPr>
              <a:t>ДВОЙКА</a:t>
            </a:r>
            <a:endParaRPr b="0" lang="en-US" sz="7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4" descr="http://www.contrasterra.ru/storage/newsimage/d0c2c91dff2b7e4873c6545a6994e8d3.jpg"/>
          <p:cNvPicPr/>
          <p:nvPr/>
        </p:nvPicPr>
        <p:blipFill>
          <a:blip r:embed="rId1"/>
          <a:stretch/>
        </p:blipFill>
        <p:spPr>
          <a:xfrm>
            <a:off x="4500720" y="2071800"/>
            <a:ext cx="46432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0" y="1365120"/>
            <a:ext cx="8394840" cy="19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nashasemia.ucoz.ru/_si/0/s73037410.jpg"/>
          <p:cNvPicPr/>
          <p:nvPr/>
        </p:nvPicPr>
        <p:blipFill>
          <a:blip r:embed="rId2"/>
          <a:stretch/>
        </p:blipFill>
        <p:spPr>
          <a:xfrm>
            <a:off x="5429160" y="2714760"/>
            <a:ext cx="3219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0000"/>
                </a:solidFill>
                <a:latin typeface="Calibri"/>
              </a:rPr>
              <a:t>ПЯТЁРКА</a:t>
            </a:r>
            <a:endParaRPr b="0" lang="en-US" sz="7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http://i03.fsimg.ru/2/tlog_box/1254/1254426.jpg"/>
          <p:cNvPicPr/>
          <p:nvPr/>
        </p:nvPicPr>
        <p:blipFill>
          <a:blip r:embed="rId1"/>
          <a:stretch/>
        </p:blipFill>
        <p:spPr>
          <a:xfrm>
            <a:off x="4143240" y="1214280"/>
            <a:ext cx="4429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9288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0000"/>
                </a:solidFill>
                <a:latin typeface="Calibri"/>
              </a:rPr>
              <a:t>КАЙОРТ</a:t>
            </a:r>
            <a:endParaRPr b="0" lang="en-US" sz="7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0000"/>
                </a:solidFill>
                <a:latin typeface="Calibri"/>
              </a:rPr>
              <a:t>ТРОЙКА</a:t>
            </a:r>
            <a:endParaRPr b="0" lang="en-US" sz="7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http://img.1001golos.ru/ratings_tmp/c/295000/294067/pic2.jpg"/>
          <p:cNvPicPr/>
          <p:nvPr/>
        </p:nvPicPr>
        <p:blipFill>
          <a:blip r:embed="rId1"/>
          <a:stretch/>
        </p:blipFill>
        <p:spPr>
          <a:xfrm>
            <a:off x="4786200" y="2428920"/>
            <a:ext cx="35719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4:34:03Z</dcterms:created>
  <dc:creator>Администратор</dc:creator>
  <dc:description/>
  <dc:language>en-US</dc:language>
  <cp:lastModifiedBy>DNA7 X86</cp:lastModifiedBy>
  <dcterms:modified xsi:type="dcterms:W3CDTF">2014-09-17T07:09:12Z</dcterms:modified>
  <cp:revision>4</cp:revision>
  <dc:subject/>
  <dc:title>ПРАЗДНИК ПЕРВОЙ ОТМЕТКИ</dc:title>
</cp:coreProperties>
</file>