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A40-37F4-4A95-8860-666F9A45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3A0-01D0-4467-939C-AA73165D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737-198B-4F57-83E0-585435C4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98F-6449-4469-BA1E-8F98E640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049D-03A2-471F-A924-6DCCB480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232-D12A-4121-8CE4-A33B5C6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7226-5A1E-41B6-A167-12AF25BC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D35C-246B-43FF-BA65-621A825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134E-A4E1-4926-8421-0105005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3E3-C77C-46DC-A66D-C6134C27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984-8339-4CC3-8431-B225187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A38-7826-4E69-9399-723C270C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4F89-023E-4D67-9A2E-D4CBDA2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8DEB-0B26-498E-8AEF-3193C9B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EBE-48A3-4DBF-9AD4-C90DCB9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FF3B-4865-4A3D-B1BE-06A32CAB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27F-53AE-4F61-B1CB-421CCE82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95E-879C-40B1-95DF-EA19402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907-D8E5-4DA2-9656-9617798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931-B753-45D5-9A5B-D46288D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A31-AB21-4441-8AD6-10AAD65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3C1-4ADB-481F-99F6-CADE75A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ED6-E7E2-411D-BE93-CB163AA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FCF-5252-4AF3-9547-1B26CC6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FB5-A1BC-4DCE-ABAC-CC80BDCCDB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8CF-BA35-46A4-BB72-2123625ED8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мятники мужеству в родной станице   Егорлыкско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150336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9920" cy="1987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1503360" cy="1989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84720" y="2133720"/>
            <a:ext cx="1629000" cy="231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Памятник воинам Первой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                 конной армии (1954г.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0364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Монумент, посвящённый победе  будённовцев над белогвардейской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ницей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84072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Донским казакам, сложившим головы в братоубийственной гражданской войне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60540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Мемориал памяти павшим в боях за освобождение станицы в 1943 году.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96728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Памятник танкистам 134-го танкового полка в честь 40-летия освобождения станицы от фашистов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43466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4:39:01Z</dcterms:created>
  <dc:creator>1</dc:creator>
  <dc:description/>
  <dc:language>en-US</dc:language>
  <cp:lastModifiedBy>1</cp:lastModifiedBy>
  <dcterms:modified xsi:type="dcterms:W3CDTF">2009-01-24T10:56:44Z</dcterms:modified>
  <cp:revision>14</cp:revision>
  <dc:subject/>
  <dc:title>Памятники мужеству в родной станице   Егорлыкской.</dc:title>
</cp:coreProperties>
</file>