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EF0-DBCB-4198-AA93-D282070D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0C4-B7E5-48BC-AD2E-288098CE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DB05-D987-47F9-A22A-1387FC37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666-6AF2-4F8D-B612-F01331EB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4FE1-0791-453D-8400-1DBFC668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4883-4F63-4D3D-B208-49EBE72A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B301-B58E-4E5B-8DC9-77B903A5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ADFE-4BE7-4CA2-8906-6FB7224E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84E2-9173-4F6F-95D6-E84774F1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BED2-ACC7-4C18-9D2C-2DBFBE76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63F4-47D4-4D08-9A42-ACA7FB00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14C-48DC-4836-9A18-769ACFC1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EAE2-2B3C-407A-816E-7E6E0D0E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F4BC-C209-4F3D-8827-2A0A0FD0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7D1D-71DC-43FA-8DB1-067A580F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432C-1F08-4DDF-9BC8-09006948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6203-54DE-4EBB-B984-A765EEF6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A4F-0292-4BA6-B75F-CF936203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BEA6-9630-41F3-88E5-853A395C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1DF-E908-4EF1-9A2A-B268B6E9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21F-F130-4877-849F-E8D64EE5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91C2-992F-4AE4-B30E-61273F60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FBDB-E1DB-4EDC-965E-BA609A47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218-C17B-43F8-A219-53836E70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F2A5-7562-4232-A5AE-5EBF71D5097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2BDF-EF51-441A-A9DB-97B17EB60DA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Памятники мужеству в родной станице   Егорлыкской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150336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627280" y="2708280"/>
            <a:ext cx="3679920" cy="1987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924360" y="4437000"/>
            <a:ext cx="1503360" cy="1989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084720" y="2133720"/>
            <a:ext cx="1629000" cy="231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6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             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Памятник воинам Первой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                 конной армии (1954г.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84360" y="1916280"/>
            <a:ext cx="4103640" cy="475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Монумент, посвящённый победе  будённовцев над белогвардейской 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конницей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840720" cy="39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Донским казакам, сложившим головы в братоубийственной гражданской войне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3605400" cy="41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Мемориал памяти павшим в боях за освобождение станицы в 1943 году.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4967280" cy="36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Памятник танкистам 134-го танкового полка в честь 40-летия освобождения станицы от фашистов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00360" y="2276640"/>
            <a:ext cx="4346640" cy="41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4:39:01Z</dcterms:created>
  <dc:creator>1</dc:creator>
  <dc:description/>
  <dc:language>en-US</dc:language>
  <cp:lastModifiedBy>1</cp:lastModifiedBy>
  <dcterms:modified xsi:type="dcterms:W3CDTF">2009-01-24T10:56:44Z</dcterms:modified>
  <cp:revision>14</cp:revision>
  <dc:subject/>
  <dc:title>Памятники мужеству в родной станице   Егорлыкской.</dc:title>
</cp:coreProperties>
</file>