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77B6-F8B7-43F0-AA08-FA419E510E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CE1F-9EB3-4FA1-859B-BAB40C75F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B57-27B2-4A3F-94A8-1E33E0D7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19E-B073-45A3-9468-A1847860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A93-57F7-4C49-99C4-41578C2D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756-8132-4B5E-AF31-4E065D98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9C74-BA93-4DFA-A333-1239BCEC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20A8-BA06-4938-A1C9-6ADD5224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C6F2-4B97-4C2E-975B-55BC3AEA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5B88-FB4A-4EF8-9733-4CE7965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70B8-C8BC-4C88-AED3-5D48B33D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3304-29BB-4A5C-A58B-1D964F6E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C133-025A-45B4-AE5F-CA93022C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0E5-E311-439B-BF63-977064E4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6E7A-838F-4EC8-97E0-C1260C8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35F-B680-4712-A153-59F77CB2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77A6-6DF9-4B47-8CC5-0D7D2222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5E18-19B1-4886-8924-0C12D4E9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FB0-B8F2-42A2-8863-123B883F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8111-63C5-4EA0-8E8A-1CF8AB1F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3D06-C542-4483-9C2B-BC86D10C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8BBF-E180-4994-B404-FDE27883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4923-7405-485B-B329-385CEF52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E815-B5F5-4A88-BFBF-00A00263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DE4-8F9A-4ECF-9CEC-658CCFAF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6BBC-F2B2-4B62-9B9D-E5759FE4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77C4-4000-4E2F-8EF3-22BAFFF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FA3D-6EA1-4673-9AED-56E0A596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7F41-E99B-49F5-A911-267F1662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303E-91CB-441D-B448-1B8AC723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E4EDC-2785-4E90-9BB0-4FDFB4D2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06EA-FD2E-48AC-BB8C-DEC71254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4391-A4DA-4CEA-93B0-D3C51FD1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05DB-04BD-46C5-A920-0DE91818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9C11-6D24-4C6C-A412-30035745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260-EC12-42B4-8F5B-628A27B1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4F52-BCB5-4C5D-97BD-721ABB46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03E3-43A6-4FDA-AD78-ADA7057B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437C-B64D-4D11-8DE2-45656550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778D4-58A1-48D0-99E3-7179BDFE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1C396-13F6-4693-9D79-C4B906E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D9BB0-E187-4E45-B946-2DBCA6D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ED46-656D-4BAC-B8F0-F87C8618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1711-E689-4DB4-9E37-B0D0BEB1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BCBB-DE9E-43E3-B4D0-42986776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35CB-28F9-47FD-81AE-7BEC9A36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D5E-D235-47F5-ABDD-8B54FBF7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0871-CE0E-4D30-98A2-77F1C86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B39F6-7753-469E-B80A-EFD684FB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BD1D6-6BB3-4E69-9477-C34CAA0F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D4C3-1136-46CE-B90B-5F29E25B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C48F-3B88-41FA-A25A-55B231D5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E379E-9AC8-4C6B-8B97-BE0336A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4AA9-44F0-416A-AAE1-05DACCE7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3CBC-1623-40BF-8C17-8DA61C0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CA732-2887-4023-AE70-1C36251E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66ACA-18E9-4FB6-9D96-D6CDBF12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E5B-C185-43F6-97AA-2776CBD4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981E-86DB-4220-A1CC-B81CEEA7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053-FCCF-4700-9B21-F61F37A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69A-FA37-4A55-AC12-683E19D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BE0-C043-4C24-98D1-7D93354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BE2D-A0E0-4BE7-9309-AF68BD25B05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F487-7341-4E70-B517-C88BA1111AB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798-8F97-452B-AC35-2D3E76ABE44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09A1-26E8-437A-A757-FE55669C7D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6DC-5206-403C-B1DF-58ED6F9B3DE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70c0"/>
                </a:solidFill>
                <a:latin typeface="Verdana"/>
              </a:rPr>
              <a:t>Знаменитые  мест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Забайкальского   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           </a:t>
            </a:r>
            <a:r>
              <a:rPr b="1" i="1" lang="ru-RU" sz="5400" spc="-1" strike="noStrike">
                <a:solidFill>
                  <a:srgbClr val="0070c0"/>
                </a:solidFill>
                <a:latin typeface="Verdana"/>
              </a:rPr>
              <a:t>Края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396000" y="574560"/>
            <a:ext cx="8164440" cy="58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адалинские дворц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Забайкальского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р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3960720" cy="25225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887640" cy="28814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"/>
          <p:cNvPicPr/>
          <p:nvPr/>
        </p:nvPicPr>
        <p:blipFill>
          <a:blip r:embed="rId3"/>
          <a:stretch/>
        </p:blipFill>
        <p:spPr>
          <a:xfrm>
            <a:off x="4495680" y="337824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"/>
          <p:cNvPicPr/>
          <p:nvPr/>
        </p:nvPicPr>
        <p:blipFill>
          <a:blip r:embed="rId4"/>
          <a:stretch/>
        </p:blipFill>
        <p:spPr>
          <a:xfrm>
            <a:off x="4495680" y="337824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7" descr=""/>
          <p:cNvPicPr/>
          <p:nvPr/>
        </p:nvPicPr>
        <p:blipFill>
          <a:blip r:embed="rId5"/>
          <a:stretch/>
        </p:blipFill>
        <p:spPr>
          <a:xfrm>
            <a:off x="4356000" y="449280"/>
            <a:ext cx="4103640" cy="28796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9" descr=""/>
          <p:cNvPicPr/>
          <p:nvPr/>
        </p:nvPicPr>
        <p:blipFill>
          <a:blip r:embed="rId6"/>
          <a:stretch/>
        </p:blipFill>
        <p:spPr>
          <a:xfrm>
            <a:off x="4356000" y="3141720"/>
            <a:ext cx="4367160" cy="28432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0"/>
          <p:cNvSpPr/>
          <p:nvPr/>
        </p:nvSpPr>
        <p:spPr>
          <a:xfrm>
            <a:off x="684360" y="5985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далинские дво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595008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Бутинский дворец в г Нерчинск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Содержимое 3" descr=""/>
          <p:cNvPicPr/>
          <p:nvPr/>
        </p:nvPicPr>
        <p:blipFill>
          <a:blip r:embed="rId1"/>
          <a:stretch/>
        </p:blipFill>
        <p:spPr>
          <a:xfrm>
            <a:off x="1886040" y="549360"/>
            <a:ext cx="4895640" cy="31669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3722760" cy="21020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3961080" cy="2102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157720"/>
            <a:ext cx="81835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Arial"/>
              </a:rPr>
              <a:t>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Arial"/>
              </a:rPr>
              <a:t>            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КОНДУЙСКОЕ ГОРОДИЩЕ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Объект 3" descr=""/>
          <p:cNvPicPr/>
          <p:nvPr/>
        </p:nvPicPr>
        <p:blipFill>
          <a:blip r:embed="rId1"/>
          <a:stretch/>
        </p:blipFill>
        <p:spPr>
          <a:xfrm>
            <a:off x="503280" y="3267000"/>
            <a:ext cx="3527280" cy="26830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816360" cy="3029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4441680" cy="5616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5157720"/>
            <a:ext cx="81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  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Объект 4" descr=""/>
          <p:cNvPicPr/>
          <p:nvPr/>
        </p:nvPicPr>
        <p:blipFill>
          <a:blip r:embed="rId1"/>
          <a:stretch/>
        </p:blipFill>
        <p:spPr>
          <a:xfrm>
            <a:off x="468360" y="490680"/>
            <a:ext cx="3816360" cy="2577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1042920" y="5805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ЛХАНАЙ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2"/>
          <a:stretch/>
        </p:blipFill>
        <p:spPr>
          <a:xfrm>
            <a:off x="4788000" y="490680"/>
            <a:ext cx="3481200" cy="2592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6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743280" cy="26636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"/>
          <p:cNvPicPr/>
          <p:nvPr/>
        </p:nvPicPr>
        <p:blipFill>
          <a:blip r:embed="rId4"/>
          <a:stretch/>
        </p:blipFill>
        <p:spPr>
          <a:xfrm>
            <a:off x="4356000" y="3083040"/>
            <a:ext cx="4232520" cy="2722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142880"/>
            <a:ext cx="818352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ФЕДРАЛЬНЫЙ СОБОР КАЗАНСКОЙ ИКОНЫ БОЖЬЕЙ МАТЕРИ В ЧИТЕ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705120" cy="36734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141800" cy="370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5013360"/>
            <a:ext cx="8183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ЦЕРКОВЬ УСПЕНИЯ БОЖЬЕЙ МАТЕРИ В СЕЛЕ КАЛИНИНО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319640" cy="42483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268520" cy="4248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4797000"/>
            <a:ext cx="81835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a5d8"/>
                </a:solidFill>
                <a:latin typeface="Verdana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Камень Чингисха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Объект 3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894720" cy="418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836280"/>
            <a:ext cx="8183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87280" y="692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efed"/>
                </a:solidFill>
                <a:latin typeface="Verdana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Объект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444840" cy="2880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66640" y="58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УГОЛЬСКИЙ ДАЦ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2"/>
          <a:stretch/>
        </p:blipFill>
        <p:spPr>
          <a:xfrm>
            <a:off x="4284720" y="369720"/>
            <a:ext cx="4354560" cy="2914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"/>
          <p:cNvPicPr/>
          <p:nvPr/>
        </p:nvPicPr>
        <p:blipFill>
          <a:blip r:embed="rId4"/>
          <a:stretch/>
        </p:blipFill>
        <p:spPr>
          <a:xfrm>
            <a:off x="4140360" y="3213000"/>
            <a:ext cx="4241520" cy="26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7:10:33Z</dcterms:created>
  <dc:creator>Admin</dc:creator>
  <dc:description/>
  <dc:language>en-US</dc:language>
  <cp:lastModifiedBy>Admin</cp:lastModifiedBy>
  <dcterms:modified xsi:type="dcterms:W3CDTF">2015-04-25T09:50:39Z</dcterms:modified>
  <cp:revision>22</cp:revision>
  <dc:subject/>
  <dc:title>Чудеса Забайкальского края </dc:title>
</cp:coreProperties>
</file>