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90520" y="878040"/>
            <a:ext cx="4464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0760" cy="35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90520" y="878040"/>
            <a:ext cx="4469040" cy="31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220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796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4000" y="549360"/>
            <a:ext cx="835164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20000" y="2160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265400" y="360504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780000" y="4324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1758960" y="2362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316640" y="45324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319640" y="287964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7"/>
          <a:stretch/>
        </p:blipFill>
        <p:spPr>
          <a:xfrm>
            <a:off x="5146560" y="50752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8"/>
          <a:stretch/>
        </p:blipFill>
        <p:spPr>
          <a:xfrm>
            <a:off x="1800360" y="54054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емейные ценности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9"/>
          <a:stretch/>
        </p:blipFill>
        <p:spPr>
          <a:xfrm>
            <a:off x="744480" y="1898640"/>
            <a:ext cx="800100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5333760" cy="4105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4754520" y="3564000"/>
            <a:ext cx="4389480" cy="3294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1187280" y="333360"/>
            <a:ext cx="56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 чего начинается семь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День Семьи любви и верности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671400" y="2627280"/>
            <a:ext cx="3822840" cy="286704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5" descr=""/>
          <p:cNvPicPr/>
          <p:nvPr/>
        </p:nvPicPr>
        <p:blipFill>
          <a:blip r:embed="rId2"/>
          <a:stretch/>
        </p:blipFill>
        <p:spPr>
          <a:xfrm>
            <a:off x="4646520" y="2627280"/>
            <a:ext cx="3822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268280"/>
            <a:ext cx="7451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одростку ответить просто на сложные вопрос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чего начинается семь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целомудр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одростку ответить просто на сложные вопросы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" name="Объект 9" descr=""/>
          <p:cNvPicPr/>
          <p:nvPr/>
        </p:nvPicPr>
        <p:blipFill>
          <a:blip r:embed="rId1"/>
          <a:stretch/>
        </p:blipFill>
        <p:spPr>
          <a:xfrm>
            <a:off x="307800" y="1716120"/>
            <a:ext cx="3681720" cy="430992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0" descr=""/>
          <p:cNvPicPr/>
          <p:nvPr/>
        </p:nvPicPr>
        <p:blipFill>
          <a:blip r:embed="rId2"/>
          <a:stretch/>
        </p:blipFill>
        <p:spPr>
          <a:xfrm>
            <a:off x="4352760" y="1700280"/>
            <a:ext cx="4480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539640" y="476280"/>
            <a:ext cx="84600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inherit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inherit"/>
              </a:rPr>
              <a:t>К чему  ведет раннее начало половой жизн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Open Sans"/>
              </a:rPr>
              <a:t>.</a:t>
            </a:r>
            <a:br>
              <a:rPr sz="1800"/>
            </a:br>
            <a:r>
              <a:rPr b="0" lang="ru-RU" sz="2400" spc="-1" strike="noStrike">
                <a:solidFill>
                  <a:srgbClr val="333333"/>
                </a:solidFill>
                <a:latin typeface="Open Sans"/>
              </a:rPr>
              <a:t>По статистике Научного центра здоровья детей, в России 41% школьниц в 15 лет уже имели половые контакты, а 8% девушек лишаются невинности и вовсе до 13 лет. При этом большинство подростков, начинающих половую жизнь в столь юном возрасте, совершенно не заботятся о своём здоровье. Такая беспечность приводит к развитию заболеваний, и в дальнейшем молодые люди теряют возможность иметь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Open Sans"/>
              </a:rPr>
              <a:t>Данные  на 2014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годно  в России производится более 2 млн. абортов, причем около 10% их них приходится на девочек в возрасте до 18 лет.</a:t>
            </a:r>
            <a:br>
              <a:rPr sz="32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522440" y="203364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8893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тупление в половые отношения в подростковом возрасте, происходит по следующим обстоя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своих друз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ьное опья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ьная выго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 привлечь к себе внимание и удержать партнер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амоутвержд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редство доказать свою взрос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"/>
          <p:cNvGrpSpPr/>
          <p:nvPr/>
        </p:nvGrpSpPr>
        <p:grpSpPr>
          <a:xfrm>
            <a:off x="684360" y="1701720"/>
            <a:ext cx="7416720" cy="5183280"/>
            <a:chOff x="684360" y="1701720"/>
            <a:chExt cx="7416720" cy="518328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701720"/>
              <a:ext cx="7416720" cy="43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"/>
            <p:cNvSpPr/>
            <p:nvPr/>
          </p:nvSpPr>
          <p:spPr>
            <a:xfrm>
              <a:off x="1361160" y="2554200"/>
              <a:ext cx="671652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Рисунок 3" descr=""/>
          <p:cNvPicPr/>
          <p:nvPr/>
        </p:nvPicPr>
        <p:blipFill>
          <a:blip r:embed="rId2"/>
          <a:stretch/>
        </p:blipFill>
        <p:spPr>
          <a:xfrm>
            <a:off x="1547640" y="493560"/>
            <a:ext cx="61693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796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годно  в России производится более 2 млн. абортов, причем около 10% их них приходится на девочек в возрасте до 18 лет.</a:t>
            </a:r>
            <a:br>
              <a:rPr sz="32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1476360" y="2146320"/>
            <a:ext cx="60483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08000" y="260280"/>
            <a:ext cx="91440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22280" indent="-317520">
              <a:lnSpc>
                <a:spcPct val="10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в настоящее время около 9,3 млн. девочек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10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абсолютно здоровых девочек за последние 10 лет снизилась с 28,6% до 6,3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100000"/>
              </a:lnSpc>
              <a:spcBef>
                <a:spcPts val="7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ка говорит о том, что незапланированная подростковая беременность чаще всего заканчивается абортами. Так, на 100 беременностей у девочек-подростков приходится 70 абортов, 15 родов и 15 самопроизвольных выкидыш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Елена Вильде</cp:lastModifiedBy>
  <dcterms:modified xsi:type="dcterms:W3CDTF">2015-03-10T16:06:48Z</dcterms:modified>
  <cp:revision>13</cp:revision>
  <dc:subject/>
  <dc:title>Слайд 1</dc:title>
</cp:coreProperties>
</file>