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D2F-F5D9-4554-B35A-196E0521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CE0-7C02-468C-9F06-E26B0BDA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AEB-33AF-4DBA-95D5-8116F57A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731-2FF3-415A-AA7D-92AF871E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984-BCCE-4B29-A9FA-9C068243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D99-A2A2-4F53-96EE-B65D85B6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C20-E50B-4CF0-B06D-F8FB9D66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F54-3668-41D4-8251-79826F3F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7B9-BED9-4A1A-B408-04707C0F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9A2-4D32-492D-81B3-002D6A7B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87A-06D7-4ED7-9E4C-3AB576E3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9A3-74C0-4412-B1E8-440AF026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9FB4-CB29-4943-B4D0-946C23C04F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34544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Открытка ко Дню Побед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C:\Users\1\Desktop\P1480957.JPG"/>
          <p:cNvPicPr/>
          <p:nvPr/>
        </p:nvPicPr>
        <p:blipFill>
          <a:blip r:embed="rId2"/>
          <a:stretch/>
        </p:blipFill>
        <p:spPr>
          <a:xfrm>
            <a:off x="1387440" y="1397160"/>
            <a:ext cx="63277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1</cp:lastModifiedBy>
  <dcterms:modified xsi:type="dcterms:W3CDTF">2015-04-26T14:16:10Z</dcterms:modified>
  <cp:revision>6</cp:revision>
  <dc:subject/>
  <dc:title>Слайд 1</dc:title>
</cp:coreProperties>
</file>