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591B-0B51-43C7-99F9-580DD76E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D13-BD44-4F50-950B-F16BB638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13B-FDB0-4AC3-8A85-72F8C25C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72CC-5815-45C0-8B37-D5DE5BFD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03C0-A705-4DCF-A198-AF2B362D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DFDE-276A-4298-8F5C-9092F10E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489D-3795-48E6-8843-CC60A5F5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069-4D2E-41B0-AFE5-A3E1B57C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A6FE-189C-4355-9EC1-127CE461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7908-52C0-406C-BD59-BCFBA620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FE8-3BF9-48BD-820C-2CA5356D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7C8-1C2D-4A79-BA49-AFCA8317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40B4-E17E-4467-B7AE-CE7C66820A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34544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20000"/>
                </a:solidFill>
                <a:latin typeface="Times New Roman"/>
              </a:rPr>
              <a:t>Открытка ко Дню Побед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C:\Users\1\Desktop\P1480957.JPG"/>
          <p:cNvPicPr/>
          <p:nvPr/>
        </p:nvPicPr>
        <p:blipFill>
          <a:blip r:embed="rId2"/>
          <a:stretch/>
        </p:blipFill>
        <p:spPr>
          <a:xfrm>
            <a:off x="1387440" y="1397160"/>
            <a:ext cx="632772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1</cp:lastModifiedBy>
  <dcterms:modified xsi:type="dcterms:W3CDTF">2015-04-26T14:16:10Z</dcterms:modified>
  <cp:revision>6</cp:revision>
  <dc:subject/>
  <dc:title>Слайд 1</dc:title>
</cp:coreProperties>
</file>