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5FD-1872-4219-9BE0-E4CA4AB1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847-9289-4996-85BD-78EDCD15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657-5EB9-4740-A550-CF6AF81F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4C4-949C-4BA3-80FA-D38BA339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CE8-77A6-4A71-8A6B-BF196ECA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8769-2776-41E8-BBEE-D48E17C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1BE-AB2F-43CB-B25E-B1FAB38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D28-141C-4EE4-95E4-686DEF3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04C0-3E38-4646-AA8C-A8D73E8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8CB-535A-44ED-8FB3-FAC4C2EB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7F92-8BE3-4784-BE0E-03689AC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AD3-1CD1-4002-A760-544765E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F9B4-1CDF-447B-A4AE-517D678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483-9A54-46CC-A7D8-4E5E175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5718-E646-46BC-8AC5-6DD8C5D7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A1DD-EC6F-4ECE-B007-5FA6FB05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48FD-AE4F-4276-A227-CAFC791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C4E-899D-4360-AB29-A0B05E8A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FDB-47CD-40F1-871E-DBD30BC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EB1-D4AC-4073-BC5D-D7384D89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2E8-93E5-4B47-989F-C93E5D6F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32F-DF9F-43BE-BF35-0A662345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18A-2D81-4EF1-BF22-C0DD9A1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31C-2D2B-4607-A52C-3637C56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2743-11CE-4CEF-9C2A-7180BEFC9B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686-6627-4CB8-8E9C-33E86260BD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Компьютер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благо или зло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Коробцова Ю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10920" y="260280"/>
            <a:ext cx="642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яет развивать воображение ребенка, моделируя совершенно новые ситуации, даже из области будущего и нереаль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ет внимательность, сосредоточ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язывает ребенка действовать в темпе, задаваемом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ет овладеть чтением и пись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быстроту действий и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ет целеустрем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ину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907920"/>
            <a:ext cx="640080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захватывает сознани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ицательно влияет на физическое развитие детей (ребенок не двигае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ается состояние нервозности и страха при стремлении во что бы то ни стало добиться поб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держание игр провоцирует проявление детской агрессии и жесток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-100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ет интеллектуальную активность детей за счет развлекательного содержания иг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удшает зрение ребе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ствует нарушению оса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авила работы за компьютером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тельность игр должна соответствовать возрасту ребенка: для дошкольников 10-15 мину; для младших школьников – 15-3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ное расположение стола, стула и компьютера должно быть таким, чтобы уровень глаз ребенка совпадал с уровнем экрана; расстояние от глаз до экрана должно быть не менее 0,5 ме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128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тельно установить компьютер на специально оборудованном столе, так чтобы «мышка» и клавиатура находились в удобном для ребенка по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ребенка должно быть хорошо освещено; естественный свет должен быть сбоку, а искусственный  - сверх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ьзя устанавливать экран напротив ок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33300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чшее время для игр – утро или время с 15.00 до 17.00 ча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уется начинать вводить игры на компьютере в возрасте старше четырех лет, желательно с пяти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 наконец, одна из самых важных проблем – выбор игрового компьютерного обеспечения. В последнее время у педагогов, психологов вызывает серьезное беспокойство содержание компьютерных игр, которое порождает целый ряд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обладание в них агрессивности, жестокости отрицательно сказывается на психическом и нравственном состояни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ий режим взаимодействия с компьютерной игрой диктует ребенку высокий темп. Что вызывает у него состояние стойкого напряжения, ведущего к нервозности, возникновению эмоциональной неустойчивости и стра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ая зависимость от результата игры влечет за собой зависимость от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Что такое «Игромания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мания – это психологическая зависимость человека от компьютерных игр (как, впрочем, и от других), которая влияет на его физическое и психическое со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чему происходит заражение «игроманией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йствия, разворачивающиеся на экране монитора, привлекают как и сказки – это придуманный мир, более яркий, простой и выразительный, чем на самом де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щенные ошибки всегда можно исправить, нужно перезагрузить игру или вернуться на предыдущий уров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-9684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ы легко можно менять и не доигрывать до конца, если что-то не получа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ные игры гораздо больше, чем фильмы или книги, позволяют детям отождествиться с главными героями – почувствовать себя невероятно сильными, отважными, умны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 компьютер – замечательный партнер по общению: всегда понимает, не капризничает, не конфликтует, не читает нотаций. С ним легко догов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Есть ли у вас дома компьютер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 опрошенных дали на этот вопрос утвердите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Симптомы игровой зависимости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1280" y="836640"/>
            <a:ext cx="6400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ую часть свободного времени ребенок проводит за компьюте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го практически нет реальных друзей, зато много виртуаль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а ваш запрет сидеть за компьютером дошкольник реагирует агрессивно или становится трев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вас обманывает, чтобы посидеть за компьютером, потерял интерес к другим занятиям и предм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ремя игры ребенок начинает разговаривать сам с собой или с героями игры так, как будто они реаль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тановится более агресс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оветы по выбору програм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ть их интеллектуальную, познавательную и развивающую значи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ть внимание на то, чтобы содержание и форма подачи материала соответствовали возрасту и индивидуальным способностям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наблюдать степень воздействия компьютерных программ на психику и эмоционально-нравственное благополуч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В каком возрасте, на ваш взгляд, надо начинать знакомить ребенка с компьютером? Почем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% - как можно рань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% - с 5 до 7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% - с 1 класса и стар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Какова цель пребывания вашего ребенка за компьютером дом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7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% - не сидит дома за компьюте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просмотр мультфильм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% - просмотр фотографий, видео с утр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7881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времени находится ваш ребенок за компьютером? Нужно ли взрослому находиться рядом? Почему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64008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не нужно находиться ря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- надо контро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- 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затруднились отве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2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% - 30 мин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6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Боитесь ли вы общения вашего ребенка с компьютером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- боится общения ребенка с компьюте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% - не боится общения ребенка с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Изменилось ли поведение вашего ребенка с появлением в доме компьютер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- изменило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- не измен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вы относитесь к компьютерным играм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% - положи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% - отрица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% - положительно к развивающим и отрицательно к «стрелялка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люсы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400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т положительный интерес к новой тех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творческие 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раняет страх перед новой техн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т психологическую готовность к овладению компьютерной грамот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нирует память,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 элементы наглядно-образного и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6:46:23Z</dcterms:created>
  <dc:creator>admin</dc:creator>
  <dc:description/>
  <dc:language>en-US</dc:language>
  <cp:lastModifiedBy>user</cp:lastModifiedBy>
  <dcterms:modified xsi:type="dcterms:W3CDTF">2015-04-26T11:41:11Z</dcterms:modified>
  <cp:revision>3</cp:revision>
  <dc:subject/>
  <dc:title>«Компьютер –  благо или зло?»</dc:title>
</cp:coreProperties>
</file>