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BD5-77F1-4903-9077-A631E627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B81-FB0E-40D3-8F6C-1FA9B3E0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D29-9329-4169-A6C0-4E0C1317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45C-8DD0-4431-A16C-1D0FECCC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D2EB-2B7A-460E-AAE2-8536132E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4968-CC1F-4F3A-B11E-D51621B9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CBDB-DC5C-49A8-AB40-AB66E496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00C7-9C4A-435F-9461-8376250C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95F5-C097-4DBF-9727-15A75903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71D9-0C49-4AAD-AD0E-CECF2054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23EE-1977-4A8D-A856-7718791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FF3-D835-4F02-91D5-54EF4272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812-17F0-4238-BFBA-7D46C6B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F275-1F07-42AB-867E-176FD85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0E2B-F86B-4C10-BB07-A474E9DE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508B-8FA4-421F-B652-D05151CB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3911-1506-4BE2-9A60-4DE41118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30B-DDAF-4A4A-8380-5D8C429B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D6D-A27C-478A-AF54-F070567C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ACE-8E8F-40F5-8CA1-942E7207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099-CFC4-431F-8BE9-45573092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685-2C8A-4EEF-8012-5671B82B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0E3-87B4-4D48-BF86-AA7E491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685-FF8E-4DFF-812C-231545F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DF0-9C4B-4658-B0BF-3681CD4AB0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07A4-A179-4C0C-908C-37080850D1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«Компьютер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лаго или зло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: Коробцова Ю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10920" y="260280"/>
            <a:ext cx="6427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воляет развивать воображение ребенка, моделируя совершенно новые ситуации, даже из области будущего и нереальн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ывает внимательность, сосредоточ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язывает ребенка действовать в темпе, задаваемом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гает овладеть чтением и письм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ет быстроту действий и реа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ывает целеустрем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ину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907920"/>
            <a:ext cx="640080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остью захватывает сознание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ицательно влияет на физическое развитие детей (ребенок не двигает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ается состояние нервозности и страха при стремлении во что бы то ни стало добиться поб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держание игр провоцирует проявление детской агрессии и жесток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-100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404280"/>
            <a:ext cx="64008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ает интеллектуальную активность детей за счет развлекательного содержания иг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удшает зрение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ствует нарушению оса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авила работы за компьютером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тельность игр должна соответствовать возрасту ребенка: для дошкольников 10-15 мину; для младших школьников – 15-3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аимное расположение стола, стула и компьютера должно быть таким, чтобы уровень глаз ребенка совпадал с уровнем экрана; расстояние от глаз до экрана должно быть не менее 0,5 ме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1280" y="25992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ательно установить компьютер на специально оборудованном столе, так чтобы «мышка» и клавиатура находились в удобном для ребенка по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о ребенка должно быть хорошо освещено; естественный свет должен быть сбоку, а искусственный  - сверх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льзя устанавливать экран напротив ок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333000"/>
            <a:ext cx="6400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чшее время для игр – утро или время с 15.00 до 17.00 ча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комендуется начинать вводить игры на компьютере в возрасте старше четырех лет, желательно с пяти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, наконец, одна из самых важных проблем – выбор игрового компьютерного обеспечения. В последнее время у педагогов, психологов вызывает серьезное беспокойство содержание компьютерных игр, которое порождает целый ряд проб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333000"/>
            <a:ext cx="6400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обладание в них агрессивности, жестокости отрицательно сказывается на психическом и нравственном состоянии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стокий режим взаимодействия с компьютерной игрой диктует ребенку высокий темп. Что вызывает у него состояние стойкого напряжения, ведущего к нервозности, возникновению эмоциональной неустойчивости и стра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янная зависимость от результата игры влечет за собой зависимость от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то такое «Игромания»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мания – это психологическая зависимость человека от компьютерных игр (как, впрочем, и от других), которая влияет на его физическое и психическое со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чему происходит заражение «игроманией»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йствия, разворачивающиеся на экране монитора, привлекают как и сказки – это придуманный мир, более яркий, простой и выразительный, чем на самом де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ущенные ошибки всегда можно исправить, нужно перезагрузить игру или вернуться на предыдущий уров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259920"/>
            <a:ext cx="64008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ы легко можно менять и не доигрывать до конца, если что-то не получа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ьютерные игры гораздо больше, чем фильмы или книги, позволяют детям отождествиться с главными героями – почувствовать себя невероятно сильными, отважными, умным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 компьютер – замечательный партнер по общению: всегда понимает, не капризничает, не конфликтует, не читает нотаций. С ним легко договор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Есть ли у вас дома компьютер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 опрошенных дали на этот вопрос утвердите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Симптомы игровой зависимости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1280" y="836640"/>
            <a:ext cx="6400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ую часть свободного времени ребенок проводит за компьюте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него практически нет реальных друзей, зато много виртуаль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на ваш запрет сидеть за компьютером дошкольник реагирует агрессивно или становится трев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вас обманывает, чтобы посидеть за компьютером, потерял интерес к другим занятиям и предме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ремя игры ребенок начинает разговаривать сам с собой или с героями игры так, как будто они реаль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становится более агресс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оветы по выбору програм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ивать их интеллектуальную, познавательную и развивающую значи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щать внимание на то, чтобы содержание и форма подачи материала соответствовали возрасту и индивидуальным способностям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наблюдать степень воздействия компьютерных программ на психику и эмоционально-нравственное благополучи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649908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В каком возрасте, на ваш взгляд, надо начинать знакомить ребенка с компьютером? Почему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% - как можно рань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% - с 5 до 7 л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% - с 1 класса и стар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Какова цель пребывания вашего ребенка за компьютером дома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76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% - не сидит дома за компьютер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-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- просмотр мультфиль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% - просмотр фотографий, видео с утрен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78816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колько времени находится ваш ребенок за компьютером? Нужно ли взрослому находиться рядом? Почему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64008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не нужно находиться ря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- надо контро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% - 0 мин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затруднились ответ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20 мин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% - 30 мин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6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Боитесь ли вы общения вашего ребенка с компьютером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- боится общения ребенка с компьютер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% - не боится общения ребенка с компьют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Изменилось ли поведение вашего ребенка с появлением в доме компьютера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% - изменило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% - не измен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вы относитесь к компьютерным играм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% - положи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7% - отрица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 % - положительно к развивающим и отрицательно к «стрелялка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люсы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11280" y="981000"/>
            <a:ext cx="6400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ывает положительный интерес к новой тех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ет творческие 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раняет страх перед новой техн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ует психологическую готовность к овладению компьютерной грамот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нирует память, вним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ет элементы наглядно-образного и логического мыш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6:46:23Z</dcterms:created>
  <dc:creator>admin</dc:creator>
  <dc:description/>
  <dc:language>en-US</dc:language>
  <cp:lastModifiedBy>user</cp:lastModifiedBy>
  <dcterms:modified xsi:type="dcterms:W3CDTF">2015-04-26T11:41:11Z</dcterms:modified>
  <cp:revision>3</cp:revision>
  <dc:subject/>
  <dc:title>«Компьютер –  благо или зло?»</dc:title>
</cp:coreProperties>
</file>