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wmf" ContentType="image/x-wmf"/>
  <Override PartName="/ppt/media/image9.jpeg" ContentType="image/jpeg"/>
  <Override PartName="/ppt/media/image14.jpeg" ContentType="image/jpeg"/>
  <Override PartName="/ppt/media/image13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wind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90E6-5EDA-4346-BFFC-7A93A929F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ACB-35F3-45EC-A392-4BD125814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4B6-CF54-4446-B6D1-551AF06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0C8-823C-451A-910D-B5F4190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695-FE07-4C90-88EB-82670E81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EC9-975E-443A-BB26-417F74E0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0B6-8F68-4C25-B640-5E01AB7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102-9082-46EB-9F05-6A65047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902-B607-4EDE-B923-F1DF0B7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500-29E9-40C2-B283-86350B02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ED4-8314-4B54-9772-EDC808B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407-7286-4B72-A189-A03BBC6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8FC-191D-4A65-9A95-3942BE7E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DF3-5AC1-4000-8780-C7D039E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1230-7AFF-45F7-9454-1552382BA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ru/4/44/Meridian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elektropoezda.ucoz.ru/2-717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ans_Hals_-_Portret_van_Ren&#233;_Descartes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&#1060;&#1072;&#1081;&#1083;:Gottfried_Wilhelm_von_Leibniz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ладк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ординатная плос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Кайгородова С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67640" cy="6416640"/>
          </a:xfrm>
          <a:prstGeom prst="rect">
            <a:avLst/>
          </a:prstGeom>
          <a:ln w="0">
            <a:noFill/>
          </a:ln>
        </p:spPr>
      </p:pic>
      <p:sp>
        <p:nvSpPr>
          <p:cNvPr id="78" name="Oval 74"/>
          <p:cNvSpPr/>
          <p:nvPr/>
        </p:nvSpPr>
        <p:spPr>
          <a:xfrm>
            <a:off x="2143080" y="3429000"/>
            <a:ext cx="152280" cy="1522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4"/>
          <p:cNvSpPr/>
          <p:nvPr/>
        </p:nvSpPr>
        <p:spPr>
          <a:xfrm>
            <a:off x="4286160" y="2571840"/>
            <a:ext cx="152640" cy="1522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6"/>
          <p:cNvSpPr/>
          <p:nvPr/>
        </p:nvSpPr>
        <p:spPr>
          <a:xfrm flipV="1">
            <a:off x="2214720" y="2643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7"/>
          <p:cNvSpPr/>
          <p:nvPr/>
        </p:nvSpPr>
        <p:spPr>
          <a:xfrm flipH="1">
            <a:off x="2143080" y="26431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1714680" y="2143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alibri"/>
              </a:rPr>
              <a:t>М(-5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4"/>
          <p:cNvSpPr/>
          <p:nvPr/>
        </p:nvSpPr>
        <p:spPr>
          <a:xfrm>
            <a:off x="2143080" y="2571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228600" y="228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ординатной плоскости xOy построить точки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(-3; 1);  B (-1; -2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 (-2: 4);  D (2; 3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 (6: 4);    K (4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mathematics-repetition.com/wp-content/uploads/2012/06/ploskost21.jpg"/>
          <p:cNvPicPr/>
          <p:nvPr/>
        </p:nvPicPr>
        <p:blipFill>
          <a:blip r:embed="rId2"/>
          <a:stretch/>
        </p:blipFill>
        <p:spPr>
          <a:xfrm>
            <a:off x="1066680" y="1295280"/>
            <a:ext cx="6923160" cy="51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ь координаты построенных точек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 B, C, D, F, 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mathematics-repetition.com/wp-content/uploads/2012/06/ploskost12.jpg"/>
          <p:cNvPicPr/>
          <p:nvPr/>
        </p:nvPicPr>
        <p:blipFill>
          <a:blip r:embed="rId2"/>
          <a:stretch/>
        </p:blipFill>
        <p:spPr>
          <a:xfrm>
            <a:off x="1219320" y="1371600"/>
            <a:ext cx="69339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095880" y="1066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57200" y="685800"/>
            <a:ext cx="32767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Созвезд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«Малой Медведицы»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19920" y="41911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029200" y="6858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Созвезд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Black"/>
              </a:rPr>
              <a:t>«Большой Медведиц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133720"/>
            <a:ext cx="1752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A(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6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B(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C(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8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D(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E(-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3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F(-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G(-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7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D(-3,5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20968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5;-7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0;-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6;-5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3;-6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1;-10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5;- 10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6;-6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-3;-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9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ревних греков существовала легенда о созвездиях Большой и Ма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иц. Всемогущий бог Зевс решил взять себе в жены прекрасную ним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сто, одну из  служанок богини Афродиты, вопреки желанию после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избавить Калисто от  преследований богини, Зевс обратил Калисто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медведицу, ее любимую  собаку – в Малую Медведицу и взял их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600200" y="228600"/>
          <a:ext cx="6172200" cy="462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28600"/>
                    <a:ext cx="61722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Цели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понятием «Координатная плоскость», с историей возникновения координат и координатной плос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строить и находить координаты т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абстрактное мышление; умения сравнивать, выявлять законом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ответственное отношение к учебе; интерес к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оординаты в наше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229600" cy="474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791320"/>
            <a:ext cx="86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равильно занять свое место в кинотеатре, нужно знать две координаты – ряд и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F7E-551E-44B2-AC21-503BDD7F6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0100"/>
          <p:cNvPicPr/>
          <p:nvPr/>
        </p:nvPicPr>
        <p:blipFill>
          <a:blip r:embed="rId2"/>
          <a:stretch/>
        </p:blipFill>
        <p:spPr>
          <a:xfrm>
            <a:off x="533520" y="457200"/>
            <a:ext cx="8076960" cy="504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52280" y="5791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координатной сетки летчики, моряки определяют местоположение объектов.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TN00687_"/>
          <p:cNvPicPr/>
          <p:nvPr/>
        </p:nvPicPr>
        <p:blipFill>
          <a:blip r:embed="rId3"/>
          <a:stretch/>
        </p:blipFill>
        <p:spPr>
          <a:xfrm>
            <a:off x="7391520" y="2666880"/>
            <a:ext cx="118728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-3.88889E-006 -4.16185E-006 L -0.59826 -0.11861 E">
                                      <p:cBhvr>
                                        <p:cTn id="6" dur="1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181480" cy="325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Картинка 7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28600"/>
            <a:ext cx="3817800" cy="2965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4648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та – паралл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та - мери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Нанесенные на глобусы и карты параллели и меридианы составляют градусную се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&amp;Tcy;&amp;iecy;&amp;mcy;&amp;acy;: &amp;Kcy;&amp;ocy;&amp;ocy;&amp;rcy;&amp;dcy;&amp;icy;&amp;ncy;&amp;acy;&amp;tcy;&amp;ncy;&amp;acy;&amp;yacy; &amp;pcy;&amp;lcy;&amp;ocy;&amp;scy;&amp;kcy;&amp;ocy;&amp;scy;&amp;tcy;&amp;softcy; - &amp;Dcy;&amp;ocy;&amp;kcy;&amp;ucy;&amp;mcy;&amp;iecy;&amp;ncy;&amp;tcy;"/>
          <p:cNvPicPr/>
          <p:nvPr/>
        </p:nvPicPr>
        <p:blipFill>
          <a:blip r:embed="rId2"/>
          <a:stretch/>
        </p:blipFill>
        <p:spPr>
          <a:xfrm>
            <a:off x="304920" y="228600"/>
            <a:ext cx="4343400" cy="326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86 из 1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657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434340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найти свое место в поезде сначала мы ищем свой вагон, затем номер свое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914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тикали – циф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изонтали – латински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 координат зародилась ещё в древности. Первоначальное их применение связано с астрономией и географией, с потребностью определить положение светил на небе и объектов на поверхност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о II в. древнегреческий астроном Клавдий Птоломей пользовался широтой и долготой в качеств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чем за 100 лет до нашей эры греческий ученый Гиппарх предложил провести на карте Земли параллели и мериди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7010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французский ученый Оресле по аналогии с географическими координатами создал координатную плоскость. Он поместил на плоскость прямоугольную сетку и назвал широтой и долготой то, что сейчас мы называем абсциссой и ордина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ко основная роль в создании метода координат принадлежит французскому ученому Рене Декарту (1596 –1650). Введенные на плоскости координаты х, у называют декарт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ы «абсцисса» и «ордината» (образованные от латинских слов «отсекаемый» и «упорядоченный») были введены в 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немецким математиком Вильгельмом Лейбни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914400"/>
            <a:ext cx="14954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зображен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4267080"/>
            <a:ext cx="144612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38880" y="3276720"/>
            <a:ext cx="1676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Готфрид Вильгель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фон Лейбни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4572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Рене Дек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6T10:49:5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