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8200" cy="34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EDE49-7A84-4A02-9976-8447C02E3F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7840" cy="34401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ED831-3121-42D5-B900-0DA6FA1D7B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CFBC6-FAB4-4249-B552-12490FC716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9640" cy="6681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Droid Sans Fallback"/>
              </a:rPr>
              <a:t>Обоснование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Droid Sans Fallback"/>
              </a:rPr>
              <a:t>Деятельность эксперементирования способствует формированию у детей позновательного интереса, развивает наблюдательность, мыслительную деятельность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Droid Sans Fallback"/>
              </a:rPr>
              <a:t>Цель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Droid Sans Fallback"/>
              </a:rPr>
              <a:t>Изучить развитие позновательного инетереса у детей старшего дошкольного возраста через экспериментальную деятельность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33A6A-C278-4AC8-8339-94C81B7A40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B4829-C00E-4F21-A8C0-C6BA69AA0D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37A9F-CABB-4D5B-B9A5-4456C836F6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183F2-ACC3-4B7C-A0B1-79C0B9ACE7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3251F-18C0-4C24-9A24-B364D65E2B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AB9-146A-40F2-8537-7E428C31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D5B0-55A3-4F97-B7DD-926A7B03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0AED-1DFC-4A28-A15B-A16C6C0A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CAA-D092-4A0F-9CFA-77078F93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FA97-3921-445F-A674-F61DA3F2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DA3E-D475-43E2-94A8-0DAF6172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9763-739C-4118-8BB1-94D326B2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8236-6066-447E-8231-6432BC61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B4F8-8403-4CE1-BF67-94DA6B43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76000" y="287280"/>
            <a:ext cx="532620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70A2-428C-418A-ADAA-46A91A06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DEEB-06ED-4A0A-9124-CDA1D75F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DC95-F8F7-481A-B431-E64BE438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F1C2-72FE-40B6-BE1B-A2A111B8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8CAB-522A-4393-8C72-3DD1B2DB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E880-FCCF-47E1-846B-E41FD2CC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8979-1F95-4416-AD6B-A9E6AF82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C9DF-2BBB-4EFF-A912-D5154B88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B3DD-8AC8-4B3A-B8C5-FDB5CE58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D55B-85BA-4B65-8A98-28FC82FD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6C30-DA86-40DC-8BFC-2D3CD0B1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76000" y="287280"/>
            <a:ext cx="532620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8F52-47BD-4D0D-B6FD-C941E349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DA92-DF54-46C1-AD18-13088C03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66B5-6C49-407F-9D6E-8C9416C0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5BE-0F6D-425D-8637-3FF2D451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C8181-71FE-4D48-AC54-0B431ACF54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7D690-9EC0-4D84-B2F1-71F5C8E317B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87640" y="108000"/>
            <a:ext cx="590544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ОСУДАРСТВЕННОЕ БЮДЖЕТНОЕ ОБЩЕОБРАЗОВАТЕЛЬНОЕ УЧРЕЖДЕНИЕ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ШКОЛА-ИНТЕРНАТ №357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СРЕДНЕГО (ПОЛНОГО) ОБЩЕГО ОБРАЗОВАНИЯ С УГЛУБЛЕННЫМ ИЗУЧЕНИЕМ ФИЗИЧЕСКОЙ КУЛЬТУРЫ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ОРСКОГО РАЙОНА САНКТ-ПЕТЕРБУРГА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«ОЛИМПИЙСКИЕ НАДЕЖДЫ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познавательного интереса у детей старшего дошкольного возраста через опытно-экспериментальную деятельность вне занятий</a:t>
            </a:r>
            <a:br>
              <a:rPr sz="1600"/>
            </a:b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4" descr=""/>
          <p:cNvPicPr/>
          <p:nvPr/>
        </p:nvPicPr>
        <p:blipFill>
          <a:blip r:embed="rId1"/>
          <a:srcRect l="12160" t="2708" r="12160" b="0"/>
          <a:stretch/>
        </p:blipFill>
        <p:spPr>
          <a:xfrm>
            <a:off x="3672000" y="3459240"/>
            <a:ext cx="3024000" cy="388152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6783480" y="6516720"/>
            <a:ext cx="29937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Выполнила :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Ондар Лариса Олбезек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Из_Мультфильмов_-_Добрый_Жук_(-)" descr=""/>
          <p:cNvPicPr/>
          <p:nvPr/>
        </p:nvPicPr>
        <p:blipFill>
          <a:blip r:embed="rId2"/>
          <a:stretch/>
        </p:blipFill>
        <p:spPr>
          <a:xfrm>
            <a:off x="4735440" y="3475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голке экспериментальной деятельности (мини-лаборатория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ен мес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15640" y="1670040"/>
            <a:ext cx="554508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4440" indent="-5144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остоянной выставки экспонаты, редкие предметы (ракушки, камни, кристаллы, перья и т.д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для прибор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для хранения материалов (природного и бросового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для неструктурированных материалов (песок, вода, опилки, пенопласт и други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4" descr=""/>
          <p:cNvPicPr/>
          <p:nvPr/>
        </p:nvPicPr>
        <p:blipFill>
          <a:blip r:embed="rId1"/>
          <a:srcRect l="0" t="9042" r="0" b="8089"/>
          <a:stretch/>
        </p:blipFill>
        <p:spPr>
          <a:xfrm>
            <a:off x="5775480" y="1547640"/>
            <a:ext cx="3886200" cy="5734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02920" y="1345680"/>
            <a:ext cx="90709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пособности детей экспериментировать представляет собой определённую систему, в которую включены демонстрационные опыты, осуществляемые педагогом в специальных организованных видах деятельности, наблюдение, лабораторные работы выполняемые детьми самостоятельно в пространственно-предметной среде групп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2519280" y="4522680"/>
            <a:ext cx="5042160" cy="2830680"/>
          </a:xfrm>
          <a:prstGeom prst="rect">
            <a:avLst/>
          </a:prstGeom>
          <a:ln w="0">
            <a:noFill/>
          </a:ln>
        </p:spPr>
      </p:pic>
      <p:pic>
        <p:nvPicPr>
          <p:cNvPr id="118" name="Из_Мультфильмов_-_Добрый_Жук_(-).mp3" descr=""/>
          <p:cNvPicPr/>
          <p:nvPr/>
        </p:nvPicPr>
        <p:blipFill>
          <a:blip r:embed="rId2"/>
          <a:stretch/>
        </p:blipFill>
        <p:spPr>
          <a:xfrm>
            <a:off x="4735440" y="3475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76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04720" y="2700360"/>
            <a:ext cx="9072720" cy="2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ходе экспериментальной деятельности создаются ситуации, которые ребенок разрешает посредством проведения опыта и анализируя, делает вывод, умозаключение, самостоятельно овладевая представлением о том или ином законе или явл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76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сн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4720" y="2123640"/>
            <a:ext cx="9072720" cy="31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ятельность экспериментирования способствует формированию у детей познавательного интереса, развивает наблюдательность, мыслительную деятель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76000" y="250920"/>
            <a:ext cx="53276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02920" y="3132000"/>
            <a:ext cx="907236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развитие познавательного интереса у детей старшего дошкольного возраста через экспериментальную деятельность вне НОД (занят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76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92000" y="1331640"/>
            <a:ext cx="907272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Исследовать психолого- педагогическую литературу по развитию познавательных процес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Выявить влияние детского экспериментирования на познавательную сферу реб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Разработать последовательность детского эксперимент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редложить оформление уголка для развития  экспериментальной деятель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87640" y="-108000"/>
            <a:ext cx="590400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ие развития познавательного интер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02920" y="2626920"/>
            <a:ext cx="9072360" cy="245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образовательном процессе дошколного учреждения учебное экспериментирование позволяет ребенку моделировать в своем сознании картину мира, основанную на собственных наблюдениях, опытах, установлении взаимозависимостей, закономерностей и т.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08000" y="250920"/>
            <a:ext cx="4608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альная 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-144360" y="1212840"/>
            <a:ext cx="10440720" cy="273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ет у ребенка инерес к исследованию природ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дети заддумываются о таких физических явлениях, как замерзание воды зимо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остранение звука в воздухе и в в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1527120" y="3419640"/>
            <a:ext cx="7051680" cy="3960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а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0000" y="1835280"/>
            <a:ext cx="65516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1000"/>
          </a:bodyPr>
          <a:p>
            <a:pPr marL="312120" indent="-31212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ешь, что происходит с водой, когда она замерзает? Наполни водой пластиковую бутылку и поставь её в морозильник не закрывая крышкой. Лёд начинает вылезать из горлышка бутылки. При замерзании вода расширяе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Рисунок 4" descr=""/>
          <p:cNvPicPr/>
          <p:nvPr/>
        </p:nvPicPr>
        <p:blipFill>
          <a:blip r:embed="rId1"/>
          <a:stretch/>
        </p:blipFill>
        <p:spPr>
          <a:xfrm>
            <a:off x="7056360" y="1941480"/>
            <a:ext cx="2448000" cy="4359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0560" y="179280"/>
            <a:ext cx="5975640" cy="11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уголк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еримент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5640" y="1763640"/>
            <a:ext cx="935820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уголка: развитие первичных естественнонаучных представлений, наблюдательности, любознательности, активности, мыслительных операций (анализ,сравнение,обобщение,классификация, наблюдение) ; формирование умений комплексно обследовать предм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1619280" y="3465360"/>
            <a:ext cx="6842160" cy="3843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3T08:12:45Z</dcterms:created>
  <dc:creator>User</dc:creator>
  <dc:description/>
  <dc:language>en-US</dc:language>
  <cp:lastModifiedBy>123</cp:lastModifiedBy>
  <dcterms:modified xsi:type="dcterms:W3CDTF">2015-04-26T17:07:10Z</dcterms:modified>
  <cp:revision>15</cp:revision>
  <dc:subject/>
  <dc:title>Развитие познавательного интереса у детей старшего дошкольного возраста через опытно-экспериментальную деятельность вне занятий</dc:title>
</cp:coreProperties>
</file>