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820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65B14-0777-4833-96B4-47B8AC9E45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8FD8A-329D-4F7C-B7EB-6EAC19A7F0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BFEA6-BDE1-4B4F-8672-1D1AB95529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9640" cy="6681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Обосновани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Деятельность эксперементирования способствует формированию у детей позновательного интереса, развивает наблюдательность, мыслительную деятельность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Цель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Изучить развитие позновательного инетереса у детей старшего дошкольного возраста через экспериментальную деятельность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9E905-B8DD-4361-A7F3-DE9B0E7A97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B69D9-1A7C-4084-8095-00F41BECE4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29F3F-D38E-4FC0-900A-72FCC2ED2D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EB98C-4B36-4E7A-937C-28AA82B16E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695AE-448B-42B0-A91F-5D68ECDE0B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3B1-2D2B-43CA-B48A-5E6924B4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98A-1806-4B77-90CA-6B4EA79E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4F69-FF38-419D-A4D5-746E8BA4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E3F-6AEA-4DA0-A4EC-BFF9133B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22DB-EF6D-457D-A6CA-1B439A22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1C44-DB27-4878-A164-C038EE69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542E-E427-4B1B-B5C3-59DD2EB6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652E-5477-4BD0-96B3-E212262E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7298-4A54-4C89-86BD-AC0BE847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76000" y="287280"/>
            <a:ext cx="53262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80F2-D59B-45A9-BC49-02975C6C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C4B3-DD05-43BC-BB83-27FCFF2E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F82-8D4F-4F85-9D30-6C813E28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F529-563F-4F77-B8B2-48BFDAEA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9D64-3844-42CF-B853-1FC204D3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71C7-45F3-49A2-B6C5-67BE3C10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C622-F06A-485D-A10C-E551F875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21F3-6B56-4DA7-A3CD-5ABF5336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427-2D9C-4D1D-B757-AAC94AC6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474-5D0D-47A5-A8BF-BA3D2837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FAD-1C45-4A77-8C10-1571B8AA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76000" y="287280"/>
            <a:ext cx="53262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1C7-01EC-421C-A814-75832337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2A1-657B-4891-8331-BF8D13DC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2BE-CABE-46B3-9B11-7C1B9961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D08-5187-488A-9BA6-8B949DA3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DD2D0-B080-4E2B-B963-48F8BE7014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870C8-73E7-45FF-A8A1-A7AC5E54B8B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87640" y="108000"/>
            <a:ext cx="590544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СУДАРСТВЕННОЕ БЮДЖЕТНОЕ ОБЩЕОБРАЗОВАТЕЛЬНОЕ УЧРЕЖДЕНИЕ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ШКОЛА-ИНТЕРНАТ №357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СРЕДНЕГО (ПОЛНОГО) ОБЩЕГО ОБРАЗОВАНИЯ С УГЛУБЛЕННЫМ ИЗУЧЕНИЕМ ФИЗИЧЕСКОЙ КУЛЬТУРЫ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ОРСКОГО РАЙОНА САНКТ-ПЕТЕРБУРГА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«ОЛИМПИЙСКИЕ НАДЕЖДЫ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познавательного интереса у детей старшего дошкольного возраста через опытно-экспериментальную деятельность вне занятий</a:t>
            </a:r>
            <a:br>
              <a:rPr sz="16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"/>
          <p:cNvPicPr/>
          <p:nvPr/>
        </p:nvPicPr>
        <p:blipFill>
          <a:blip r:embed="rId1"/>
          <a:srcRect l="12160" t="2708" r="12160" b="0"/>
          <a:stretch/>
        </p:blipFill>
        <p:spPr>
          <a:xfrm>
            <a:off x="3672000" y="3459240"/>
            <a:ext cx="3024000" cy="38815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783480" y="6516720"/>
            <a:ext cx="29937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Выполнила :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Ондар Лариса Олбезек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Из_Мультфильмов_-_Добрый_Жук_(-)" descr=""/>
          <p:cNvPicPr/>
          <p:nvPr/>
        </p:nvPicPr>
        <p:blipFill>
          <a:blip r:embed="rId2"/>
          <a:stretch/>
        </p:blipFill>
        <p:spPr>
          <a:xfrm>
            <a:off x="4735440" y="3475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голке экспериментальной деятельности (мини-лаборатория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ен мес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15640" y="1670040"/>
            <a:ext cx="554508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остоянной выставки экспонаты, редкие предметы (ракушки, камни, кристаллы, перья и т.д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для прибор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для хранения материалов (природного и бросовог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для неструктурированных материалов (песок, вода, опилки, пенопласт и други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4" descr=""/>
          <p:cNvPicPr/>
          <p:nvPr/>
        </p:nvPicPr>
        <p:blipFill>
          <a:blip r:embed="rId1"/>
          <a:srcRect l="0" t="9042" r="0" b="8089"/>
          <a:stretch/>
        </p:blipFill>
        <p:spPr>
          <a:xfrm>
            <a:off x="5775480" y="1547640"/>
            <a:ext cx="3886200" cy="5734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02920" y="1345680"/>
            <a:ext cx="90709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пособности детей экспериментировать представляет собой определённую систему, в которую включены демонстрационные опыты, осуществляемые педагогом в специальных организованных видах деятельности, наблюдение, лабораторные работы выполняемые детьми самостоятельно в пространственно-предметной среде груп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2519280" y="4522680"/>
            <a:ext cx="5042160" cy="2830680"/>
          </a:xfrm>
          <a:prstGeom prst="rect">
            <a:avLst/>
          </a:prstGeom>
          <a:ln w="0">
            <a:noFill/>
          </a:ln>
        </p:spPr>
      </p:pic>
      <p:pic>
        <p:nvPicPr>
          <p:cNvPr id="118" name="Из_Мультфильмов_-_Добрый_Жук_(-).mp3" descr=""/>
          <p:cNvPicPr/>
          <p:nvPr/>
        </p:nvPicPr>
        <p:blipFill>
          <a:blip r:embed="rId2"/>
          <a:stretch/>
        </p:blipFill>
        <p:spPr>
          <a:xfrm>
            <a:off x="4735440" y="3475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4720" y="2700360"/>
            <a:ext cx="9072720" cy="2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ходе экспериментальной деятельности создаются ситуации, которые ребенок разрешает посредством проведения опыта и анализируя, делает вывод, умозаключение, самостоятельно овладевая представлением о том или ином законе или явл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сн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4720" y="2123640"/>
            <a:ext cx="9072720" cy="31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ятельность экспериментирования способствует формированию у детей познавательного интереса, развивает наблюдательность, мыслительную деятель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76000" y="25092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02920" y="3132000"/>
            <a:ext cx="907236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развитие познавательного интереса у детей старшего дошкольного возраста через экспериментальную деятельность вне НОД (занят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92000" y="1331640"/>
            <a:ext cx="90727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Исследовать психолого- педагогическую литературу по развитию познавательных процес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Выявить влияние детского экспериментирования на познавательную сферу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Разработать последовательность детского эксперимент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редложить оформление уголка для развития  экспериментальной деятель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87640" y="-108000"/>
            <a:ext cx="590400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е развития познавательного инте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2920" y="2626920"/>
            <a:ext cx="9072360" cy="245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образовательном процессе дошколного учреждения учебное экспериментирование позволяет ребенку моделировать в своем сознании картину мира, основанную на собственных наблюдениях, опытах, установлении взаимозависимостей, закономерностей и т.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08000" y="250920"/>
            <a:ext cx="4608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альная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-144360" y="1212840"/>
            <a:ext cx="1044072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 у ребенка инерес к исследованию природ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дети заддумываются о таких физических явлениях, как замерзание воды зимо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ие звука в воздухе и в в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1527120" y="3419640"/>
            <a:ext cx="7051680" cy="3960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000" y="1835280"/>
            <a:ext cx="65516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12120" indent="-31212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ешь, что происходит с водой, когда она замерзает? Наполни водой пластиковую бутылку и поставь её в морозильник не закрывая крышкой. Лёд начинает вылезать из горлышка бутылки. При замерзании вода расширяе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Рисунок 4" descr=""/>
          <p:cNvPicPr/>
          <p:nvPr/>
        </p:nvPicPr>
        <p:blipFill>
          <a:blip r:embed="rId1"/>
          <a:stretch/>
        </p:blipFill>
        <p:spPr>
          <a:xfrm>
            <a:off x="7056360" y="1941480"/>
            <a:ext cx="2448000" cy="4359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0560" y="179280"/>
            <a:ext cx="597564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угол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имент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5640" y="1763640"/>
            <a:ext cx="935820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уголка: развитие первичных естественнонаучных представлений, наблюдательности, любознательности, активности, мыслительных операций (анализ,сравнение,обобщение,классификация, наблюдение) ; формирование умений комплексно обследовать предм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1619280" y="3465360"/>
            <a:ext cx="6842160" cy="3843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08:12:45Z</dcterms:created>
  <dc:creator>User</dc:creator>
  <dc:description/>
  <dc:language>en-US</dc:language>
  <cp:lastModifiedBy>123</cp:lastModifiedBy>
  <dcterms:modified xsi:type="dcterms:W3CDTF">2015-04-26T17:07:10Z</dcterms:modified>
  <cp:revision>15</cp:revision>
  <dc:subject/>
  <dc:title>Развитие познавательного интереса у детей старшего дошкольного возраста через опытно-экспериментальную деятельность вне занятий</dc:title>
</cp:coreProperties>
</file>