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8200" cy="34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8C57C-9CF4-4751-AF12-2632BDCDCB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7840" cy="34401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4E3DE-41A1-42E6-AD9A-E2EDD3003B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EF977-C175-451D-8F0B-5D0C2F7ED5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9640" cy="6681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Обоснование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Деятельность эксперементирования способствует формированию у детей позновательного интереса, развивает наблюдательность, мыслительную деятельность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Цель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Изучить развитие позновательного инетереса у детей старшего дошкольного возраста через экспериментальную деятельность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DB960-9198-4AB2-B24F-EB941F38DE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C141C-06F4-4A15-A007-C57CDCD99D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B804C-5EB1-4582-942C-84353550F1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F7592-2601-4F6F-8EBF-DF74B7CF27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B7E5C-4D32-4EE6-8D7F-A1020A7390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6FA-9EB5-45DC-94B0-AB78F7BB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F671-3854-482A-A13C-CD6A3913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01C-93B2-4677-913E-58B70D29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3C0-AA6D-43DF-8858-5EF0CA04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599E-F2F1-4E70-B54C-F5338E6E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E94D-FDF1-4E0D-8782-52A38672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F994-F1E5-417B-A4A8-327E5963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735C-4671-421C-BBE9-86603F39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02B9-EE12-4AB0-9959-BFC84FDA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76000" y="287280"/>
            <a:ext cx="532620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9B50-F20E-48FA-B27E-244BCA18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6C41-CB00-4918-8BA8-90CAB307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2D5E-6437-4DE3-A57D-630C3DF7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FE9A-86EF-41E4-8AE9-5C04261B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6461-FB39-4F53-A7A3-2F31DF76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0EA4-A8DA-4BDF-A86F-6AB86E37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6D66-3B89-4C9E-AB04-213D9547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82412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4877280"/>
            <a:ext cx="292068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C538-F178-448E-AC6C-ADD587A9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176F-8194-4513-A1AA-474F64D2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306-B735-4F46-B635-0B0F1021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B607-7C62-42D7-B165-CA84DC62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76000" y="287280"/>
            <a:ext cx="532620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737-6679-4BFF-AD7D-7174E269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AFE6-B804-4D2C-9B7D-5F4319AE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87728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F2FA-AAA0-4E99-B222-EA7AE837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24120"/>
            <a:ext cx="442656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877280"/>
            <a:ext cx="9070920" cy="278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66BA-5157-4AE1-A6BF-88EAB82D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C5473-3A7E-4E0F-9935-715E328692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24120"/>
            <a:ext cx="9070920" cy="584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4ABDE-D88E-4F90-809A-70BFC272CB8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87640" y="108000"/>
            <a:ext cx="590544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ОСУДАРСТВЕННОЕ БЮДЖЕТНОЕ ОБЩЕОБРАЗОВАТЕЛЬНОЕ УЧРЕЖДЕНИЕ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ШКОЛА-ИНТЕРНАТ №357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СРЕДНЕГО (ПОЛНОГО) ОБЩЕГО ОБРАЗОВАНИЯ С УГЛУБЛЕННЫМ ИЗУЧЕНИЕМ ФИЗИЧЕСКОЙ КУЛЬТУРЫ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ОРСКОГО РАЙОНА САНКТ-ПЕТЕРБУРГА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«ОЛИМПИЙСКИЕ НАДЕЖДЫ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познавательного интереса у детей старшего дошкольного возраста через опытно-экспериментальную деятельность вне занятий</a:t>
            </a:r>
            <a:br>
              <a:rPr sz="16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" descr=""/>
          <p:cNvPicPr/>
          <p:nvPr/>
        </p:nvPicPr>
        <p:blipFill>
          <a:blip r:embed="rId1"/>
          <a:srcRect l="12160" t="2708" r="12160" b="0"/>
          <a:stretch/>
        </p:blipFill>
        <p:spPr>
          <a:xfrm>
            <a:off x="3672000" y="3459240"/>
            <a:ext cx="3024000" cy="388152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6783480" y="6516720"/>
            <a:ext cx="29937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Выполнила :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Ондар Лариса Олбезек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Из_Мультфильмов_-_Добрый_Жук_(-)" descr=""/>
          <p:cNvPicPr/>
          <p:nvPr/>
        </p:nvPicPr>
        <p:blipFill>
          <a:blip r:embed="rId2"/>
          <a:stretch/>
        </p:blipFill>
        <p:spPr>
          <a:xfrm>
            <a:off x="4735440" y="3475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голке экспериментальной деятельности (мини-лаборатория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ен мес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15640" y="1670040"/>
            <a:ext cx="554508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остоянной выставки экспонаты, редкие предметы (ракушки, камни, кристаллы, перья и т.д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для прибор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для хранения материалов (природного и бросового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для неструктурированных материалов (песок, вода, опилки, пенопласт и други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4" descr=""/>
          <p:cNvPicPr/>
          <p:nvPr/>
        </p:nvPicPr>
        <p:blipFill>
          <a:blip r:embed="rId1"/>
          <a:srcRect l="0" t="9042" r="0" b="8089"/>
          <a:stretch/>
        </p:blipFill>
        <p:spPr>
          <a:xfrm>
            <a:off x="5775480" y="1547640"/>
            <a:ext cx="3886200" cy="5734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02920" y="1345680"/>
            <a:ext cx="90709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пособности детей экспериментировать представляет собой определённую систему, в которую включены демонстрационные опыты, осуществляемые педагогом в специальных организованных видах деятельности, наблюдение, лабораторные работы выполняемые детьми самостоятельно в пространственно-предметной среде групп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2519280" y="4522680"/>
            <a:ext cx="5042160" cy="2830680"/>
          </a:xfrm>
          <a:prstGeom prst="rect">
            <a:avLst/>
          </a:prstGeom>
          <a:ln w="0">
            <a:noFill/>
          </a:ln>
        </p:spPr>
      </p:pic>
      <p:pic>
        <p:nvPicPr>
          <p:cNvPr id="118" name="Из_Мультфильмов_-_Добрый_Жук_(-).mp3" descr=""/>
          <p:cNvPicPr/>
          <p:nvPr/>
        </p:nvPicPr>
        <p:blipFill>
          <a:blip r:embed="rId2"/>
          <a:stretch/>
        </p:blipFill>
        <p:spPr>
          <a:xfrm>
            <a:off x="4735440" y="3475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76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04720" y="2700360"/>
            <a:ext cx="9072720" cy="2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ходе экспериментальной деятельности создаются ситуации, которые ребенок разрешает посредством проведения опыта и анализируя, делает вывод, умозаключение, самостоятельно овладевая представлением о том или ином законе или явл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76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сн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4720" y="2123640"/>
            <a:ext cx="9072720" cy="31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ятельность экспериментирования способствует формированию у детей познавательного интереса, развивает наблюдательность, мыслительную деятель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76000" y="250920"/>
            <a:ext cx="53276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02920" y="3132000"/>
            <a:ext cx="907236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развитие познавательного интереса у детей старшего дошкольного возраста через экспериментальную деятельность вне НОД (занят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76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92000" y="1331640"/>
            <a:ext cx="90727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Исследовать психолого- педагогическую литературу по развитию познавательных процес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Выявить влияние детского экспериментирования на познавательную сферу реб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Разработать последовательность детского эксперимент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редложить оформление уголка для развития  экспериментальной деятель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87640" y="-108000"/>
            <a:ext cx="590400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е развития познавательного интер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02920" y="2626920"/>
            <a:ext cx="9072360" cy="245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образовательном процессе дошколного учреждения учебное экспериментирование позволяет ребенку моделировать в своем сознании картину мира, основанную на собственных наблюдениях, опытах, установлении взаимозависимостей, закономерностей и т.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08000" y="250920"/>
            <a:ext cx="4608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альная 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-144360" y="1212840"/>
            <a:ext cx="1044072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ет у ребенка инерес к исследованию природ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дети заддумываются о таких физических явлениях, как замерзание воды зимо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остранение звука в воздухе и в в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1527120" y="3419640"/>
            <a:ext cx="7051680" cy="3960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76000" y="287280"/>
            <a:ext cx="53262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а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0000" y="1835280"/>
            <a:ext cx="65516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1000"/>
          </a:bodyPr>
          <a:p>
            <a:pPr marL="312120" indent="-31212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ешь, что происходит с водой, когда она замерзает? Наполни водой пластиковую бутылку и поставь её в морозильник не закрывая крышкой. Лёд начинает вылезать из горлышка бутылки. При замерзании вода расширяе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Рисунок 4" descr=""/>
          <p:cNvPicPr/>
          <p:nvPr/>
        </p:nvPicPr>
        <p:blipFill>
          <a:blip r:embed="rId1"/>
          <a:stretch/>
        </p:blipFill>
        <p:spPr>
          <a:xfrm>
            <a:off x="7056360" y="1941480"/>
            <a:ext cx="2448000" cy="4359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0560" y="179280"/>
            <a:ext cx="5975640" cy="11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уголк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еримент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5640" y="1763640"/>
            <a:ext cx="935820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уголка: развитие первичных естественнонаучных представлений, наблюдательности, любознательности, активности, мыслительных операций (анализ,сравнение,обобщение,классификация, наблюдение) ; формирование умений комплексно обследовать предм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1619280" y="3465360"/>
            <a:ext cx="6842160" cy="3843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3T08:12:45Z</dcterms:created>
  <dc:creator>User</dc:creator>
  <dc:description/>
  <dc:language>en-US</dc:language>
  <cp:lastModifiedBy>123</cp:lastModifiedBy>
  <dcterms:modified xsi:type="dcterms:W3CDTF">2015-04-26T17:07:10Z</dcterms:modified>
  <cp:revision>15</cp:revision>
  <dc:subject/>
  <dc:title>Развитие познавательного интереса у детей старшего дошкольного возраста через опытно-экспериментальную деятельность вне занятий</dc:title>
</cp:coreProperties>
</file>