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0" y="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9FB-C9B0-4EBD-ADB7-A3F9396B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069-FE06-4E8B-8A54-9D5503C5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AA5-5853-4280-82E3-59B68A01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463-13D4-4746-8369-0F9E024C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447D-288D-4571-924F-F7EE807D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6404-86F9-42EA-9CA7-04C9047B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40C4-B9A5-4455-BACA-EEA8EA0C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AE13-40F0-4133-A6F3-2EAEF33D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1965-4F9B-4FBE-83E5-641B25FC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5B7C-9FE2-4A75-B3C9-8F409139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0A41-A216-4A1E-AFA5-FA24A142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D6D-AC66-4FC6-942A-C7ADD2A5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74C0-0515-4F66-AC12-8D8AAD23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1758-CCA4-4030-993F-21A8A95B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B2CE-2629-4252-B618-949DB74D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2D7C-A3CC-4ED2-9C02-0D31BD48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F871-3094-4A44-ACDF-D963F5DC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EF5-61FD-409E-9AE6-63C63EFD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721-C2A5-4F88-96D4-726EB782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F93-5732-4AA0-BE17-0FC2720C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DA0-9595-40D5-B219-8C12E714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426-5E57-47F5-8242-E2F1EEAF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2F6-EBEB-498C-BC4B-E9FC51E9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CFC-9A71-4EFB-B020-0AEBC764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bd3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600" y="624312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855807-16B3-42A8-B7CC-AB1148C16B51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bd3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6736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7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3BDA98-17F9-48BA-97BF-B0EFE05DDDFA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50028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чевая готовность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к обучению в школе — залог успешного развития</a:t>
            </a:r>
            <a:r>
              <a:rPr b="1" i="1" lang="ru-RU" sz="40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5634000"/>
            <a:ext cx="856944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288288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2160" y="260280"/>
            <a:ext cx="779148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ение различать звук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82600" y="2062080"/>
            <a:ext cx="77709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кое различение на слух всех звуков речи является одной из необходимых предпосылок овладения грамото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ись любого слова предполагает умение определить каждый входящий в его состав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обозначить его соответствующей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квой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65240"/>
            <a:ext cx="779004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Умение различать зву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82240" y="2062080"/>
            <a:ext cx="776916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должны знать и правильно употреблять термины «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г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, «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о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, «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ложение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вуки гласный, согласный, звонкий, глухой, твердый, мягк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14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Словарный запас ребен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0000" y="2339640"/>
            <a:ext cx="795024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3000 до 7000 слов. (нижний предел 2000, высший предел — до 10 000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8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82560" indent="-68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ем должны быть представлены основные части речи: существительные, глаголы, прилагательные, числительные, местоимения, наречия, предлоги, сочинительные и подчинительные союз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166320"/>
            <a:ext cx="77914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Грамматика родного язы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2062080"/>
            <a:ext cx="77709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мматической системой словоизме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ок с нормально развивающейся речью обычно овладевает к четырем годам,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ой словообразования - к се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360360" y="5516640"/>
            <a:ext cx="99216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68204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Владение связной речью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82600" y="2062080"/>
            <a:ext cx="77709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язная речь — это развернутые высказывания, которые позволяют четко и последовательно выражать ребенку свои мысли и чувст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свободного владения связной речью процесс школьного обучения немысли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09160"/>
            <a:ext cx="779148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исграфия – это что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82600" y="2062080"/>
            <a:ext cx="77709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ичие у первоклассников даже слабых отклонений в фонематическом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ксико-грамматическом развит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ет к серьезным проблемам в усвоении программ общеобразовательной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7020000" y="360360"/>
            <a:ext cx="196848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2"/>
          <p:cNvGrpSpPr/>
          <p:nvPr/>
        </p:nvGrpSpPr>
        <p:grpSpPr>
          <a:xfrm>
            <a:off x="468360" y="1989000"/>
            <a:ext cx="8415360" cy="4451400"/>
            <a:chOff x="468360" y="1989000"/>
            <a:chExt cx="8415360" cy="4451400"/>
          </a:xfrm>
        </p:grpSpPr>
        <p:sp>
          <p:nvSpPr>
            <p:cNvPr id="143" name="AutoShape 3"/>
            <p:cNvSpPr/>
            <p:nvPr/>
          </p:nvSpPr>
          <p:spPr>
            <a:xfrm>
              <a:off x="468360" y="1989000"/>
              <a:ext cx="8415360" cy="444960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4" name="AutoShape 4"/>
            <p:cNvCxnSpPr>
              <a:stCxn id="145" idx="0"/>
              <a:endCxn id="146" idx="2"/>
            </p:cNvCxnSpPr>
            <p:nvPr/>
          </p:nvCxnSpPr>
          <p:spPr>
            <a:xfrm rot="10800000">
              <a:off x="4673880" y="3768840"/>
              <a:ext cx="2946240" cy="89100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AutoShape 5"/>
            <p:cNvCxnSpPr>
              <a:stCxn id="148" idx="0"/>
              <a:endCxn id="146" idx="2"/>
            </p:cNvCxnSpPr>
            <p:nvPr/>
          </p:nvCxnSpPr>
          <p:spPr>
            <a:xfrm flipV="1">
              <a:off x="4674240" y="3768840"/>
              <a:ext cx="1800" cy="89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AutoShape 6"/>
            <p:cNvCxnSpPr>
              <a:stCxn id="150" idx="0"/>
              <a:endCxn id="146" idx="2"/>
            </p:cNvCxnSpPr>
            <p:nvPr/>
          </p:nvCxnSpPr>
          <p:spPr>
            <a:xfrm flipV="1">
              <a:off x="1730160" y="3768840"/>
              <a:ext cx="2944800" cy="89100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AutoShape 7"/>
            <p:cNvSpPr/>
            <p:nvPr/>
          </p:nvSpPr>
          <p:spPr>
            <a:xfrm>
              <a:off x="3412440" y="1989000"/>
              <a:ext cx="2523240" cy="178056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ahoma"/>
                </a:rPr>
                <a:t>Занят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ahoma"/>
                </a:rPr>
                <a:t> </a:t>
              </a:r>
              <a:r>
                <a:rPr b="1" lang="ru-RU" sz="2800" spc="-1" strike="noStrike">
                  <a:solidFill>
                    <a:srgbClr val="002060"/>
                  </a:solidFill>
                  <a:latin typeface="Tahoma"/>
                </a:rPr>
                <a:t>по речевому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ahoma"/>
                </a:rPr>
                <a:t>развитию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>
              <a:off x="468360" y="4659840"/>
              <a:ext cx="2523240" cy="178056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Tahoma"/>
                </a:rPr>
                <a:t>Развитие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Tahoma"/>
                </a:rPr>
                <a:t>связной речи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9"/>
            <p:cNvSpPr/>
            <p:nvPr/>
          </p:nvSpPr>
          <p:spPr>
            <a:xfrm>
              <a:off x="3412440" y="4659840"/>
              <a:ext cx="2523240" cy="178056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2060"/>
                  </a:solidFill>
                  <a:latin typeface="Tahoma"/>
                </a:rPr>
                <a:t>Чтение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2060"/>
                  </a:solidFill>
                  <a:latin typeface="Tahoma"/>
                </a:rPr>
                <a:t>художественной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2060"/>
                  </a:solidFill>
                  <a:latin typeface="Tahoma"/>
                </a:rPr>
                <a:t>литератур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10"/>
            <p:cNvSpPr/>
            <p:nvPr/>
          </p:nvSpPr>
          <p:spPr>
            <a:xfrm>
              <a:off x="6358320" y="4659840"/>
              <a:ext cx="2523600" cy="178056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2060"/>
                  </a:solidFill>
                  <a:latin typeface="Tahoma"/>
                </a:rPr>
                <a:t>Обучен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ahoma"/>
                </a:rPr>
                <a:t>Грамот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ahoma"/>
                </a:rPr>
                <a:t>(чтение 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ahoma"/>
                </a:rPr>
                <a:t>письмо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Text Box 11"/>
          <p:cNvSpPr/>
          <p:nvPr/>
        </p:nvSpPr>
        <p:spPr>
          <a:xfrm>
            <a:off x="1150920" y="166680"/>
            <a:ext cx="7791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Какие занятия развивают речь ребен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2"/>
          <p:cNvGrpSpPr/>
          <p:nvPr/>
        </p:nvGrpSpPr>
        <p:grpSpPr>
          <a:xfrm>
            <a:off x="468360" y="1989000"/>
            <a:ext cx="8416800" cy="4453200"/>
            <a:chOff x="468360" y="1989000"/>
            <a:chExt cx="8416800" cy="4453200"/>
          </a:xfrm>
        </p:grpSpPr>
        <p:sp>
          <p:nvSpPr>
            <p:cNvPr id="154" name="AutoShape 3"/>
            <p:cNvSpPr/>
            <p:nvPr/>
          </p:nvSpPr>
          <p:spPr>
            <a:xfrm>
              <a:off x="468360" y="1989000"/>
              <a:ext cx="8416800" cy="445140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5" name="AutoShape 4"/>
            <p:cNvCxnSpPr>
              <a:stCxn id="156" idx="0"/>
              <a:endCxn id="157" idx="2"/>
            </p:cNvCxnSpPr>
            <p:nvPr/>
          </p:nvCxnSpPr>
          <p:spPr>
            <a:xfrm rot="10800000">
              <a:off x="4674600" y="3769560"/>
              <a:ext cx="2946960" cy="89136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AutoShape 5"/>
            <p:cNvCxnSpPr>
              <a:stCxn id="159" idx="0"/>
              <a:endCxn id="157" idx="2"/>
            </p:cNvCxnSpPr>
            <p:nvPr/>
          </p:nvCxnSpPr>
          <p:spPr>
            <a:xfrm flipV="1" rot="16200000">
              <a:off x="4273920" y="4170240"/>
              <a:ext cx="811800" cy="7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AutoShape 6"/>
            <p:cNvCxnSpPr>
              <a:stCxn id="161" idx="0"/>
              <a:endCxn id="157" idx="2"/>
            </p:cNvCxnSpPr>
            <p:nvPr/>
          </p:nvCxnSpPr>
          <p:spPr>
            <a:xfrm flipV="1">
              <a:off x="1730520" y="3769920"/>
              <a:ext cx="2945160" cy="891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AutoShape 7"/>
            <p:cNvSpPr/>
            <p:nvPr/>
          </p:nvSpPr>
          <p:spPr>
            <a:xfrm>
              <a:off x="3413160" y="1989000"/>
              <a:ext cx="2523960" cy="17812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2060"/>
                  </a:solidFill>
                  <a:latin typeface="Tahoma"/>
                </a:rPr>
                <a:t>Логопедические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002060"/>
                  </a:solidFill>
                  <a:latin typeface="Tahoma"/>
                </a:rPr>
                <a:t>занятия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AutoShape 8"/>
            <p:cNvSpPr/>
            <p:nvPr/>
          </p:nvSpPr>
          <p:spPr>
            <a:xfrm>
              <a:off x="468360" y="4660920"/>
              <a:ext cx="2523960" cy="17812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ahoma"/>
                </a:rPr>
                <a:t>Индивидуаль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ahoma"/>
                </a:rPr>
                <a:t>занятия по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ahoma"/>
                </a:rPr>
                <a:t>звукопроизношению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3419640" y="4581360"/>
              <a:ext cx="2523960" cy="17812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Подгрупп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занятия п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развитию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 </a:t>
              </a: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словаря 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грамма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AutoShape 10"/>
            <p:cNvSpPr/>
            <p:nvPr/>
          </p:nvSpPr>
          <p:spPr>
            <a:xfrm>
              <a:off x="6359400" y="4660920"/>
              <a:ext cx="2524320" cy="17812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Фронталь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Занят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по обучению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ahoma"/>
                </a:rPr>
                <a:t>грамо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Text Box 11"/>
          <p:cNvSpPr/>
          <p:nvPr/>
        </p:nvSpPr>
        <p:spPr>
          <a:xfrm>
            <a:off x="1150920" y="166680"/>
            <a:ext cx="7791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Коррекционные заня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9280" y="210960"/>
            <a:ext cx="78613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Индивидуальные занятия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по звукопроизношению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2240" y="2062080"/>
            <a:ext cx="776916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Рисунок 4" descr="P1020192.JPG"/>
          <p:cNvPicPr/>
          <p:nvPr/>
        </p:nvPicPr>
        <p:blipFill>
          <a:blip r:embed="rId1"/>
          <a:stretch/>
        </p:blipFill>
        <p:spPr>
          <a:xfrm>
            <a:off x="2143080" y="2071800"/>
            <a:ext cx="535788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Групповые занят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82240" y="2062080"/>
            <a:ext cx="776916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Рисунок 4" descr="P1020184.JPG"/>
          <p:cNvPicPr/>
          <p:nvPr/>
        </p:nvPicPr>
        <p:blipFill>
          <a:blip r:embed="rId1"/>
          <a:stretch/>
        </p:blipFill>
        <p:spPr>
          <a:xfrm>
            <a:off x="1857240" y="2071800"/>
            <a:ext cx="6215040" cy="42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15560"/>
            <a:ext cx="779148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ра! Скоро в школу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1260000"/>
            <a:ext cx="777096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же пора  или ??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79280" y="3132000"/>
            <a:ext cx="25196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0960"/>
            <a:ext cx="779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Фонетическая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ритмика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82240" y="2062080"/>
            <a:ext cx="776916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Рисунок 4" descr="P1020189.JPG"/>
          <p:cNvPicPr/>
          <p:nvPr/>
        </p:nvPicPr>
        <p:blipFill>
          <a:blip r:embed="rId1"/>
          <a:stretch/>
        </p:blipFill>
        <p:spPr>
          <a:xfrm>
            <a:off x="1500120" y="1857240"/>
            <a:ext cx="671508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09160"/>
            <a:ext cx="779148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Давайте вместе поможем вашему ребенку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182600" y="1260360"/>
            <a:ext cx="777096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аимодействие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колы 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семьи – необходимое условие полноценного речевого развития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ка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ощь родителей принесёт  неоценимую пользу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речевого развития школьника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09160"/>
            <a:ext cx="779148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А мама ближе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82600" y="2062080"/>
            <a:ext cx="77709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ьная речь </a:t>
            </a:r>
            <a:r>
              <a:rPr b="1" i="1" lang="en-US" sz="3600" spc="-1" strike="noStrike">
                <a:solidFill>
                  <a:srgbClr val="4700b8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заслуга не только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а 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логопеда, а, прежде всего, Вас — родителей, тех, кому подражают Ваш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кого Вы — пример, пример не только в данный момент, а на всю жизнь</a:t>
            </a:r>
            <a:r>
              <a:rPr b="1" i="1" lang="en-US" sz="3600" spc="-1" strike="noStrike">
                <a:solidFill>
                  <a:srgbClr val="4700b8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60000" y="4680000"/>
            <a:ext cx="845964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!!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61672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64880"/>
            <a:ext cx="779148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дость или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9640" y="1079280"/>
            <a:ext cx="6120000" cy="50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товность или неготовность ребенка к началу школьного обучения определяется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нем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его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чевого развития</a:t>
            </a: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700680" y="4361040"/>
            <a:ext cx="2298960" cy="22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8613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Человеческая речь: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519280"/>
            <a:ext cx="777096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8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82560" indent="-68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ьменная (чтение и письмо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64880"/>
            <a:ext cx="779148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звестно, чт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16000" y="2060640"/>
            <a:ext cx="77709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 лучше развита у ребенка ко времени поступления в школу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ная речь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 легче ему овладеть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м и письмо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09160"/>
            <a:ext cx="779148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 шаг вперед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82600" y="1440000"/>
            <a:ext cx="7770960" cy="46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же самые незначительные отклонения в развитии речи дошкольника нужно  успеть заметить и  преодолеть до начала обучения в школ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360360" y="5040360"/>
            <a:ext cx="180036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148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ahoma"/>
              </a:rPr>
              <a:t>Как определить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82600" y="2062080"/>
            <a:ext cx="77709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колько высока речевая готовность к школе у  Вашего ребенка?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657360" y="5040360"/>
            <a:ext cx="186192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210600"/>
            <a:ext cx="85820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ahoma"/>
              </a:rPr>
              <a:t>Правильность произнош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8232480" cy="34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екты звукопроизношения обычно отражаются на письм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 начала обучения грамоте ребенок должен научиться правильно и четко произносить все звук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148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Речевой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(фонематический) слух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82600" y="2062080"/>
            <a:ext cx="77709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слышать и различать, дифференцировать звуки родного язык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9:17:49Z</dcterms:created>
  <dc:creator>*</dc:creator>
  <dc:description/>
  <dc:language>en-US</dc:language>
  <cp:lastModifiedBy>User</cp:lastModifiedBy>
  <dcterms:modified xsi:type="dcterms:W3CDTF">2015-04-26T07:50:59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