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0" y="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B31-4B89-4F28-A6F4-75E0D367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723-7416-4D6A-BC74-CFC91AF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6C0-1EFD-40BE-93C8-C260A7E0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98A-C1BB-44BF-8F9E-EF07D6D9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FBE-93D1-4CDE-9689-67F239E1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C3F-A87B-432C-B129-5C7D0BF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D703-6DB0-4D93-930B-73F84BC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708-E216-40C6-9BBC-8D57B7F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4D75-753D-4105-AC99-A6AA15B6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7BD6-C266-4D52-B987-0C1D45D4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82C-72D3-465E-BF58-D8AFEFC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443-9691-4610-ACC6-76ED5A1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6C2F-0F9A-4368-BB50-5694F96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25E2-8171-462B-B7C1-428F755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38B-1957-4DDB-AABA-96B73589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AB5-0FC6-4F11-A30E-224698C0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DFFF-4045-4B8C-BE56-558009A0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673-06DF-4263-B2FB-456E04D0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9C5-A78A-44D1-AF28-D75BB77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D15-3E10-4B85-9FE2-D51DCFBF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4F2-21E9-430F-85F0-9E1B815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260-84FD-499C-9646-D1C7C62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4BB-A82C-4CFE-B666-3AA7CF4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52C-192D-4629-9A64-957DA46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43C99B-4610-409F-99EE-AD6422DC40FC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053953-08F3-4A90-BAA3-D89759AA90AA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50028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ая готовность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 обучению в школе — залог успешного развития</a:t>
            </a:r>
            <a:r>
              <a:rPr b="1" i="1" lang="ru-RU" sz="40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5634000"/>
            <a:ext cx="856944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8828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2160" y="260280"/>
            <a:ext cx="779148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е различать звук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кое различение на слух всех звуков речи является одной из необходимых предпосылок овладения грамот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сь любого слова предполагает умение определить каждый входящий в его состав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бозначить его соответствующей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квой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65240"/>
            <a:ext cx="779004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Умение различать зву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должны знать и правильно употреблять термины 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г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ложение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и гласный, согласный, звонкий, глухой, твердый, мягк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1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Словарный запас ребен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2339640"/>
            <a:ext cx="795024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3000 до 7000 слов. (нижний предел 2000, высший предел — до 10 000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8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ем должны быть представлены основные части речи: существительные, глаголы, прилагательные, числительные, местоимения, наречия, предлоги, сочинительные и подчинительные союз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66320"/>
            <a:ext cx="7791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Грамматика родного язы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мматической системой слово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с нормально развивающейся речью обычно овладевает к четырем годам,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ой словообразования - к се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60360" y="5516640"/>
            <a:ext cx="99216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204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Владение связной речью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ная речь — это развернутые высказывания, которые позволяют четко и последовательно выражать ребенку свои мысли и чув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свободного владения связной речью процесс школьного обучения немысли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сграфия – это что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у первоклассников даже слабых отклонений в фонематическом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ксико-грамматическом развит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ет к серьезным проблемам в усвоении программ общеобразовательной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020000" y="360360"/>
            <a:ext cx="196848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468360" y="1989000"/>
            <a:ext cx="8415360" cy="4451400"/>
            <a:chOff x="468360" y="1989000"/>
            <a:chExt cx="8415360" cy="4451400"/>
          </a:xfrm>
        </p:grpSpPr>
        <p:sp>
          <p:nvSpPr>
            <p:cNvPr id="143" name="AutoShape 3"/>
            <p:cNvSpPr/>
            <p:nvPr/>
          </p:nvSpPr>
          <p:spPr>
            <a:xfrm>
              <a:off x="468360" y="1989000"/>
              <a:ext cx="8415360" cy="44496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4" name="AutoShape 4"/>
            <p:cNvCxnSpPr>
              <a:stCxn id="145" idx="0"/>
              <a:endCxn id="146" idx="2"/>
            </p:cNvCxnSpPr>
            <p:nvPr/>
          </p:nvCxnSpPr>
          <p:spPr>
            <a:xfrm rot="10800000">
              <a:off x="4673880" y="3768840"/>
              <a:ext cx="2946240" cy="89100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AutoShape 5"/>
            <p:cNvCxnSpPr>
              <a:stCxn id="148" idx="0"/>
              <a:endCxn id="146" idx="2"/>
            </p:cNvCxnSpPr>
            <p:nvPr/>
          </p:nvCxnSpPr>
          <p:spPr>
            <a:xfrm flipV="1">
              <a:off x="4674240" y="3768840"/>
              <a:ext cx="1800" cy="89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AutoShape 6"/>
            <p:cNvCxnSpPr>
              <a:stCxn id="150" idx="0"/>
              <a:endCxn id="146" idx="2"/>
            </p:cNvCxnSpPr>
            <p:nvPr/>
          </p:nvCxnSpPr>
          <p:spPr>
            <a:xfrm flipV="1">
              <a:off x="1730160" y="3768840"/>
              <a:ext cx="2944800" cy="89100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AutoShape 7"/>
            <p:cNvSpPr/>
            <p:nvPr/>
          </p:nvSpPr>
          <p:spPr>
            <a:xfrm>
              <a:off x="3412440" y="1989000"/>
              <a:ext cx="252324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Занят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 </a:t>
              </a: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по речевому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развитию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468360" y="4659840"/>
              <a:ext cx="252324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Tahoma"/>
                </a:rPr>
                <a:t>Развитие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Tahoma"/>
                </a:rPr>
                <a:t>связной реч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3412440" y="4659840"/>
              <a:ext cx="252324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Чтен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художественно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литератур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0"/>
            <p:cNvSpPr/>
            <p:nvPr/>
          </p:nvSpPr>
          <p:spPr>
            <a:xfrm>
              <a:off x="6358320" y="4659840"/>
              <a:ext cx="252360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Обуч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Грамот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(чтение 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письмо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Text Box 11"/>
          <p:cNvSpPr/>
          <p:nvPr/>
        </p:nvSpPr>
        <p:spPr>
          <a:xfrm>
            <a:off x="1150920" y="166680"/>
            <a:ext cx="7791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Какие занятия развивают речь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468360" y="1989000"/>
            <a:ext cx="8416800" cy="4453200"/>
            <a:chOff x="468360" y="1989000"/>
            <a:chExt cx="8416800" cy="4453200"/>
          </a:xfrm>
        </p:grpSpPr>
        <p:sp>
          <p:nvSpPr>
            <p:cNvPr id="154" name="AutoShape 3"/>
            <p:cNvSpPr/>
            <p:nvPr/>
          </p:nvSpPr>
          <p:spPr>
            <a:xfrm>
              <a:off x="468360" y="1989000"/>
              <a:ext cx="8416800" cy="44514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5" name="AutoShape 4"/>
            <p:cNvCxnSpPr>
              <a:stCxn id="156" idx="0"/>
              <a:endCxn id="157" idx="2"/>
            </p:cNvCxnSpPr>
            <p:nvPr/>
          </p:nvCxnSpPr>
          <p:spPr>
            <a:xfrm rot="10800000">
              <a:off x="4674600" y="3769560"/>
              <a:ext cx="2946960" cy="8913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AutoShape 5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273920" y="4170240"/>
              <a:ext cx="811800" cy="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AutoShape 6"/>
            <p:cNvCxnSpPr>
              <a:stCxn id="161" idx="0"/>
              <a:endCxn id="157" idx="2"/>
            </p:cNvCxnSpPr>
            <p:nvPr/>
          </p:nvCxnSpPr>
          <p:spPr>
            <a:xfrm flipV="1">
              <a:off x="1730520" y="3769920"/>
              <a:ext cx="2945160" cy="89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AutoShape 7"/>
            <p:cNvSpPr/>
            <p:nvPr/>
          </p:nvSpPr>
          <p:spPr>
            <a:xfrm>
              <a:off x="3413160" y="1989000"/>
              <a:ext cx="252396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Логопедическ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заняти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468360" y="4660920"/>
              <a:ext cx="252396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ahoma"/>
                </a:rPr>
                <a:t>Индивидуаль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ahoma"/>
                </a:rPr>
                <a:t>занятия п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ahoma"/>
                </a:rPr>
                <a:t>звукопроизношени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3419640" y="4581360"/>
              <a:ext cx="252396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Подгрупп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занятия п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развит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словаря 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грамма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6359400" y="4660920"/>
              <a:ext cx="252432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Фронт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Заня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по обучен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грамо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Text Box 11"/>
          <p:cNvSpPr/>
          <p:nvPr/>
        </p:nvSpPr>
        <p:spPr>
          <a:xfrm>
            <a:off x="1150920" y="166680"/>
            <a:ext cx="7791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Коррекционные заня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9280" y="210960"/>
            <a:ext cx="78613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Индивидуальные заняти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о звукопроизношени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4" descr="P1020192.JPG"/>
          <p:cNvPicPr/>
          <p:nvPr/>
        </p:nvPicPr>
        <p:blipFill>
          <a:blip r:embed="rId1"/>
          <a:stretch/>
        </p:blipFill>
        <p:spPr>
          <a:xfrm>
            <a:off x="2143080" y="2071800"/>
            <a:ext cx="535788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Групповые занят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Рисунок 4" descr="P1020184.JPG"/>
          <p:cNvPicPr/>
          <p:nvPr/>
        </p:nvPicPr>
        <p:blipFill>
          <a:blip r:embed="rId1"/>
          <a:stretch/>
        </p:blipFill>
        <p:spPr>
          <a:xfrm>
            <a:off x="1857240" y="2071800"/>
            <a:ext cx="6215040" cy="42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1556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! Скоро в школу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1260000"/>
            <a:ext cx="77709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же пора  или ??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79280" y="3132000"/>
            <a:ext cx="2519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096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Фонетическа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итмика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Рисунок 4" descr="P1020189.JPG"/>
          <p:cNvPicPr/>
          <p:nvPr/>
        </p:nvPicPr>
        <p:blipFill>
          <a:blip r:embed="rId1"/>
          <a:stretch/>
        </p:blipFill>
        <p:spPr>
          <a:xfrm>
            <a:off x="1500120" y="1857240"/>
            <a:ext cx="671508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Давайте вместе поможем вашему ребенку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82600" y="1260360"/>
            <a:ext cx="777096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действие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ы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мьи – необходимое условие полноценного речевого развития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а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ощь родителей принесёт  неоценимую пользу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речевого развития школьник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А мама ближ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ая речь </a:t>
            </a:r>
            <a:r>
              <a:rPr b="1" i="1" lang="en-US" sz="3600" spc="-1" strike="noStrike">
                <a:solidFill>
                  <a:srgbClr val="4700b8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аслуга не только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а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логопеда, а, прежде всего, Вас — родителей, тех, кому подражают Ваш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кого Вы — пример, пример не только в данный момент, а на всю жизнь</a:t>
            </a:r>
            <a:r>
              <a:rPr b="1" i="1" lang="en-US" sz="3600" spc="-1" strike="noStrike">
                <a:solidFill>
                  <a:srgbClr val="4700b8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60000" y="4680000"/>
            <a:ext cx="845964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!!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616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6488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дость или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6120000" cy="50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ность или неготовность ребенка к началу школьного обучения определяется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ем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его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ого развития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00680" y="4361040"/>
            <a:ext cx="229896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8613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Человеческая речь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519280"/>
            <a:ext cx="777096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8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енная (чтение и письмо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6488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вестно, ч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16000" y="206064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лучше развита у ребенка ко времени поступления в школу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ая реч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 легче ему овладеть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м и письмо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 шаг вперед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82600" y="1440000"/>
            <a:ext cx="7770960" cy="46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же самые незначительные отклонения в развитии речи дошкольника нужно  успеть заметить и  преодолеть до начала обучения в шк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60360" y="504036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148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Как определить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колько высока речевая готовность к школе у  Вашего ребенка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57360" y="5040360"/>
            <a:ext cx="186192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210600"/>
            <a:ext cx="85820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Правильность произнош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8232480" cy="34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екты звукопроизношения обычно отражаются на письм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начала обучения грамоте ребенок должен научиться правильно и четко произносить все звук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148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Речевой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(фонематический) слух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лышать и различать, дифференцировать звуки родного язы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17:49Z</dcterms:created>
  <dc:creator>*</dc:creator>
  <dc:description/>
  <dc:language>en-US</dc:language>
  <cp:lastModifiedBy>User</cp:lastModifiedBy>
  <dcterms:modified xsi:type="dcterms:W3CDTF">2015-04-26T07:50:5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