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DA5-8D38-4BD1-BDC6-D3A9ECE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9D1-AC18-4D85-A789-FB108A78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71B-F00C-4307-9B6E-7914B767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DED-3C5A-43D2-A8D7-E99E05C2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368-F3C6-4AA6-A121-4A008F36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638-25AC-472D-90C3-EB1ACCBD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D87-5537-4437-9427-98AA5C32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F76-EFCC-47B1-86B2-DE2F5460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16B-9644-4A13-BAEB-4E843394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B57-A1C4-4494-B21C-F87E2CC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663-4136-4D3A-BFD7-9E058B5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93E-6A88-4E05-972D-6D1CBF9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950-C7C3-45AF-89D6-C19B3FA8D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71640" y="1890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 детский сад № 63 «Журавлик»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4716360" y="378936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кова Наталья Евген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вск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749160" y="1219320"/>
            <a:ext cx="7645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5-tub-ru.yandex.net/i?id=341085211-43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Настя\Downloads\школа\0_2813b_494daafa_XL.jpg"/>
          <p:cNvPicPr/>
          <p:nvPr/>
        </p:nvPicPr>
        <p:blipFill>
          <a:blip r:embed="rId1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890640" y="665280"/>
            <a:ext cx="7362720" cy="110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greenmama.ru/images/2008-06/30/1214827412-I0001_1_300.jpg"/>
          <p:cNvPicPr/>
          <p:nvPr/>
        </p:nvPicPr>
        <p:blipFill>
          <a:blip r:embed="rId2"/>
          <a:stretch/>
        </p:blipFill>
        <p:spPr>
          <a:xfrm>
            <a:off x="2411280" y="1844640"/>
            <a:ext cx="41054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1042920" y="4292640"/>
            <a:ext cx="3279960" cy="2365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im5-tub-ru.yandex.net/i?id=139362942-27-72&amp;n=21"/>
          <p:cNvPicPr/>
          <p:nvPr/>
        </p:nvPicPr>
        <p:blipFill>
          <a:blip r:embed="rId2"/>
          <a:stretch/>
        </p:blipFill>
        <p:spPr>
          <a:xfrm>
            <a:off x="0" y="260280"/>
            <a:ext cx="300816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4-tub-ru.yandex.net/i?id=476828861-71-72&amp;n=21"/>
          <p:cNvPicPr/>
          <p:nvPr/>
        </p:nvPicPr>
        <p:blipFill>
          <a:blip r:embed="rId3"/>
          <a:stretch/>
        </p:blipFill>
        <p:spPr>
          <a:xfrm rot="18850800">
            <a:off x="5737320" y="486720"/>
            <a:ext cx="3119400" cy="255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7-tub-ru.yandex.net/i?id=123362784-66-72&amp;n=21"/>
          <p:cNvPicPr/>
          <p:nvPr/>
        </p:nvPicPr>
        <p:blipFill>
          <a:blip r:embed="rId4"/>
          <a:stretch/>
        </p:blipFill>
        <p:spPr>
          <a:xfrm>
            <a:off x="5472000" y="3763800"/>
            <a:ext cx="3672000" cy="3094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3-tub-ru.yandex.net/i?id=146104040-52-72&amp;n=21"/>
          <p:cNvPicPr/>
          <p:nvPr/>
        </p:nvPicPr>
        <p:blipFill>
          <a:blip r:embed="rId5"/>
          <a:stretch/>
        </p:blipFill>
        <p:spPr>
          <a:xfrm>
            <a:off x="4211640" y="2852640"/>
            <a:ext cx="2305080" cy="245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7-tub-ru.yandex.net/i?id=814034238-70-72&amp;n=21"/>
          <p:cNvPicPr/>
          <p:nvPr/>
        </p:nvPicPr>
        <p:blipFill>
          <a:blip r:embed="rId6"/>
          <a:stretch/>
        </p:blipFill>
        <p:spPr>
          <a:xfrm>
            <a:off x="0" y="2852640"/>
            <a:ext cx="2614680" cy="258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im6-tub-ru.yandex.net/i?id=321251064-12-72&amp;n=21"/>
          <p:cNvPicPr/>
          <p:nvPr/>
        </p:nvPicPr>
        <p:blipFill>
          <a:blip r:embed="rId7"/>
          <a:stretch/>
        </p:blipFill>
        <p:spPr>
          <a:xfrm rot="2136600">
            <a:off x="3225960" y="237960"/>
            <a:ext cx="2074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1979640" y="4076640"/>
            <a:ext cx="3279600" cy="236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im5-tub-ru.yandex.net/i?id=139362942-27-72&amp;n=21"/>
          <p:cNvPicPr/>
          <p:nvPr/>
        </p:nvPicPr>
        <p:blipFill>
          <a:blip r:embed="rId2"/>
          <a:stretch/>
        </p:blipFill>
        <p:spPr>
          <a:xfrm>
            <a:off x="0" y="260280"/>
            <a:ext cx="3008160" cy="214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im4-tub-ru.yandex.net/i?id=476828861-71-72&amp;n=21"/>
          <p:cNvPicPr/>
          <p:nvPr/>
        </p:nvPicPr>
        <p:blipFill>
          <a:blip r:embed="rId3"/>
          <a:stretch/>
        </p:blipFill>
        <p:spPr>
          <a:xfrm rot="18850800">
            <a:off x="6024600" y="415440"/>
            <a:ext cx="3119400" cy="255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7-tub-ru.yandex.net/i?id=123362784-66-72&amp;n=21"/>
          <p:cNvPicPr/>
          <p:nvPr/>
        </p:nvPicPr>
        <p:blipFill>
          <a:blip r:embed="rId4"/>
          <a:stretch/>
        </p:blipFill>
        <p:spPr>
          <a:xfrm>
            <a:off x="5472000" y="3763800"/>
            <a:ext cx="3672000" cy="309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im3-tub-ru.yandex.net/i?id=146104040-52-72&amp;n=21"/>
          <p:cNvPicPr/>
          <p:nvPr/>
        </p:nvPicPr>
        <p:blipFill>
          <a:blip r:embed="rId5"/>
          <a:stretch/>
        </p:blipFill>
        <p:spPr>
          <a:xfrm>
            <a:off x="4356000" y="2708280"/>
            <a:ext cx="2303640" cy="24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im7-tub-ru.yandex.net/i?id=814034238-70-72&amp;n=21"/>
          <p:cNvPicPr/>
          <p:nvPr/>
        </p:nvPicPr>
        <p:blipFill>
          <a:blip r:embed="rId6"/>
          <a:stretch/>
        </p:blipFill>
        <p:spPr>
          <a:xfrm>
            <a:off x="0" y="2852640"/>
            <a:ext cx="261468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im6-tub-ru.yandex.net/i?id=321251064-12-72&amp;n=21"/>
          <p:cNvPicPr/>
          <p:nvPr/>
        </p:nvPicPr>
        <p:blipFill>
          <a:blip r:embed="rId7"/>
          <a:stretch/>
        </p:blipFill>
        <p:spPr>
          <a:xfrm rot="2136600">
            <a:off x="3225960" y="237960"/>
            <a:ext cx="2074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7-tub-ru.yandex.net/i?id=134930975-23-72&amp;n=21"/>
          <p:cNvPicPr/>
          <p:nvPr/>
        </p:nvPicPr>
        <p:blipFill>
          <a:blip r:embed="rId1"/>
          <a:stretch/>
        </p:blipFill>
        <p:spPr>
          <a:xfrm>
            <a:off x="1547640" y="2349360"/>
            <a:ext cx="5558040" cy="37213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463680" y="517680"/>
            <a:ext cx="86072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http://im8-tub-ru.yandex.net/i?id=349191716-56-72&amp;n=21"/>
          <p:cNvPicPr/>
          <p:nvPr/>
        </p:nvPicPr>
        <p:blipFill>
          <a:blip r:embed="rId1"/>
          <a:stretch/>
        </p:blipFill>
        <p:spPr>
          <a:xfrm>
            <a:off x="5249880" y="765000"/>
            <a:ext cx="38941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3-tub-ru.yandex.net/i?id=146104040-52-72&amp;n=21"/>
          <p:cNvPicPr/>
          <p:nvPr/>
        </p:nvPicPr>
        <p:blipFill>
          <a:blip r:embed="rId2"/>
          <a:stretch/>
        </p:blipFill>
        <p:spPr>
          <a:xfrm>
            <a:off x="468360" y="692280"/>
            <a:ext cx="2519280" cy="268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6-tub-ru.yandex.net/i?id=275316824-43-72&amp;n=21"/>
          <p:cNvPicPr/>
          <p:nvPr/>
        </p:nvPicPr>
        <p:blipFill>
          <a:blip r:embed="rId3"/>
          <a:stretch/>
        </p:blipFill>
        <p:spPr>
          <a:xfrm>
            <a:off x="3276720" y="3573360"/>
            <a:ext cx="4430520" cy="294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im5-tub-ru.yandex.net/i?id=137282201-05-72&amp;n=21"/>
          <p:cNvPicPr/>
          <p:nvPr/>
        </p:nvPicPr>
        <p:blipFill>
          <a:blip r:embed="rId4"/>
          <a:stretch/>
        </p:blipFill>
        <p:spPr>
          <a:xfrm>
            <a:off x="684360" y="3284640"/>
            <a:ext cx="2879640" cy="32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im6-tub-ru.yandex.net/i?id=302993748-36-72&amp;n=21"/>
          <p:cNvPicPr/>
          <p:nvPr/>
        </p:nvPicPr>
        <p:blipFill>
          <a:blip r:embed="rId5"/>
          <a:stretch/>
        </p:blipFill>
        <p:spPr>
          <a:xfrm>
            <a:off x="3132000" y="0"/>
            <a:ext cx="30369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http://im8-tub-ru.yandex.net/i?id=199339754-35-72&amp;n=21"/>
          <p:cNvPicPr/>
          <p:nvPr/>
        </p:nvPicPr>
        <p:blipFill>
          <a:blip r:embed="rId1"/>
          <a:stretch/>
        </p:blipFill>
        <p:spPr>
          <a:xfrm>
            <a:off x="1763640" y="189000"/>
            <a:ext cx="554508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4-tub-ru.yandex.net/i?id=192001770-03-72&amp;n=21"/>
          <p:cNvPicPr/>
          <p:nvPr/>
        </p:nvPicPr>
        <p:blipFill>
          <a:blip r:embed="rId1"/>
          <a:stretch/>
        </p:blipFill>
        <p:spPr>
          <a:xfrm>
            <a:off x="1908000" y="239760"/>
            <a:ext cx="62643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img0.liveinternet.ru/images/attach/c/3/77/548/77548970_large_s26550483.jpg"/>
          <p:cNvPicPr/>
          <p:nvPr/>
        </p:nvPicPr>
        <p:blipFill>
          <a:blip r:embed="rId1"/>
          <a:stretch/>
        </p:blipFill>
        <p:spPr>
          <a:xfrm>
            <a:off x="2411280" y="260280"/>
            <a:ext cx="475308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Настя\Downloads\EnTlOUFVI78.jpg"/>
          <p:cNvPicPr/>
          <p:nvPr/>
        </p:nvPicPr>
        <p:blipFill>
          <a:blip r:embed="rId1"/>
          <a:stretch/>
        </p:blipFill>
        <p:spPr>
          <a:xfrm>
            <a:off x="822240" y="1335240"/>
            <a:ext cx="7620120" cy="5157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12600" y="49320"/>
            <a:ext cx="90392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0-tub-ru.yandex.net/i?id=191674535-08-72&amp;n=21"/>
          <p:cNvPicPr/>
          <p:nvPr/>
        </p:nvPicPr>
        <p:blipFill>
          <a:blip r:embed="rId1"/>
          <a:stretch/>
        </p:blipFill>
        <p:spPr>
          <a:xfrm>
            <a:off x="2484360" y="333360"/>
            <a:ext cx="4319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0-tub-ru.yandex.net/i?id=376088698-02-72&amp;n=21"/>
          <p:cNvPicPr/>
          <p:nvPr/>
        </p:nvPicPr>
        <p:blipFill>
          <a:blip r:embed="rId1"/>
          <a:stretch/>
        </p:blipFill>
        <p:spPr>
          <a:xfrm>
            <a:off x="2124000" y="692280"/>
            <a:ext cx="547236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im6-tub-ru.yandex.net/i?id=176355584-08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414360" y="146160"/>
            <a:ext cx="8327880" cy="828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611280" y="1413000"/>
            <a:ext cx="8208720" cy="511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Овощи, фрукты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img_url=http%3A%2F%2Fimg1.liveinternet.ru%2Fimages%2Fattach%2Fc%2F0%2F42%2F228%2F42228231_1239182815_ovoschi_2.jpg&amp;uinfo=sw-1440-sh-900-ww-1390-wh-732-pd-1-wp-16x10_1440x900&amp;text=%D0%BA%D0%B0%D1%80%D1%82%D0%B8%D0%BD%D0%BA%D0%B8%20%D0%BE%D0%B2%D0%BE%D1%89%D0%B5%D0%B9&amp;noreask=1&amp;pos=6&amp;lr=11283&amp;rpt=s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яц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7%D0%B0%D1%8F%D1%86&amp;stype=image&amp;lr=11283&amp;noreask=1&amp;uinfo=sw-1440-sh-900-ww-1390-wh-732-pd-1-wp-16x10_1440x900&amp;pin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ти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7%D0%B0%D1%8F%D1%86&amp;stype=image&amp;lr=11283&amp;noreask=1&amp;uinfo=sw-1440-sh-900-ww-1390-wh-732-pd-1-wp-16x10_1440x900&amp;pin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я года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B2%D1%80%D0%B5%D0%BC%D1%8F%20%D0%B3%D0%BE%D0%B4%D0%B0&amp;suggest_reqid=266045298136664342717603360162374&amp;uinfo=sw-1440-sh-900-ww-1390-wh-732-pd-1-wp-16x10_1440x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знайка -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andex.ru/images/search?text=%D0%BA%D0%B0%D1%80%D1%82%D0%B8%D0%BD%D0%BA%D0%B8%20%D0%9D%D0%B5%D0%B7%D0%BD%D0%B0%D0%B9%D0%BA%D0%B0&amp;suggest_reqid=266045298136664342718376233046769&amp;uinfo=sw-1440-sh-900-ww-1390-wh-732-pd-1-wp-16x10_1440x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hullumaja.com/files/pictures/2010/10/02/idmB5W9A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ixellife.ru/ts/landscape/060221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dezinfo.net/images2/image/10.2009/biuroza/1012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im4-tub-ru.yandex.net/i?id=59828741-42-72&amp;n=21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5.nnm.ru/c/e/f/2/2/9c589ef072a296cd3f9484e36dc.jpg"/>
          <p:cNvPicPr/>
          <p:nvPr/>
        </p:nvPicPr>
        <p:blipFill>
          <a:blip r:embed="rId1"/>
          <a:stretch/>
        </p:blipFill>
        <p:spPr>
          <a:xfrm>
            <a:off x="0" y="0"/>
            <a:ext cx="93535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papers.ru/wallpapers/Food/7162/PREV_%D0%9E%D0%B2%D0%BE%D1%89%D0%B8.jpg"/>
          <p:cNvPicPr/>
          <p:nvPr/>
        </p:nvPicPr>
        <p:blipFill>
          <a:blip r:embed="rId1"/>
          <a:stretch/>
        </p:blipFill>
        <p:spPr>
          <a:xfrm>
            <a:off x="250920" y="351000"/>
            <a:ext cx="867708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4-tub-ru.yandex.net/i?id=138487662-49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8:00:11Z</dcterms:created>
  <dc:creator>Настя</dc:creator>
  <dc:description/>
  <dc:language>en-US</dc:language>
  <cp:lastModifiedBy>Ирина</cp:lastModifiedBy>
  <dcterms:modified xsi:type="dcterms:W3CDTF">2015-04-26T05:36:42Z</dcterms:modified>
  <cp:revision>14</cp:revision>
  <dc:subject/>
  <dc:title>Слайд 1</dc:title>
</cp:coreProperties>
</file>