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7B4-4EED-4642-B52B-80060C28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A98-5E80-4238-B5AA-2C75D2E4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885-2E94-46A5-88F8-F1866DBD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9D8-D24B-45EC-913B-869F17DC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51C-248B-4D8B-95B4-F219EBA0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1B4-4974-48F8-A7AA-DB104B7E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6EE-FD9B-4A0A-A120-122ED4D2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365-5D6A-453E-86B9-DCDAD7E5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A3A-7E5D-414A-B64C-58208C10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223-13FA-4EF6-9545-6152B00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E95-C3EC-4655-B891-A077E74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CE2-4BE3-490D-AD2D-0D8564F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AEDE-5355-4C31-AF3F-0D5523594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71640" y="1890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ОУ детский сад № 63 «Журавлик» комбинированного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4716360" y="378936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кова Наталья Евген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евск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1"/>
          <a:stretch/>
        </p:blipFill>
        <p:spPr>
          <a:xfrm>
            <a:off x="749160" y="1219320"/>
            <a:ext cx="76456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5-tub-ru.yandex.net/i?id=341085211-43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Настя\Downloads\школа\0_2813b_494daafa_XL.jpg"/>
          <p:cNvPicPr/>
          <p:nvPr/>
        </p:nvPicPr>
        <p:blipFill>
          <a:blip r:embed="rId1"/>
          <a:stretch/>
        </p:blipFill>
        <p:spPr>
          <a:xfrm>
            <a:off x="2031840" y="254160"/>
            <a:ext cx="5080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890640" y="665280"/>
            <a:ext cx="7362720" cy="110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greenmama.ru/images/2008-06/30/1214827412-I0001_1_300.jpg"/>
          <p:cNvPicPr/>
          <p:nvPr/>
        </p:nvPicPr>
        <p:blipFill>
          <a:blip r:embed="rId2"/>
          <a:stretch/>
        </p:blipFill>
        <p:spPr>
          <a:xfrm>
            <a:off x="2411280" y="1844640"/>
            <a:ext cx="410544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6" descr="http://im8-tub-ru.yandex.net/i?id=349191716-56-72&amp;n=21"/>
          <p:cNvPicPr/>
          <p:nvPr/>
        </p:nvPicPr>
        <p:blipFill>
          <a:blip r:embed="rId1"/>
          <a:stretch/>
        </p:blipFill>
        <p:spPr>
          <a:xfrm>
            <a:off x="1042920" y="4292640"/>
            <a:ext cx="3279960" cy="2365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http://im5-tub-ru.yandex.net/i?id=139362942-27-72&amp;n=21"/>
          <p:cNvPicPr/>
          <p:nvPr/>
        </p:nvPicPr>
        <p:blipFill>
          <a:blip r:embed="rId2"/>
          <a:stretch/>
        </p:blipFill>
        <p:spPr>
          <a:xfrm>
            <a:off x="0" y="260280"/>
            <a:ext cx="3008160" cy="2149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4-tub-ru.yandex.net/i?id=476828861-71-72&amp;n=21"/>
          <p:cNvPicPr/>
          <p:nvPr/>
        </p:nvPicPr>
        <p:blipFill>
          <a:blip r:embed="rId3"/>
          <a:stretch/>
        </p:blipFill>
        <p:spPr>
          <a:xfrm rot="18850800">
            <a:off x="5737320" y="486720"/>
            <a:ext cx="3119400" cy="255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7-tub-ru.yandex.net/i?id=123362784-66-72&amp;n=21"/>
          <p:cNvPicPr/>
          <p:nvPr/>
        </p:nvPicPr>
        <p:blipFill>
          <a:blip r:embed="rId4"/>
          <a:stretch/>
        </p:blipFill>
        <p:spPr>
          <a:xfrm>
            <a:off x="5472000" y="3763800"/>
            <a:ext cx="3672000" cy="3094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im3-tub-ru.yandex.net/i?id=146104040-52-72&amp;n=21"/>
          <p:cNvPicPr/>
          <p:nvPr/>
        </p:nvPicPr>
        <p:blipFill>
          <a:blip r:embed="rId5"/>
          <a:stretch/>
        </p:blipFill>
        <p:spPr>
          <a:xfrm>
            <a:off x="4211640" y="2852640"/>
            <a:ext cx="2305080" cy="245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im7-tub-ru.yandex.net/i?id=814034238-70-72&amp;n=21"/>
          <p:cNvPicPr/>
          <p:nvPr/>
        </p:nvPicPr>
        <p:blipFill>
          <a:blip r:embed="rId6"/>
          <a:stretch/>
        </p:blipFill>
        <p:spPr>
          <a:xfrm>
            <a:off x="0" y="2852640"/>
            <a:ext cx="2614680" cy="258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im6-tub-ru.yandex.net/i?id=321251064-12-72&amp;n=21"/>
          <p:cNvPicPr/>
          <p:nvPr/>
        </p:nvPicPr>
        <p:blipFill>
          <a:blip r:embed="rId7"/>
          <a:stretch/>
        </p:blipFill>
        <p:spPr>
          <a:xfrm rot="2136600">
            <a:off x="3225960" y="237960"/>
            <a:ext cx="2074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6" descr="http://im8-tub-ru.yandex.net/i?id=349191716-56-72&amp;n=21"/>
          <p:cNvPicPr/>
          <p:nvPr/>
        </p:nvPicPr>
        <p:blipFill>
          <a:blip r:embed="rId1"/>
          <a:stretch/>
        </p:blipFill>
        <p:spPr>
          <a:xfrm>
            <a:off x="1979640" y="4076640"/>
            <a:ext cx="3279600" cy="236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://im5-tub-ru.yandex.net/i?id=139362942-27-72&amp;n=21"/>
          <p:cNvPicPr/>
          <p:nvPr/>
        </p:nvPicPr>
        <p:blipFill>
          <a:blip r:embed="rId2"/>
          <a:stretch/>
        </p:blipFill>
        <p:spPr>
          <a:xfrm>
            <a:off x="0" y="260280"/>
            <a:ext cx="3008160" cy="214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im4-tub-ru.yandex.net/i?id=476828861-71-72&amp;n=21"/>
          <p:cNvPicPr/>
          <p:nvPr/>
        </p:nvPicPr>
        <p:blipFill>
          <a:blip r:embed="rId3"/>
          <a:stretch/>
        </p:blipFill>
        <p:spPr>
          <a:xfrm rot="18850800">
            <a:off x="6024600" y="415440"/>
            <a:ext cx="3119400" cy="2557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im7-tub-ru.yandex.net/i?id=123362784-66-72&amp;n=21"/>
          <p:cNvPicPr/>
          <p:nvPr/>
        </p:nvPicPr>
        <p:blipFill>
          <a:blip r:embed="rId4"/>
          <a:stretch/>
        </p:blipFill>
        <p:spPr>
          <a:xfrm>
            <a:off x="5472000" y="3763800"/>
            <a:ext cx="3672000" cy="309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im3-tub-ru.yandex.net/i?id=146104040-52-72&amp;n=21"/>
          <p:cNvPicPr/>
          <p:nvPr/>
        </p:nvPicPr>
        <p:blipFill>
          <a:blip r:embed="rId5"/>
          <a:stretch/>
        </p:blipFill>
        <p:spPr>
          <a:xfrm>
            <a:off x="4356000" y="2708280"/>
            <a:ext cx="2303640" cy="245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im7-tub-ru.yandex.net/i?id=814034238-70-72&amp;n=21"/>
          <p:cNvPicPr/>
          <p:nvPr/>
        </p:nvPicPr>
        <p:blipFill>
          <a:blip r:embed="rId6"/>
          <a:stretch/>
        </p:blipFill>
        <p:spPr>
          <a:xfrm>
            <a:off x="0" y="2852640"/>
            <a:ext cx="2614680" cy="25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im6-tub-ru.yandex.net/i?id=321251064-12-72&amp;n=21"/>
          <p:cNvPicPr/>
          <p:nvPr/>
        </p:nvPicPr>
        <p:blipFill>
          <a:blip r:embed="rId7"/>
          <a:stretch/>
        </p:blipFill>
        <p:spPr>
          <a:xfrm rot="2136600">
            <a:off x="3225960" y="237960"/>
            <a:ext cx="2074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im7-tub-ru.yandex.net/i?id=134930975-23-72&amp;n=21"/>
          <p:cNvPicPr/>
          <p:nvPr/>
        </p:nvPicPr>
        <p:blipFill>
          <a:blip r:embed="rId1"/>
          <a:stretch/>
        </p:blipFill>
        <p:spPr>
          <a:xfrm>
            <a:off x="1547640" y="2349360"/>
            <a:ext cx="5558040" cy="37213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463680" y="517680"/>
            <a:ext cx="86072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http://im8-tub-ru.yandex.net/i?id=349191716-56-72&amp;n=21"/>
          <p:cNvPicPr/>
          <p:nvPr/>
        </p:nvPicPr>
        <p:blipFill>
          <a:blip r:embed="rId1"/>
          <a:stretch/>
        </p:blipFill>
        <p:spPr>
          <a:xfrm>
            <a:off x="5249880" y="765000"/>
            <a:ext cx="389412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im3-tub-ru.yandex.net/i?id=146104040-52-72&amp;n=21"/>
          <p:cNvPicPr/>
          <p:nvPr/>
        </p:nvPicPr>
        <p:blipFill>
          <a:blip r:embed="rId2"/>
          <a:stretch/>
        </p:blipFill>
        <p:spPr>
          <a:xfrm>
            <a:off x="468360" y="692280"/>
            <a:ext cx="2519280" cy="268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im6-tub-ru.yandex.net/i?id=275316824-43-72&amp;n=21"/>
          <p:cNvPicPr/>
          <p:nvPr/>
        </p:nvPicPr>
        <p:blipFill>
          <a:blip r:embed="rId3"/>
          <a:stretch/>
        </p:blipFill>
        <p:spPr>
          <a:xfrm>
            <a:off x="3276720" y="3573360"/>
            <a:ext cx="4430520" cy="2940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im5-tub-ru.yandex.net/i?id=137282201-05-72&amp;n=21"/>
          <p:cNvPicPr/>
          <p:nvPr/>
        </p:nvPicPr>
        <p:blipFill>
          <a:blip r:embed="rId4"/>
          <a:stretch/>
        </p:blipFill>
        <p:spPr>
          <a:xfrm>
            <a:off x="684360" y="3284640"/>
            <a:ext cx="2879640" cy="32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http://im6-tub-ru.yandex.net/i?id=302993748-36-72&amp;n=21"/>
          <p:cNvPicPr/>
          <p:nvPr/>
        </p:nvPicPr>
        <p:blipFill>
          <a:blip r:embed="rId5"/>
          <a:stretch/>
        </p:blipFill>
        <p:spPr>
          <a:xfrm>
            <a:off x="3132000" y="0"/>
            <a:ext cx="30369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http://im8-tub-ru.yandex.net/i?id=199339754-35-72&amp;n=21"/>
          <p:cNvPicPr/>
          <p:nvPr/>
        </p:nvPicPr>
        <p:blipFill>
          <a:blip r:embed="rId1"/>
          <a:stretch/>
        </p:blipFill>
        <p:spPr>
          <a:xfrm>
            <a:off x="1763640" y="189000"/>
            <a:ext cx="55450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m4-tub-ru.yandex.net/i?id=192001770-03-72&amp;n=21"/>
          <p:cNvPicPr/>
          <p:nvPr/>
        </p:nvPicPr>
        <p:blipFill>
          <a:blip r:embed="rId1"/>
          <a:stretch/>
        </p:blipFill>
        <p:spPr>
          <a:xfrm>
            <a:off x="1908000" y="239760"/>
            <a:ext cx="62643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img0.liveinternet.ru/images/attach/c/3/77/548/77548970_large_s26550483.jpg"/>
          <p:cNvPicPr/>
          <p:nvPr/>
        </p:nvPicPr>
        <p:blipFill>
          <a:blip r:embed="rId1"/>
          <a:stretch/>
        </p:blipFill>
        <p:spPr>
          <a:xfrm>
            <a:off x="2411280" y="260280"/>
            <a:ext cx="475308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Настя\Downloads\EnTlOUFVI78.jpg"/>
          <p:cNvPicPr/>
          <p:nvPr/>
        </p:nvPicPr>
        <p:blipFill>
          <a:blip r:embed="rId1"/>
          <a:stretch/>
        </p:blipFill>
        <p:spPr>
          <a:xfrm>
            <a:off x="822240" y="1335240"/>
            <a:ext cx="7620120" cy="51577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12600" y="49320"/>
            <a:ext cx="903924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0-tub-ru.yandex.net/i?id=191674535-08-72&amp;n=21"/>
          <p:cNvPicPr/>
          <p:nvPr/>
        </p:nvPicPr>
        <p:blipFill>
          <a:blip r:embed="rId1"/>
          <a:stretch/>
        </p:blipFill>
        <p:spPr>
          <a:xfrm>
            <a:off x="2484360" y="333360"/>
            <a:ext cx="4319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m0-tub-ru.yandex.net/i?id=376088698-02-72&amp;n=21"/>
          <p:cNvPicPr/>
          <p:nvPr/>
        </p:nvPicPr>
        <p:blipFill>
          <a:blip r:embed="rId1"/>
          <a:stretch/>
        </p:blipFill>
        <p:spPr>
          <a:xfrm>
            <a:off x="2124000" y="692280"/>
            <a:ext cx="547236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im6-tub-ru.yandex.net/i?id=176355584-08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414360" y="146160"/>
            <a:ext cx="8327880" cy="8287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611280" y="1413000"/>
            <a:ext cx="8208720" cy="511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Овощи, фрукты -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img_url=http%3A%2F%2Fimg1.liveinternet.ru%2Fimages%2Fattach%2Fc%2F0%2F42%2F228%2F42228231_1239182815_ovoschi_2.jpg&amp;uinfo=sw-1440-sh-900-ww-1390-wh-732-pd-1-wp-16x10_1440x900&amp;text=%D0%BA%D0%B0%D1%80%D1%82%D0%B8%D0%BD%D0%BA%D0%B8%20%D0%BE%D0%B2%D0%BE%D1%89%D0%B5%D0%B9&amp;noreask=1&amp;pos=6&amp;lr=11283&amp;rpt=s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яц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text=%D0%BA%D0%B0%D1%80%D1%82%D0%B8%D0%BD%D0%BA%D0%B8%20%D0%B7%D0%B0%D1%8F%D1%86&amp;stype=image&amp;lr=11283&amp;noreask=1&amp;uinfo=sw-1440-sh-900-ww-1390-wh-732-pd-1-wp-16x10_1440x900&amp;pin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ти -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text=%D0%BA%D0%B0%D1%80%D1%82%D0%B8%D0%BD%D0%BA%D0%B8%20%D0%B7%D0%B0%D1%8F%D1%86&amp;stype=image&amp;lr=11283&amp;noreask=1&amp;uinfo=sw-1440-sh-900-ww-1390-wh-732-pd-1-wp-16x10_1440x900&amp;pin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я года -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text=%D0%BA%D0%B0%D1%80%D1%82%D0%B8%D0%BD%D0%BA%D0%B8%20%D0%B2%D1%80%D0%B5%D0%BC%D1%8F%20%D0%B3%D0%BE%D0%B4%D0%B0&amp;suggest_reqid=266045298136664342717603360162374&amp;uinfo=sw-1440-sh-900-ww-1390-wh-732-pd-1-wp-16x10_1440x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знайка -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text=%D0%BA%D0%B0%D1%80%D1%82%D0%B8%D0%BD%D0%BA%D0%B8%20%D0%9D%D0%B5%D0%B7%D0%BD%D0%B0%D0%B9%D0%BA%D0%B0&amp;suggest_reqid=266045298136664342718376233046769&amp;uinfo=sw-1440-sh-900-ww-1390-wh-732-pd-1-wp-16x10_1440x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hullumaja.com/files/pictures/2010/10/02/idmB5W9AE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pixellife.ru/ts/landscape/060221.jpg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dezinfo.net/images2/image/10.2009/biuroza/101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im4-tub-ru.yandex.net/i?id=59828741-42-72&amp;n=21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g15.nnm.ru/c/e/f/2/2/9c589ef072a296cd3f9484e36dc.jpg"/>
          <p:cNvPicPr/>
          <p:nvPr/>
        </p:nvPicPr>
        <p:blipFill>
          <a:blip r:embed="rId1"/>
          <a:stretch/>
        </p:blipFill>
        <p:spPr>
          <a:xfrm>
            <a:off x="0" y="0"/>
            <a:ext cx="93535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papers.ru/wallpapers/Food/7162/PREV_%D0%9E%D0%B2%D0%BE%D1%89%D0%B8.jpg"/>
          <p:cNvPicPr/>
          <p:nvPr/>
        </p:nvPicPr>
        <p:blipFill>
          <a:blip r:embed="rId1"/>
          <a:stretch/>
        </p:blipFill>
        <p:spPr>
          <a:xfrm>
            <a:off x="250920" y="351000"/>
            <a:ext cx="867708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4-tub-ru.yandex.net/i?id=138487662-49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8:00:11Z</dcterms:created>
  <dc:creator>Настя</dc:creator>
  <dc:description/>
  <dc:language>en-US</dc:language>
  <cp:lastModifiedBy>Ирина</cp:lastModifiedBy>
  <dcterms:modified xsi:type="dcterms:W3CDTF">2015-04-26T05:36:42Z</dcterms:modified>
  <cp:revision>14</cp:revision>
  <dc:subject/>
  <dc:title>Слайд 1</dc:title>
</cp:coreProperties>
</file>