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99E-6985-4EE7-A408-3A257213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345-0404-48CC-82E0-BDD5F1D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3C7-ABF0-4730-A844-27FF92BD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36D-10D9-48AE-8B3D-D2CBD4C2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61F-39AD-4850-A702-E7F1440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4B6-2BEF-4717-8FCB-7FA1D50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225-0828-4FB0-B8F1-08D5678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15C-6B58-45F2-BEB5-F3FF22E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297-1AFF-4CD5-A55D-E8428EAC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2AA-8DDC-4878-921B-BA1A339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F30-5AEE-4D68-879C-37C9858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DD4-BE49-4521-8E9B-EFC32C4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A2EE-491A-4413-9088-2346CF2BA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638520" y="1779480"/>
            <a:ext cx="5511960" cy="37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игонометрически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33200" y="1852560"/>
            <a:ext cx="3945240" cy="389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4280040" y="4280040"/>
            <a:ext cx="4535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тригонометрических уравнений с помощью вспомогательного уг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755640" y="2492280"/>
          <a:ext cx="799308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92280"/>
                    <a:ext cx="79930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Содержимое 4"/>
          <p:cNvGraphicFramePr/>
          <p:nvPr/>
        </p:nvGraphicFramePr>
        <p:xfrm>
          <a:off x="900000" y="1197000"/>
          <a:ext cx="676908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676908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зование разности или суммы в тригонометрических функциях в 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539640" y="1268280"/>
          <a:ext cx="5978520" cy="677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5978520" cy="677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18:27Z</dcterms:created>
  <dc:creator>ViKi</dc:creator>
  <dc:description/>
  <dc:language>en-US</dc:language>
  <cp:lastModifiedBy>Admin</cp:lastModifiedBy>
  <dcterms:modified xsi:type="dcterms:W3CDTF">2015-04-05T08:54:33Z</dcterms:modified>
  <cp:revision>15</cp:revision>
  <dc:subject/>
  <dc:title>Слайд 1</dc:title>
</cp:coreProperties>
</file>