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8B5-7BAD-4293-BB38-6794F07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AC7-7A3D-4C43-A2CD-A1860B4B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DA3-4C7F-491B-B540-6BE36D8C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420-7FD0-413C-8D70-ECA1A57A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836-ED01-43FD-96BF-C0FD7D2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D7C-CF7E-45FC-9CF4-CEBD98E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AC5-89B8-4E67-9DC1-B4D970D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300-46A6-4C60-996B-EF868F77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4CD-D01F-4F8B-BD5B-F3C1E72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198-4652-4CEC-813E-9FC2487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985-FEA2-4EC0-9213-D644A6F8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73A-9A89-4EE6-88E5-97FA701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102-5E67-41DB-A5B8-CFC4ED8DD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638520" y="1779480"/>
            <a:ext cx="5511960" cy="371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игонометрически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33200" y="1852560"/>
            <a:ext cx="3945240" cy="389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4280040" y="4280040"/>
            <a:ext cx="4535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тригонометрических уравнений с помощью вспомогательного уг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755640" y="2492280"/>
          <a:ext cx="799308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92280"/>
                    <a:ext cx="79930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Содержимое 4"/>
          <p:cNvGraphicFramePr/>
          <p:nvPr/>
        </p:nvGraphicFramePr>
        <p:xfrm>
          <a:off x="900000" y="1197000"/>
          <a:ext cx="6769080" cy="60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676908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0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зование разности или суммы в тригонометрических функциях в произ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539640" y="1268280"/>
          <a:ext cx="5978520" cy="677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5978520" cy="677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8:18:27Z</dcterms:created>
  <dc:creator>ViKi</dc:creator>
  <dc:description/>
  <dc:language>en-US</dc:language>
  <cp:lastModifiedBy>Admin</cp:lastModifiedBy>
  <dcterms:modified xsi:type="dcterms:W3CDTF">2015-04-05T08:54:33Z</dcterms:modified>
  <cp:revision>15</cp:revision>
  <dc:subject/>
  <dc:title>Слайд 1</dc:title>
</cp:coreProperties>
</file>