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6.gif" ContentType="image/gif"/>
  <Override PartName="/ppt/media/image27.jpeg" ContentType="image/jpeg"/>
  <Override PartName="/ppt/media/image17.gif" ContentType="image/gif"/>
  <Override PartName="/ppt/media/image7.jpeg" ContentType="image/jpeg"/>
  <Override PartName="/ppt/media/image28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12.gif" ContentType="image/gif"/>
  <Override PartName="/ppt/media/image24.jpeg" ContentType="image/jpeg"/>
  <Override PartName="/ppt/media/image32.jpeg" ContentType="image/jpeg"/>
  <Override PartName="/ppt/media/image15.gif" ContentType="image/gif"/>
  <Override PartName="/ppt/media/image5.jpeg" ContentType="image/jpeg"/>
  <Override PartName="/ppt/media/image26.jpeg" ContentType="image/jpeg"/>
  <Override PartName="/ppt/media/image33.png" ContentType="image/png"/>
  <Override PartName="/ppt/media/image34.png" ContentType="image/png"/>
  <Override PartName="/ppt/media/image13.gif" ContentType="image/gif"/>
  <Override PartName="/ppt/media/image4.jpeg" ContentType="image/jpeg"/>
  <Override PartName="/ppt/media/image25.jpeg" ContentType="image/jpeg"/>
  <Override PartName="/ppt/media/image2.jpeg" ContentType="image/jpeg"/>
  <Override PartName="/ppt/media/image31.png" ContentType="image/png"/>
  <Override PartName="/ppt/media/image1.png" ContentType="image/png"/>
  <Override PartName="/ppt/media/image14.gif" ContentType="image/gif"/>
  <Override PartName="/ppt/media/image16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C3C-30A4-4331-A5EF-8F916D2D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155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5288760"/>
            <a:ext cx="82155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9482-EE32-4F72-B262-CD383386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1480" y="197928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528876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1480" y="528876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E24-F195-4501-AB17-B066B7C6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4528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979280"/>
            <a:ext cx="264528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7520" y="1979280"/>
            <a:ext cx="264528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5288760"/>
            <a:ext cx="264528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5288760"/>
            <a:ext cx="264528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7520" y="5288760"/>
            <a:ext cx="264528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1BF-F1C8-46DD-9BF7-427E5205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155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781-70AF-486A-8274-8B3D0A60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155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A31-876E-4983-8A94-E0F57732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089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1480" y="1979280"/>
            <a:ext cx="40089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B63-592D-4E25-AFB0-64D56EEF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57F1-02AF-42F1-87AB-76193CCD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06160"/>
            <a:ext cx="879156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501-95DB-4E1E-9DB1-CCBA350A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1480" y="1979280"/>
            <a:ext cx="40089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528876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1D3-6528-48D3-A880-FCAC5E5B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089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1480" y="197928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1480" y="528876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87C-F582-4256-80B3-5916D1AF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1480" y="197928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5288760"/>
            <a:ext cx="82155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F4F-0712-46D6-9668-78B8FFAE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155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419880"/>
            <a:ext cx="22827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19880"/>
            <a:ext cx="31305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000" y="6419880"/>
            <a:ext cx="22827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86B6A-4E57-4C32-BBC7-BE992C865DA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040360" y="539640"/>
            <a:ext cx="4500360" cy="3225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30200" y="3780000"/>
            <a:ext cx="4610160" cy="324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040360" y="3780000"/>
            <a:ext cx="4500360" cy="32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438120" y="539640"/>
            <a:ext cx="460224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2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#ppt_#ppt_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#ppt_#ppt_#ppt_#ppt_#ppt_#ppt_#ppt_#ppt_#ppt_#ppt_#ppt_#ppt_#ppt_#ppt_#ppt_#ppt_#ppt_#ppt_#ppt_#ppt_#ppt_#ppt_#ppt_#ppt_#ppt_#ppt_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42" fill="hold">
                                          <p:stCondLst>
                                            <p:cond delay="4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#ppt_#ppt_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#ppt_#ppt_#ppt_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21" fill="hold">
                                          <p:stCondLst>
                                            <p:cond delay="88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#ppt_#ppt_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#ppt_#ppt_#ppt_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9" fill="hold">
                                          <p:stCondLst>
                                            <p:cond delay="110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#ppt_#ppt_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#ppt_#ppt_#ppt_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7" fill="hold">
                                          <p:stCondLst>
                                            <p:cond delay="433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1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7" fill="hold">
                                          <p:stCondLst>
                                            <p:cond delay="87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10" fill="hold">
                                          <p:stCondLst>
                                            <p:cond delay="89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7" fill="hold">
                                          <p:stCondLst>
                                            <p:cond delay="109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10" fill="hold">
                                          <p:stCondLst>
                                            <p:cond delay="11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7" fill="hold">
                                          <p:stCondLst>
                                            <p:cond delay="120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10" fill="hold">
                                          <p:stCondLst>
                                            <p:cond delay="122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dur="indefinite" fill="hold">
                            <p:stCondLst>
                              <p:cond delay="1332"/>
                            </p:stCondLst>
                            <p:childTnLst>
                              <p:par>
                                <p:cTn id="22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dur="indefinite" fill="hold">
                            <p:stCondLst>
                              <p:cond delay="4332"/>
                            </p:stCondLst>
                            <p:childTnLst>
                              <p:par>
                                <p:cTn id="2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6332"/>
                            </p:stCondLst>
                            <p:childTnLst>
                              <p:par>
                                <p:cTn id="3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580680"/>
            <a:ext cx="88297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23dc"/>
                </a:solidFill>
                <a:latin typeface="Arial"/>
              </a:rPr>
              <a:t>We wish you a Merry Christmas!</a:t>
            </a:r>
            <a:br>
              <a:rPr sz="4400"/>
            </a:br>
            <a:r>
              <a:rPr b="1" lang="ru-RU" sz="4400" spc="-1" strike="noStrike">
                <a:solidFill>
                  <a:srgbClr val="ff950e"/>
                </a:solidFill>
                <a:latin typeface="Arial"/>
              </a:rPr>
              <a:t>We wish you a Merry Christmas!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We wish you a Merry Christmas!</a:t>
            </a:r>
            <a:br>
              <a:rPr sz="4400"/>
            </a:br>
            <a:r>
              <a:rPr b="1" lang="ru-RU" sz="4400" spc="-1" strike="noStrike">
                <a:solidFill>
                  <a:srgbClr val="00ae00"/>
                </a:solidFill>
                <a:latin typeface="Arial"/>
              </a:rPr>
              <a:t>And a Happy New Year!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3419640"/>
            <a:ext cx="972036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759280" y="981000"/>
            <a:ext cx="2160720" cy="3159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416320" y="3240000"/>
            <a:ext cx="3722400" cy="2884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800360" y="1160640"/>
            <a:ext cx="2160360" cy="297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7380360" cy="755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42520" y="1139400"/>
            <a:ext cx="8831160" cy="76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Dear …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hello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How are ...?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My ... is Bob. I'm 8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I love ... family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I'm a ... boy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I ... my little sister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Please ... I have a book and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a toy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... wishes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Bob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020000" y="1619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7380360" y="3421080"/>
            <a:ext cx="869760" cy="925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619280" y="3419640"/>
            <a:ext cx="1079640" cy="72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619280" y="5398920"/>
            <a:ext cx="860400" cy="90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7199280" y="540072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1619280" y="1440000"/>
            <a:ext cx="1033560" cy="87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7380360" cy="7559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2520" y="1139400"/>
            <a:ext cx="8831160" cy="76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Dear Santa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hello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How are you?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My name is Bob. I'm 8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I love my family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I'm a good boy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I love my little sister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Please can I have a book and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a toy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Best wishes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Bob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020000" y="1619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380360" y="3421080"/>
            <a:ext cx="869760" cy="925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619280" y="3419640"/>
            <a:ext cx="1079640" cy="720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619280" y="5398920"/>
            <a:ext cx="860400" cy="90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7199280" y="540072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619280" y="1440000"/>
            <a:ext cx="1033560" cy="87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18072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99ff"/>
                </a:solidFill>
                <a:latin typeface="Arial Unicode MS"/>
              </a:rPr>
              <a:t>CHRISTMA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60360" y="1440000"/>
            <a:ext cx="9180360" cy="57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70120" y="1800360"/>
            <a:ext cx="885024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ae00"/>
                </a:solidFill>
                <a:latin typeface="Arial"/>
                <a:ea typeface="Arial Unicode MS"/>
              </a:rPr>
              <a:t>Christmas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539640"/>
            <a:ext cx="41403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9760" y="179280"/>
            <a:ext cx="885024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950e"/>
                </a:solidFill>
                <a:latin typeface="Arial"/>
                <a:ea typeface="Arial Unicode MS"/>
              </a:rPr>
              <a:t>Stoc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1260360"/>
            <a:ext cx="882036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9760" y="184320"/>
            <a:ext cx="885024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 Unicode MS"/>
              </a:rPr>
              <a:t>Santa Cla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079640"/>
            <a:ext cx="9082080" cy="59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85760"/>
            <a:ext cx="88488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84700"/>
                </a:solidFill>
                <a:latin typeface="Arial"/>
                <a:ea typeface="Arial Unicode MS"/>
              </a:rPr>
              <a:t>Сhristmas Din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60360" y="1260360"/>
            <a:ext cx="921060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-2558880"/>
            <a:ext cx="8847000" cy="74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66cc"/>
                </a:solidFill>
                <a:latin typeface="Arial"/>
              </a:rPr>
              <a:t>star</a:t>
            </a: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944794"/>
                </a:solidFill>
                <a:latin typeface="Arial"/>
              </a:rPr>
              <a:t>angel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ae00"/>
                </a:solidFill>
                <a:latin typeface="Arial"/>
              </a:rPr>
              <a:t>Christmas Tree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Santa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400" spc="-1" strike="noStrike">
                <a:solidFill>
                  <a:srgbClr val="00dcff"/>
                </a:solidFill>
                <a:latin typeface="Arial"/>
              </a:rPr>
              <a:t>deer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ff950e"/>
                </a:solidFill>
                <a:latin typeface="Arial"/>
              </a:rPr>
              <a:t>   bells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1000" cy="63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20720" y="1450800"/>
            <a:ext cx="1619280" cy="178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060720" y="1335240"/>
            <a:ext cx="1695600" cy="190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659640" y="1260360"/>
            <a:ext cx="1439640" cy="19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900000" y="4319640"/>
            <a:ext cx="1619280" cy="216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4140360" y="4500720"/>
            <a:ext cx="1328400" cy="178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7199280" y="4680000"/>
            <a:ext cx="144000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423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420e"/>
                </a:solidFill>
                <a:uFillTx/>
                <a:latin typeface="Arial"/>
              </a:rPr>
              <a:t>Рlans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9640" y="1800360"/>
            <a:ext cx="3780000" cy="377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319640" y="4140360"/>
            <a:ext cx="2160360" cy="2339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840360" y="4140360"/>
            <a:ext cx="2340000" cy="233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319640" y="1584360"/>
            <a:ext cx="2160360" cy="21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840360" y="1619280"/>
            <a:ext cx="234000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x+(cos(-2*pi*(1-$))*-#ppt_#ppt_#ppt_#ppt_#ppt_#ppt_#ppt_#ppt_#ppt_#ppt_#ppt_#ppt_#ppt_#ppt_#ppt_#ppt_#ppt_#ppt_#ppt_#ppt_#ppt_#ppt_#ppt_#ppt_x-sin(-2*pi*(1-$))*(1-#ppt_#ppt_#ppt_#ppt_#ppt_#ppt_#ppt_#ppt_#ppt_#ppt_#ppt_#ppt_#ppt_#ppt_#ppt_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#ppt_x+(cos(-2*pi*(1-$))*-#ppt_#ppt_#ppt_#ppt_#ppt_#ppt_#ppt_#ppt_#ppt_#ppt_#ppt_#ppt_#ppt_#ppt_#ppt_#ppt_#ppt_#ppt_#ppt_#ppt_#ppt_#ppt_#ppt_#ppt_x-sin(-2*pi*(1-$))*(1-#ppt_#ppt_#ppt_#ppt_#ppt_#ppt_#ppt_#ppt_#ppt_#ppt_#ppt_#ppt_#ppt_#ppt_#ppt_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y+(sin(-2*pi*(1-$))*-#ppt_#ppt_#ppt_#ppt_#ppt_#ppt_#ppt_#ppt_#ppt_#ppt_#ppt_#ppt_#ppt_#ppt_#ppt_#ppt_#ppt_#ppt_#ppt_#ppt_#ppt_#ppt_#ppt_#ppt_x+cos(-2*pi*(1-$))*(1-#ppt_#ppt_#ppt_#ppt_#ppt_#ppt_#ppt_#ppt_#ppt_#ppt_#ppt_#ppt_#ppt_#ppt_#ppt_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#ppt_y+(sin(-2*pi*(1-$))*-#ppt_#ppt_#ppt_#ppt_#ppt_#ppt_#ppt_#ppt_#ppt_#ppt_#ppt_#ppt_#ppt_#ppt_#ppt_#ppt_#ppt_#ppt_#ppt_#ppt_#ppt_#ppt_#ppt_#ppt_x+cos(-2*pi*(1-$))*(1-#ppt_#ppt_#ppt_#ppt_#ppt_#ppt_#ppt_#ppt_#ppt_#ppt_#ppt_#ppt_#ppt_#ppt_#ppt_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x+(cos(-2*pi*(1-$))*-#ppt_#ppt_#ppt_#ppt_#ppt_#ppt_#ppt_#ppt_#ppt_#ppt_#ppt_#ppt_#ppt_#ppt_#ppt_#ppt_#ppt_#ppt_#ppt_#ppt_#ppt_#ppt_#ppt_#ppt_x-sin(-2*pi*(1-$))*(1-#ppt_#ppt_#ppt_#ppt_#ppt_#ppt_#ppt_#ppt_#ppt_#ppt_#ppt_#ppt_#ppt_#ppt_#ppt_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#ppt_x+(cos(-2*pi*(1-$))*-#ppt_#ppt_#ppt_#ppt_#ppt_#ppt_#ppt_#ppt_#ppt_#ppt_#ppt_#ppt_#ppt_#ppt_#ppt_#ppt_#ppt_#ppt_#ppt_#ppt_#ppt_#ppt_#ppt_#ppt_x-sin(-2*pi*(1-$))*(1-#ppt_#ppt_#ppt_#ppt_#ppt_#ppt_#ppt_#ppt_#ppt_#ppt_#ppt_#ppt_#ppt_#ppt_#ppt_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y+(sin(-2*pi*(1-$))*-#ppt_#ppt_#ppt_#ppt_#ppt_#ppt_#ppt_#ppt_#ppt_#ppt_#ppt_#ppt_#ppt_#ppt_#ppt_#ppt_#ppt_#ppt_#ppt_#ppt_#ppt_#ppt_#ppt_#ppt_x+cos(-2*pi*(1-$))*(1-#ppt_#ppt_#ppt_#ppt_#ppt_#ppt_#ppt_#ppt_#ppt_#ppt_#ppt_#ppt_#ppt_#ppt_#ppt_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#ppt_y+(sin(-2*pi*(1-$))*-#ppt_#ppt_#ppt_#ppt_#ppt_#ppt_#ppt_#ppt_#ppt_#ppt_#ppt_#ppt_#ppt_#ppt_#ppt_#ppt_#ppt_#ppt_#ppt_#ppt_#ppt_#ppt_#ppt_#ppt_x+cos(-2*pi*(1-$))*(1-#ppt_#ppt_#ppt_#ppt_#ppt_#ppt_#ppt_#ppt_#ppt_#ppt_#ppt_#ppt_#ppt_#ppt_#ppt_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x+(cos(-2*pi*(1-$))*-#ppt_#ppt_#ppt_#ppt_#ppt_#ppt_#ppt_#ppt_#ppt_#ppt_#ppt_#ppt_#ppt_#ppt_#ppt_#ppt_#ppt_#ppt_#ppt_#ppt_#ppt_#ppt_#ppt_#ppt_x-sin(-2*pi*(1-$))*(1-#ppt_#ppt_#ppt_#ppt_#ppt_#ppt_#ppt_#ppt_#ppt_#ppt_#ppt_#ppt_#ppt_#ppt_#ppt_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#ppt_x+(cos(-2*pi*(1-$))*-#ppt_#ppt_#ppt_#ppt_#ppt_#ppt_#ppt_#ppt_#ppt_#ppt_#ppt_#ppt_#ppt_#ppt_#ppt_#ppt_#ppt_#ppt_#ppt_#ppt_#ppt_#ppt_#ppt_#ppt_x-sin(-2*pi*(1-$))*(1-#ppt_#ppt_#ppt_#ppt_#ppt_#ppt_#ppt_#ppt_#ppt_#ppt_#ppt_#ppt_#ppt_#ppt_#ppt_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y+(sin(-2*pi*(1-$))*-#ppt_#ppt_#ppt_#ppt_#ppt_#ppt_#ppt_#ppt_#ppt_#ppt_#ppt_#ppt_#ppt_#ppt_#ppt_#ppt_#ppt_#ppt_#ppt_#ppt_#ppt_#ppt_#ppt_#ppt_x+cos(-2*pi*(1-$))*(1-#ppt_#ppt_#ppt_#ppt_#ppt_#ppt_#ppt_#ppt_#ppt_#ppt_#ppt_#ppt_#ppt_#ppt_#ppt_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#ppt_y+(sin(-2*pi*(1-$))*-#ppt_#ppt_#ppt_#ppt_#ppt_#ppt_#ppt_#ppt_#ppt_#ppt_#ppt_#ppt_#ppt_#ppt_#ppt_#ppt_#ppt_#ppt_#ppt_#ppt_#ppt_#ppt_#ppt_#ppt_x+cos(-2*pi*(1-$))*(1-#ppt_#ppt_#ppt_#ppt_#ppt_#ppt_#ppt_#ppt_#ppt_#ppt_#ppt_#ppt_#ppt_#ppt_#ppt_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x+(cos(-2*pi*(1-$))*-#ppt_#ppt_#ppt_#ppt_#ppt_#ppt_#ppt_#ppt_#ppt_#ppt_#ppt_#ppt_#ppt_#ppt_#ppt_#ppt_#ppt_#ppt_#ppt_#ppt_#ppt_#ppt_#ppt_x-sin(-2*pi*(1-$))*(1-#ppt_#ppt_#ppt_#ppt_#ppt_#ppt_#ppt_#ppt_#ppt_#ppt_#ppt_#ppt_#ppt_#ppt_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x+(cos(-2*pi*(1-$))*-#ppt_#ppt_#ppt_#ppt_#ppt_#ppt_#ppt_#ppt_#ppt_#ppt_#ppt_#ppt_#ppt_#ppt_#ppt_#ppt_#ppt_#ppt_#ppt_#ppt_#ppt_#ppt_#ppt_x-sin(-2*pi*(1-$))*(1-#ppt_#ppt_#ppt_#ppt_#ppt_#ppt_#ppt_#ppt_#ppt_#ppt_#ppt_#ppt_#ppt_#ppt_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y+(sin(-2*pi*(1-$))*-#ppt_#ppt_#ppt_#ppt_#ppt_#ppt_#ppt_#ppt_#ppt_#ppt_#ppt_#ppt_#ppt_#ppt_#ppt_#ppt_#ppt_#ppt_#ppt_#ppt_#ppt_#ppt_#ppt_x+cos(-2*pi*(1-$))*(1-#ppt_#ppt_#ppt_#ppt_#ppt_#ppt_#ppt_#ppt_#ppt_#ppt_#ppt_#ppt_#ppt_#ppt_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y+(sin(-2*pi*(1-$))*-#ppt_#ppt_#ppt_#ppt_#ppt_#ppt_#ppt_#ppt_#ppt_#ppt_#ppt_#ppt_#ppt_#ppt_#ppt_#ppt_#ppt_#ppt_#ppt_#ppt_#ppt_#ppt_#ppt_x+cos(-2*pi*(1-$))*(1-#ppt_#ppt_#ppt_#ppt_#ppt_#ppt_#ppt_#ppt_#ppt_#ppt_#ppt_#ppt_#ppt_#ppt_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60360" y="179280"/>
            <a:ext cx="9180360" cy="719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10:50:53Z</dcterms:created>
  <dc:creator/>
  <dc:description/>
  <dc:language>en-US</dc:language>
  <cp:lastModifiedBy/>
  <cp:revision>1</cp:revision>
  <dc:subject/>
  <dc:title/>
</cp:coreProperties>
</file>