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7.jpeg" ContentType="image/jpeg"/>
  <Override PartName="/ppt/media/image17.gif" ContentType="image/gif"/>
  <Override PartName="/ppt/media/image7.jpeg" ContentType="image/jpeg"/>
  <Override PartName="/ppt/media/image28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12.gif" ContentType="image/gif"/>
  <Override PartName="/ppt/media/image24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33.png" ContentType="image/png"/>
  <Override PartName="/ppt/media/image34.png" ContentType="image/png"/>
  <Override PartName="/ppt/media/image13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4.gif" ContentType="image/gif"/>
  <Override PartName="/ppt/media/image16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BE2-59F6-4469-B002-9783EEB3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28876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0EE-9B6E-4C66-9971-B0216BD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148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83F-2FC0-4816-BC03-242CD517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520" y="197928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520" y="5288760"/>
            <a:ext cx="264528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967-0FDE-41CF-9DF7-7B9BAB66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CC9-C52E-491F-9867-6378B3E1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714-D029-426C-BDF1-BB22BD1B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325-6ECC-45B6-A14E-848381C2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470-CF0B-4A47-A5E1-68389B3A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06160"/>
            <a:ext cx="87915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800-C54D-461F-A0F8-C3ED4347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6E2-77FB-4518-8879-1D82B9E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1480" y="528876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396-599A-43C3-B366-8E61034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1480" y="1979280"/>
            <a:ext cx="40089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288760"/>
            <a:ext cx="8215560" cy="302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A9D-3282-4F7E-B87B-035EA608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8791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15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880"/>
            <a:ext cx="22827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880"/>
            <a:ext cx="3130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880"/>
            <a:ext cx="22827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34232-DE7D-4C3B-8E5F-3C02939B5E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40360" y="539640"/>
            <a:ext cx="4500360" cy="3225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0200" y="3780000"/>
            <a:ext cx="461016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040360" y="3780000"/>
            <a:ext cx="450036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38120" y="539640"/>
            <a:ext cx="46022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42" fill="hold">
                                          <p:stCondLst>
                                            <p:cond delay="4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1" fill="hold">
                                          <p:stCondLst>
                                            <p:cond delay="88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9" fill="hold">
                                          <p:stCondLst>
                                            <p:cond delay="11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#ppt_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#ppt_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7" fill="hold">
                                          <p:stCondLst>
                                            <p:cond delay="43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1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7" fill="hold">
                                          <p:stCondLst>
                                            <p:cond delay="8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10" fill="hold">
                                          <p:stCondLst>
                                            <p:cond delay="8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7" fill="hold">
                                          <p:stCondLst>
                                            <p:cond delay="109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10" fill="hold">
                                          <p:stCondLst>
                                            <p:cond delay="11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7" fill="hold">
                                          <p:stCondLst>
                                            <p:cond delay="120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10" fill="hold">
                                          <p:stCondLst>
                                            <p:cond delay="122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1332"/>
                            </p:stCondLst>
                            <p:childTnLst>
                              <p:par>
                                <p:cTn id="2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4332"/>
                            </p:stCondLst>
                            <p:childTnLst>
                              <p:par>
                                <p:cTn id="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6332"/>
                            </p:stCondLst>
                            <p:childTnLst>
                              <p:par>
                                <p:cTn id="3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80680"/>
            <a:ext cx="88297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23dc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ff950e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We wish you a Merry Christmas!</a:t>
            </a:r>
            <a:br>
              <a:rPr sz="4400"/>
            </a:b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And a Happy New Year!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3419640"/>
            <a:ext cx="972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59280" y="981000"/>
            <a:ext cx="2160720" cy="315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16320" y="3240000"/>
            <a:ext cx="3722400" cy="2884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800360" y="1160640"/>
            <a:ext cx="216036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38036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2520" y="1139400"/>
            <a:ext cx="8831160" cy="76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Dear …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ello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ow are ...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My ... is Bob. I'm 8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... famil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'm a ... b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... my little sister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Please ... I have a book and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a t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.. wishes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ob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380360" y="3421080"/>
            <a:ext cx="869760" cy="9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19280" y="3419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619280" y="5398920"/>
            <a:ext cx="860400" cy="9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199280" y="54007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1619280" y="1440000"/>
            <a:ext cx="103356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380360" cy="755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2520" y="1139400"/>
            <a:ext cx="8831160" cy="76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Dear Santa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ello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How are you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My name is Bob. I'm 8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my famil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'm a good b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I love my little sister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Please can I have a book and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a toy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est wishes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Bob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3421080"/>
            <a:ext cx="86976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619280" y="34196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619280" y="5398920"/>
            <a:ext cx="860400" cy="90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199280" y="54007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619280" y="1440000"/>
            <a:ext cx="103356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8072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99ff"/>
                </a:solidFill>
                <a:latin typeface="Arial Unicode MS"/>
              </a:rPr>
              <a:t>CHRISTM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9180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70120" y="180036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ae00"/>
                </a:solidFill>
                <a:latin typeface="Arial"/>
                <a:ea typeface="Arial Unicode MS"/>
              </a:rPr>
              <a:t>Christmas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414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9760" y="17928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950e"/>
                </a:solidFill>
                <a:latin typeface="Arial"/>
                <a:ea typeface="Arial Unicode MS"/>
              </a:rPr>
              <a:t>Stoc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0360"/>
            <a:ext cx="882036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9760" y="184320"/>
            <a:ext cx="8850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 Unicode MS"/>
              </a:rPr>
              <a:t>Santa Cl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079640"/>
            <a:ext cx="908208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85760"/>
            <a:ext cx="8848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84700"/>
                </a:solidFill>
                <a:latin typeface="Arial"/>
                <a:ea typeface="Arial Unicode MS"/>
              </a:rPr>
              <a:t>Сhristmas 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1260360"/>
            <a:ext cx="921060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2558880"/>
            <a:ext cx="8847000" cy="74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star</a:t>
            </a: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944794"/>
                </a:solidFill>
                <a:latin typeface="Arial"/>
              </a:rPr>
              <a:t>angel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Christmas Tre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Sant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00dcff"/>
                </a:solidFill>
                <a:latin typeface="Arial"/>
              </a:rPr>
              <a:t>deer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950e"/>
                </a:solidFill>
                <a:latin typeface="Arial"/>
              </a:rPr>
              <a:t>   bells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100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0720" y="1450800"/>
            <a:ext cx="1619280" cy="178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60720" y="1335240"/>
            <a:ext cx="169560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659640" y="1260360"/>
            <a:ext cx="143964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900000" y="4319640"/>
            <a:ext cx="1619280" cy="21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140360" y="4500720"/>
            <a:ext cx="1328400" cy="178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199280" y="4680000"/>
            <a:ext cx="144000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42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420e"/>
                </a:solidFill>
                <a:uFillTx/>
                <a:latin typeface="Arial"/>
              </a:rPr>
              <a:t>Рlan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3780000" cy="37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19640" y="4140360"/>
            <a:ext cx="2160360" cy="233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40360" y="4140360"/>
            <a:ext cx="2340000" cy="233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319640" y="1584360"/>
            <a:ext cx="2160360" cy="21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840360" y="1619280"/>
            <a:ext cx="234000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x+(cos(-2*pi*(1-$))*-#ppt_#ppt_#ppt_#ppt_#ppt_#ppt_#ppt_#ppt_#ppt_#ppt_#ppt_#ppt_#ppt_#ppt_#ppt_#ppt_#ppt_#ppt_#ppt_#ppt_#ppt_#ppt_#ppt_#ppt_x-sin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#ppt_y+(sin(-2*pi*(1-$))*-#ppt_#ppt_#ppt_#ppt_#ppt_#ppt_#ppt_#ppt_#ppt_#ppt_#ppt_#ppt_#ppt_#ppt_#ppt_#ppt_#ppt_#ppt_#ppt_#ppt_#ppt_#ppt_#ppt_#ppt_x+cos(-2*pi*(1-$))*(1-#ppt_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x+(cos(-2*pi*(1-$))*-#ppt_#ppt_#ppt_#ppt_#ppt_#ppt_#ppt_#ppt_#ppt_#ppt_#ppt_#ppt_#ppt_#ppt_#ppt_#ppt_#ppt_#ppt_#ppt_#ppt_#ppt_#ppt_#ppt_x-sin(-2*pi*(1-$))*(1-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x+(cos(-2*pi*(1-$))*-#ppt_#ppt_#ppt_#ppt_#ppt_#ppt_#ppt_#ppt_#ppt_#ppt_#ppt_#ppt_#ppt_#ppt_#ppt_#ppt_#ppt_#ppt_#ppt_#ppt_#ppt_#ppt_#ppt_x-sin(-2*pi*(1-$))*(1-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#ppt_#ppt_#ppt_#ppt_#ppt_#ppt_#ppt_#ppt_#ppt_#ppt_#ppt_#ppt_#ppt_#ppt_y+(sin(-2*pi*(1-$))*-#ppt_#ppt_#ppt_#ppt_#ppt_#ppt_#ppt_#ppt_#ppt_#ppt_#ppt_#ppt_#ppt_#ppt_#ppt_#ppt_#ppt_#ppt_#ppt_#ppt_#ppt_#ppt_#ppt_x+cos(-2*pi*(1-$))*(1-#ppt_#ppt_#ppt_#ppt_#ppt_#ppt_#ppt_#ppt_#ppt_#ppt_#ppt_#ppt_#ppt_#ppt_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#ppt_#ppt_#ppt_#ppt_#ppt_#ppt_#ppt_#ppt_#ppt_#ppt_#ppt_#ppt_#ppt_#ppt_y+(sin(-2*pi*(1-$))*-#ppt_#ppt_#ppt_#ppt_#ppt_#ppt_#ppt_#ppt_#ppt_#ppt_#ppt_#ppt_#ppt_#ppt_#ppt_#ppt_#ppt_#ppt_#ppt_#ppt_#ppt_#ppt_#ppt_x+cos(-2*pi*(1-$))*(1-#ppt_#ppt_#ppt_#ppt_#ppt_#ppt_#ppt_#ppt_#ppt_#ppt_#ppt_#ppt_#ppt_#ppt_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918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0:50:53Z</dcterms:created>
  <dc:creator/>
  <dc:description/>
  <dc:language>en-US</dc:language>
  <cp:lastModifiedBy/>
  <cp:revision>1</cp:revision>
  <dc:subject/>
  <dc:title/>
</cp:coreProperties>
</file>