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56F-BF4F-4AB8-BFA2-FC1FA86E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884-98D6-4D6D-BB10-35DA66B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E678A-1691-49FF-9098-B3BBF0B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3BF80-E825-4310-A9A0-644BF74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5C1B-E1A0-4E7F-9077-DF8E4F2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6070-CA6F-45BA-87DA-B4F7B7B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D104E-0D4E-4CB4-9FCF-3BA9409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93BB5-9D2D-4E54-8FBA-55D488B8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74B6F-C912-446D-A13D-C5EF6FEC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0EF07-FB1E-43AF-AF4D-A31A585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6646-C32D-4D64-A7DA-582E568B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23638-7A52-4EA2-A177-6F8E401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490-D433-4D60-B373-C2A5FA74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49461-C2DA-4499-A64C-1426A15F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0A495-6EF1-4EAB-87A0-0A564005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ECDE-5FF9-4449-9740-DFECACD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46568-24E9-4363-A4DC-A2986E45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44D2B-8B7C-4296-A0D8-6A8C0D8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BEFB-EE68-428C-881C-35C5AE3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2600D-D5DB-4AB8-A544-26BFCE5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5CE7E-83F5-4ECD-BDA1-699A729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D1EBA-B40F-4F27-BAEC-96763A1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A30A-2151-4259-9BAD-DEA63BA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2C2-F5E1-4D58-85FA-C270C87D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CD990-DE07-430A-B201-1CBE9693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4A8E-50F8-41C9-B5F9-BC3E3253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56E89-6612-4A0D-AFF4-0B16601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CACE0-4A31-4DE3-A0F8-04F15A6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3B415-D02A-4D1F-BB26-2C77C4C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D1D95-63DE-455D-B49C-5AB35A8C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99A3D-B42B-49CA-8523-6B851B1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D7908-9E5C-4D27-8D56-A038426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2F682-1E33-4942-AF98-82643FB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D78FD-49E4-4F87-9627-A1FB374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CAA9-460F-478E-9DB8-DADD712E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36BC9-08A4-46EA-9DDD-A5268C7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9EC62-7AA4-403E-AE73-DA5E531E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3847D-8FC0-4768-BC2E-77B6766A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D4E70-9DB2-439A-B114-7363377E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80E85-D75C-4C33-AD8D-F929356C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EFECE-90CB-47D8-AC11-92DC19C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66EF4-7B1F-4FF1-A18F-A84879DA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1001B-AC19-40DF-9C02-391654FC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55542-8185-4AFC-A36A-3EC5D73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8358-EB36-440A-A814-E9FBB10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72D-0A57-4982-832E-CBA63B2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2EAAC-B895-4230-A561-2C7CBE6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473B-EAEC-41B0-B290-8667365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EDD3C-CD60-4218-9A6D-4F37A41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710EA-2040-44CE-8B0A-BF98AC44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DC46A-DA38-40FD-B08B-DD9E61C7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CA9F0-630D-4474-9C83-61F9CA5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A4589-D5CF-47AF-BD4B-C33B283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0A7E0-0D97-4D76-A24A-6B9652B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181F5-F5A2-4812-A108-1BF9B48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4CB80-4FD4-45D3-8264-9A7AEC34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1D8-F835-4240-B50F-77E44AA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9D2AE-63D0-443F-B901-191B7EA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9E030-E59C-4067-9EAC-B5C4126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A1139-D966-4CFF-AD18-CE2671F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FF04A-7D7A-4B94-B32B-4E9750A9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096E3-2CE2-4980-B36D-574DCA2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2A9BB-FE10-4D2F-902A-ACF1D420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7BC8A-6454-496F-84B4-9778E834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7BF5-6F00-4E79-A2DF-C2F6F96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AC25-406C-4B8E-9AE8-7414284A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C5C-1692-4BBC-A59A-21795B3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D538-9129-40F1-8CD0-C642316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893-F98E-414C-9DCD-E374EA0B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9B7E-27D3-4FB3-A27F-934B1F8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FF7-C227-4F4F-9B10-A5C8B14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3056-225E-475C-BB92-2A599031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E62D-549D-48E1-903E-7D785192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3131-6A45-4095-A20C-B3A56A2B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B46B-AF25-4E74-AAAA-DD754BB4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D096-A272-4A69-BA91-5A56A573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AB1A-1B07-4C6A-930F-C1AD86A7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F35A-38F3-4DE3-8151-6F25F54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E151-DADF-48B5-B0BE-A0CF400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DF1-58BF-4F5A-97D8-DE31C4C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66B2-C251-406E-B3C4-254C6048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533C-9EDD-41B7-A248-4FAA4ED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A2B1-9F1E-4694-90E6-B7AB2DB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5E01-26AD-4974-8296-1271287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F087-E051-4B11-91AE-B1564DA0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A919-C666-4805-BACB-2FD4ABE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408D-96B3-426E-B3DD-76032E29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73F8-FD49-48B6-9A15-B27A0B6F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C84E-69CC-4263-873E-C3874548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02CB-DE17-495D-A679-5CDFC7F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A2C-20F8-479C-B009-F61A1BD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4D15-8A60-4F97-856B-93AB57D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0901-A76A-44D9-8AAE-73A560F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84E8-FD9C-43F1-B076-0F2CC40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43C3-FCEB-4382-96EA-6AC6F767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5561-6B73-4D2E-8987-0ACA1CA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89C66-ABEE-4A78-A5FD-5E0923C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7CEC4-A51F-4183-A65C-5C19BDE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0337-A064-427D-956E-76601A2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D761-62E5-40E4-9174-80431CFA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ED1E-4EFB-4E0D-AAF8-AB1F4055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482-6A4E-4896-BF25-27426BAD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7832-7DF1-4568-AF2E-7C75AA5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4898-799F-4882-8A71-A9E39E6B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5119-1647-4D02-9056-0FA24B7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AF09-2971-4BAD-AD9F-C473B27C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FAC2A-FDF8-48D3-B6C6-0388934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BAF4-D0B9-4542-A563-A73FBBD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163F-24F9-48F1-922E-8784322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20780-3225-4731-AD40-48E4215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0073-E1EC-4DD6-8BBD-C1F3232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193C-A689-4E6A-9E23-3849A4D2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0F8-3F04-4138-ABE9-558D5008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B5F3-4E4A-40A1-A786-F865B3CE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FD54-D60C-4BE5-AAEE-C046B6B2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0B82-A4B4-49C8-8E26-0D7564C3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8EC13-0335-42B9-91C1-D1D4E31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55B88-3E49-4289-95AF-07CFB04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3B4D-BE89-48C0-9F9B-682FD43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A24C-7289-4962-B5DD-1C310E22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3AC0-51B4-49F3-994B-BBF36D1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7E2C-BAEE-4DA1-893B-1670378A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E61A-9ED1-4419-86D8-FE9B923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08A-BDE3-4C38-B979-3D9425A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2CED-E937-45E7-A480-91D1FA5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D7BB-DA22-4E02-97BE-2259D22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25AA-B716-4ABB-8D52-CF8D3CCF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CF7B-79D6-4C13-97D5-51DFC43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A6BBD-5EF2-4B54-AFCA-9744995E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A9D6-3A0D-4D78-A3FD-2BF8D0BA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BECF4-A1E0-426E-A3AB-96200CD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2549-3DF4-4C77-A8F1-EFD5A1AA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808E-D3EB-48E3-BF58-9F9378E1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28ABC-5B16-406B-B696-6F44828E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4BC-506E-4C35-B4EC-C42A08F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FFBD-3ACE-4A74-9CE7-DD59C15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79CB-5D48-4480-BB86-19E2D94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6622-18D8-484E-895A-2079546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A8347-70F2-4072-B477-45A60D12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93989-605F-44DA-9EF6-BED87B2D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9C6AF-1FFB-4736-9621-579FD8B6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CE664-2176-49AB-8904-8006211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4F62-71FA-441A-9A47-4DA08EB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815A3-0754-4B13-A20E-8ABC6C8F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C2126-E82B-4090-829B-49F50AB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B8E-A5E8-4628-A61E-1F69029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012FE-91B9-4CE0-A1F9-2BCCCD5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AD0C-C957-4D62-A983-7E0A7C2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569A-EF6D-43B4-966F-38B60FE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B36E-87AC-4203-B8B5-FEBA573A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411B-E83D-48D7-B886-74DC5B0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D43C-18E6-42A7-B6EC-A832151E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0F5E-E960-40BD-B606-F4E18EB3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518E8-0D6A-4A65-9512-4C19C393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B3BE2-22BE-49A7-AB45-E6DEABB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4477-687D-4740-A89E-A79B4262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F4C2-3EC7-4AA3-8A57-013EF398A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8DA0-671B-4A81-BC7B-0AF1220BF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3D99-E2BB-4727-BE0B-7805754AF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928-17D6-480F-BC79-20D900A11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D4F-AA6F-485D-A508-562EE6779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C4E-7029-4AF6-8E13-A55F0EAAE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7C9E-AC71-457C-AF65-19CD42119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226-941D-4D20-9008-AC75D3452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32BB-305B-466C-AEFB-56EC7F8CE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361-713F-4275-B403-5F9ACBD51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8E31-1012-4178-B55D-CAC4CBDEE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D7C-9AE4-4997-A86E-9511E3E6D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C0B-D66D-46D5-A1E1-253EB4395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slide" Target="slide1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11">
            <a:hlinkClick r:id="rId1" action="ppaction://hlinksldjump"/>
          </p:cNvPr>
          <p:cNvSpPr/>
          <p:nvPr/>
        </p:nvSpPr>
        <p:spPr>
          <a:xfrm>
            <a:off x="178596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>
            <a:hlinkClick r:id="rId2" action="ppaction://hlinksldjump"/>
          </p:cNvPr>
          <p:cNvSpPr/>
          <p:nvPr/>
        </p:nvSpPr>
        <p:spPr>
          <a:xfrm>
            <a:off x="5929200" y="928800"/>
            <a:ext cx="1500480" cy="428400"/>
          </a:xfrm>
          <a:custGeom>
            <a:avLst/>
            <a:gdLst>
              <a:gd name="textAreaLeft" fmla="*/ 27720 w 1500480"/>
              <a:gd name="textAreaRight" fmla="*/ 1472760 w 15004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609" h="21600">
                <a:moveTo>
                  <a:pt x="0" y="0"/>
                </a:moveTo>
                <a:lnTo>
                  <a:pt x="75609" y="0"/>
                </a:lnTo>
                <a:lnTo>
                  <a:pt x="75609" y="21600"/>
                </a:lnTo>
                <a:lnTo>
                  <a:pt x="0" y="21600"/>
                </a:lnTo>
                <a:close/>
              </a:path>
              <a:path fill="lightenLess" w="75609" h="21600">
                <a:moveTo>
                  <a:pt x="0" y="0"/>
                </a:moveTo>
                <a:lnTo>
                  <a:pt x="75609" y="0"/>
                </a:lnTo>
                <a:lnTo>
                  <a:pt x="74209" y="1400"/>
                </a:lnTo>
                <a:lnTo>
                  <a:pt x="1400" y="1400"/>
                </a:lnTo>
                <a:close/>
              </a:path>
              <a:path fill="darken" w="75609" h="21600">
                <a:moveTo>
                  <a:pt x="75609" y="0"/>
                </a:moveTo>
                <a:lnTo>
                  <a:pt x="75609" y="21600"/>
                </a:lnTo>
                <a:lnTo>
                  <a:pt x="74209" y="20200"/>
                </a:lnTo>
                <a:lnTo>
                  <a:pt x="74209" y="1400"/>
                </a:lnTo>
                <a:close/>
              </a:path>
              <a:path fill="darkenLess" w="75609" h="21600">
                <a:moveTo>
                  <a:pt x="75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09" y="20200"/>
                </a:lnTo>
                <a:close/>
              </a:path>
              <a:path fill="lighten" w="75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>
            <a:hlinkClick r:id="rId3" action="ppaction://hlinksldjump"/>
          </p:cNvPr>
          <p:cNvSpPr/>
          <p:nvPr/>
        </p:nvSpPr>
        <p:spPr>
          <a:xfrm>
            <a:off x="314316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701640" y="1697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44">
            <a:hlinkClick r:id="rId4" action="ppaction://hlinksldjump"/>
          </p:cNvPr>
          <p:cNvSpPr/>
          <p:nvPr/>
        </p:nvSpPr>
        <p:spPr>
          <a:xfrm>
            <a:off x="450072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547640" y="2637000"/>
            <a:ext cx="6336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нтерактивный пла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cc"/>
                </a:solidFill>
                <a:latin typeface="Times New Roman"/>
              </a:rPr>
              <a:t>«Гармонизация цветов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80">
            <a:hlinkClick r:id="rId5" action="ppaction://hlinksldjump"/>
          </p:cNvPr>
          <p:cNvSpPr/>
          <p:nvPr/>
        </p:nvSpPr>
        <p:spPr>
          <a:xfrm>
            <a:off x="2916360" y="6237360"/>
            <a:ext cx="1512720" cy="43164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654" h="21600">
                <a:moveTo>
                  <a:pt x="0" y="0"/>
                </a:moveTo>
                <a:lnTo>
                  <a:pt x="75654" y="0"/>
                </a:lnTo>
                <a:lnTo>
                  <a:pt x="75654" y="21600"/>
                </a:lnTo>
                <a:lnTo>
                  <a:pt x="0" y="21600"/>
                </a:lnTo>
                <a:close/>
              </a:path>
              <a:path fill="lightenLess" w="75654" h="21600">
                <a:moveTo>
                  <a:pt x="0" y="0"/>
                </a:moveTo>
                <a:lnTo>
                  <a:pt x="75654" y="0"/>
                </a:lnTo>
                <a:lnTo>
                  <a:pt x="74254" y="1400"/>
                </a:lnTo>
                <a:lnTo>
                  <a:pt x="1400" y="1400"/>
                </a:lnTo>
                <a:close/>
              </a:path>
              <a:path fill="darken" w="75654" h="21600">
                <a:moveTo>
                  <a:pt x="75654" y="0"/>
                </a:moveTo>
                <a:lnTo>
                  <a:pt x="75654" y="21600"/>
                </a:lnTo>
                <a:lnTo>
                  <a:pt x="74254" y="20200"/>
                </a:lnTo>
                <a:lnTo>
                  <a:pt x="74254" y="1400"/>
                </a:lnTo>
                <a:close/>
              </a:path>
              <a:path fill="darkenLess" w="75654" h="21600">
                <a:moveTo>
                  <a:pt x="75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54" y="20200"/>
                </a:lnTo>
                <a:close/>
              </a:path>
              <a:path fill="lighten" w="75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1">
            <a:hlinkClick r:id="rId6" action="ppaction://hlinksldjump"/>
          </p:cNvPr>
          <p:cNvSpPr/>
          <p:nvPr/>
        </p:nvSpPr>
        <p:spPr>
          <a:xfrm>
            <a:off x="4572000" y="6237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stories_karpcvetvospr_foto4"/>
          <p:cNvPicPr/>
          <p:nvPr/>
        </p:nvPicPr>
        <p:blipFill>
          <a:blip r:embed="rId1"/>
          <a:stretch/>
        </p:blipFill>
        <p:spPr>
          <a:xfrm>
            <a:off x="4157640" y="1935000"/>
            <a:ext cx="3887640" cy="388800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11"/>
          <p:cNvSpPr/>
          <p:nvPr/>
        </p:nvSpPr>
        <p:spPr>
          <a:xfrm>
            <a:off x="1785960" y="928800"/>
            <a:ext cx="1428840" cy="428400"/>
          </a:xfrm>
          <a:custGeom>
            <a:avLst/>
            <a:gdLst>
              <a:gd name="textAreaLeft" fmla="*/ 27720 w 1428840"/>
              <a:gd name="textAreaRight" fmla="*/ 1401120 w 14288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2">
            <a:hlinkClick r:id="rId2" action="ppaction://hlinksldjump"/>
          </p:cNvPr>
          <p:cNvSpPr/>
          <p:nvPr/>
        </p:nvSpPr>
        <p:spPr>
          <a:xfrm>
            <a:off x="2430360" y="6183360"/>
            <a:ext cx="1368360" cy="404640"/>
          </a:xfrm>
          <a:custGeom>
            <a:avLst/>
            <a:gdLst>
              <a:gd name="textAreaLeft" fmla="*/ 25920 w 1368360"/>
              <a:gd name="textAreaRight" fmla="*/ 1342440 w 13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2998" h="21600">
                <a:moveTo>
                  <a:pt x="0" y="0"/>
                </a:moveTo>
                <a:lnTo>
                  <a:pt x="72998" y="0"/>
                </a:lnTo>
                <a:lnTo>
                  <a:pt x="72998" y="21600"/>
                </a:lnTo>
                <a:lnTo>
                  <a:pt x="0" y="21600"/>
                </a:lnTo>
                <a:close/>
              </a:path>
              <a:path fill="lightenLess" w="72998" h="21600">
                <a:moveTo>
                  <a:pt x="0" y="0"/>
                </a:moveTo>
                <a:lnTo>
                  <a:pt x="72998" y="0"/>
                </a:lnTo>
                <a:lnTo>
                  <a:pt x="71598" y="1400"/>
                </a:lnTo>
                <a:lnTo>
                  <a:pt x="1400" y="1400"/>
                </a:lnTo>
                <a:close/>
              </a:path>
              <a:path fill="darken" w="72998" h="21600">
                <a:moveTo>
                  <a:pt x="72998" y="0"/>
                </a:moveTo>
                <a:lnTo>
                  <a:pt x="72998" y="21600"/>
                </a:lnTo>
                <a:lnTo>
                  <a:pt x="71598" y="20200"/>
                </a:lnTo>
                <a:lnTo>
                  <a:pt x="71598" y="1400"/>
                </a:lnTo>
                <a:close/>
              </a:path>
              <a:path fill="darkenLess" w="72998" h="21600">
                <a:moveTo>
                  <a:pt x="7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98" y="20200"/>
                </a:lnTo>
                <a:close/>
              </a:path>
              <a:path fill="lighten" w="7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В. Гё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Дуга 17"/>
          <p:cNvSpPr/>
          <p:nvPr/>
        </p:nvSpPr>
        <p:spPr>
          <a:xfrm rot="19174200">
            <a:off x="4164120" y="1955520"/>
            <a:ext cx="3902040" cy="3916440"/>
          </a:xfrm>
          <a:prstGeom prst="pi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Дуга 18"/>
          <p:cNvSpPr/>
          <p:nvPr/>
        </p:nvSpPr>
        <p:spPr>
          <a:xfrm rot="11745000">
            <a:off x="4163400" y="188244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Дуга 19"/>
          <p:cNvSpPr/>
          <p:nvPr/>
        </p:nvSpPr>
        <p:spPr>
          <a:xfrm rot="4680600">
            <a:off x="4171320" y="1875600"/>
            <a:ext cx="3902040" cy="391608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0" y="17146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Дуга 5"/>
          <p:cNvSpPr/>
          <p:nvPr/>
        </p:nvSpPr>
        <p:spPr>
          <a:xfrm rot="15434400">
            <a:off x="4189320" y="1929960"/>
            <a:ext cx="3855960" cy="390672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Дуга 6"/>
          <p:cNvSpPr/>
          <p:nvPr/>
        </p:nvSpPr>
        <p:spPr>
          <a:xfrm rot="8338800">
            <a:off x="4163400" y="1882440"/>
            <a:ext cx="3902040" cy="391644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Дуга 7"/>
          <p:cNvSpPr/>
          <p:nvPr/>
        </p:nvSpPr>
        <p:spPr>
          <a:xfrm rot="1290600">
            <a:off x="4163760" y="1955880"/>
            <a:ext cx="3943080" cy="3803400"/>
          </a:xfrm>
          <a:prstGeom prst="pie">
            <a:avLst/>
          </a:prstGeom>
          <a:solidFill>
            <a:srgbClr val="ffc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5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552" name="Text Box 29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32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Text Box 33"/>
          <p:cNvSpPr/>
          <p:nvPr/>
        </p:nvSpPr>
        <p:spPr>
          <a:xfrm>
            <a:off x="630360" y="1933560"/>
            <a:ext cx="30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Основны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4"/>
          <p:cNvSpPr/>
          <p:nvPr/>
        </p:nvSpPr>
        <p:spPr>
          <a:xfrm>
            <a:off x="630360" y="395136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Дополнительные  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6"/>
          <p:cNvSpPr/>
          <p:nvPr/>
        </p:nvSpPr>
        <p:spPr>
          <a:xfrm>
            <a:off x="1062000" y="258300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желт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7"/>
          <p:cNvSpPr/>
          <p:nvPr/>
        </p:nvSpPr>
        <p:spPr>
          <a:xfrm>
            <a:off x="1062000" y="4815000"/>
            <a:ext cx="25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ранже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фиолето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0">
            <a:hlinkClick r:id="rId3" action="ppaction://hlinksldjump"/>
          </p:cNvPr>
          <p:cNvSpPr/>
          <p:nvPr/>
        </p:nvSpPr>
        <p:spPr>
          <a:xfrm>
            <a:off x="990720" y="618336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Трети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1">
            <a:hlinkClick r:id="rId4" action="ppaction://hlinksldjump"/>
          </p:cNvPr>
          <p:cNvSpPr/>
          <p:nvPr/>
        </p:nvSpPr>
        <p:spPr>
          <a:xfrm>
            <a:off x="5670720" y="618336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rId5" action="ppaction://hlinksldjump"/>
          </p:cNvPr>
          <p:cNvSpPr/>
          <p:nvPr/>
        </p:nvSpPr>
        <p:spPr>
          <a:xfrm>
            <a:off x="6072120" y="928800"/>
            <a:ext cx="1406520" cy="425160"/>
          </a:xfrm>
          <a:custGeom>
            <a:avLst/>
            <a:gdLst>
              <a:gd name="textAreaLeft" fmla="*/ 27360 w 1406520"/>
              <a:gd name="textAreaRight" fmla="*/ 1379160 w 140652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1415" h="21600">
                <a:moveTo>
                  <a:pt x="0" y="0"/>
                </a:moveTo>
                <a:lnTo>
                  <a:pt x="71415" y="0"/>
                </a:lnTo>
                <a:lnTo>
                  <a:pt x="71415" y="21600"/>
                </a:lnTo>
                <a:lnTo>
                  <a:pt x="0" y="21600"/>
                </a:lnTo>
                <a:close/>
              </a:path>
              <a:path fill="lightenLess" w="71415" h="21600">
                <a:moveTo>
                  <a:pt x="0" y="0"/>
                </a:moveTo>
                <a:lnTo>
                  <a:pt x="71415" y="0"/>
                </a:lnTo>
                <a:lnTo>
                  <a:pt x="70015" y="1400"/>
                </a:lnTo>
                <a:lnTo>
                  <a:pt x="1400" y="1400"/>
                </a:lnTo>
                <a:close/>
              </a:path>
              <a:path fill="darken" w="71415" h="21600">
                <a:moveTo>
                  <a:pt x="71415" y="0"/>
                </a:moveTo>
                <a:lnTo>
                  <a:pt x="71415" y="21600"/>
                </a:lnTo>
                <a:lnTo>
                  <a:pt x="70015" y="20200"/>
                </a:lnTo>
                <a:lnTo>
                  <a:pt x="70015" y="1400"/>
                </a:lnTo>
                <a:close/>
              </a:path>
              <a:path fill="darkenLess" w="71415" h="21600">
                <a:moveTo>
                  <a:pt x="71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15" y="20200"/>
                </a:lnTo>
                <a:close/>
              </a:path>
              <a:path fill="lighten" w="71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>
            <a:hlinkClick r:id="rId6" action="ppaction://hlinksldjump"/>
          </p:cNvPr>
          <p:cNvSpPr/>
          <p:nvPr/>
        </p:nvSpPr>
        <p:spPr>
          <a:xfrm>
            <a:off x="3165480" y="928800"/>
            <a:ext cx="1477800" cy="425160"/>
          </a:xfrm>
          <a:custGeom>
            <a:avLst/>
            <a:gdLst>
              <a:gd name="textAreaLeft" fmla="*/ 27360 w 1477800"/>
              <a:gd name="textAreaRight" fmla="*/ 1450440 w 147780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5034" h="21600">
                <a:moveTo>
                  <a:pt x="0" y="0"/>
                </a:moveTo>
                <a:lnTo>
                  <a:pt x="75034" y="0"/>
                </a:lnTo>
                <a:lnTo>
                  <a:pt x="75034" y="21600"/>
                </a:lnTo>
                <a:lnTo>
                  <a:pt x="0" y="21600"/>
                </a:lnTo>
                <a:close/>
              </a:path>
              <a:path fill="lightenLess" w="75034" h="21600">
                <a:moveTo>
                  <a:pt x="0" y="0"/>
                </a:moveTo>
                <a:lnTo>
                  <a:pt x="75034" y="0"/>
                </a:lnTo>
                <a:lnTo>
                  <a:pt x="73634" y="1400"/>
                </a:lnTo>
                <a:lnTo>
                  <a:pt x="1400" y="1400"/>
                </a:lnTo>
                <a:close/>
              </a:path>
              <a:path fill="darken" w="75034" h="21600">
                <a:moveTo>
                  <a:pt x="75034" y="0"/>
                </a:moveTo>
                <a:lnTo>
                  <a:pt x="75034" y="21600"/>
                </a:lnTo>
                <a:lnTo>
                  <a:pt x="73634" y="20200"/>
                </a:lnTo>
                <a:lnTo>
                  <a:pt x="73634" y="1400"/>
                </a:lnTo>
                <a:close/>
              </a:path>
              <a:path fill="darkenLess" w="75034" h="21600">
                <a:moveTo>
                  <a:pt x="7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634" y="20200"/>
                </a:lnTo>
                <a:close/>
              </a:path>
              <a:path fill="lighten" w="7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4">
            <a:hlinkClick r:id="rId7" action="ppaction://hlinksldjump"/>
          </p:cNvPr>
          <p:cNvSpPr/>
          <p:nvPr/>
        </p:nvSpPr>
        <p:spPr>
          <a:xfrm>
            <a:off x="4594320" y="928800"/>
            <a:ext cx="1477800" cy="425160"/>
          </a:xfrm>
          <a:custGeom>
            <a:avLst/>
            <a:gdLst>
              <a:gd name="textAreaLeft" fmla="*/ 27360 w 1477800"/>
              <a:gd name="textAreaRight" fmla="*/ 1450440 w 1477800"/>
              <a:gd name="textAreaTop" fmla="*/ 27360 h 425160"/>
              <a:gd name="textAreaBottom" fmla="*/ 397800 h 425160"/>
            </a:gdLst>
            <a:ahLst/>
            <a:rect l="textAreaLeft" t="textAreaTop" r="textAreaRight" b="textAreaBottom"/>
            <a:pathLst>
              <a:path w="75034" h="21600">
                <a:moveTo>
                  <a:pt x="0" y="0"/>
                </a:moveTo>
                <a:lnTo>
                  <a:pt x="75034" y="0"/>
                </a:lnTo>
                <a:lnTo>
                  <a:pt x="75034" y="21600"/>
                </a:lnTo>
                <a:lnTo>
                  <a:pt x="0" y="21600"/>
                </a:lnTo>
                <a:close/>
              </a:path>
              <a:path fill="lightenLess" w="75034" h="21600">
                <a:moveTo>
                  <a:pt x="0" y="0"/>
                </a:moveTo>
                <a:lnTo>
                  <a:pt x="75034" y="0"/>
                </a:lnTo>
                <a:lnTo>
                  <a:pt x="73634" y="1400"/>
                </a:lnTo>
                <a:lnTo>
                  <a:pt x="1400" y="1400"/>
                </a:lnTo>
                <a:close/>
              </a:path>
              <a:path fill="darken" w="75034" h="21600">
                <a:moveTo>
                  <a:pt x="75034" y="0"/>
                </a:moveTo>
                <a:lnTo>
                  <a:pt x="75034" y="21600"/>
                </a:lnTo>
                <a:lnTo>
                  <a:pt x="73634" y="20200"/>
                </a:lnTo>
                <a:lnTo>
                  <a:pt x="73634" y="1400"/>
                </a:lnTo>
                <a:close/>
              </a:path>
              <a:path fill="darkenLess" w="75034" h="21600">
                <a:moveTo>
                  <a:pt x="7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634" y="20200"/>
                </a:lnTo>
                <a:close/>
              </a:path>
              <a:path fill="lighten" w="7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Дуга 17"/>
          <p:cNvSpPr/>
          <p:nvPr/>
        </p:nvSpPr>
        <p:spPr>
          <a:xfrm rot="19015800">
            <a:off x="1522440" y="1860120"/>
            <a:ext cx="3794040" cy="4078440"/>
          </a:xfrm>
          <a:prstGeom prst="pie">
            <a:avLst/>
          </a:prstGeom>
          <a:solidFill>
            <a:srgbClr val="ff00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Дуга 18"/>
          <p:cNvSpPr/>
          <p:nvPr/>
        </p:nvSpPr>
        <p:spPr>
          <a:xfrm rot="11795400">
            <a:off x="1461240" y="180288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Дуга 19"/>
          <p:cNvSpPr/>
          <p:nvPr/>
        </p:nvSpPr>
        <p:spPr>
          <a:xfrm rot="4574400">
            <a:off x="1470600" y="1802520"/>
            <a:ext cx="3902040" cy="391644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Дуга 5"/>
          <p:cNvSpPr/>
          <p:nvPr/>
        </p:nvSpPr>
        <p:spPr>
          <a:xfrm rot="15462600">
            <a:off x="1446840" y="1841760"/>
            <a:ext cx="3855960" cy="390816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Дуга 6"/>
          <p:cNvSpPr/>
          <p:nvPr/>
        </p:nvSpPr>
        <p:spPr>
          <a:xfrm rot="8118000">
            <a:off x="1439640" y="1775880"/>
            <a:ext cx="3902040" cy="391644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Дуга 7"/>
          <p:cNvSpPr/>
          <p:nvPr/>
        </p:nvSpPr>
        <p:spPr>
          <a:xfrm rot="1108200">
            <a:off x="1531440" y="1984320"/>
            <a:ext cx="3835440" cy="3624480"/>
          </a:xfrm>
          <a:prstGeom prst="pie">
            <a:avLst/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Дуга 8"/>
          <p:cNvSpPr/>
          <p:nvPr/>
        </p:nvSpPr>
        <p:spPr>
          <a:xfrm>
            <a:off x="1203480" y="1576440"/>
            <a:ext cx="4475160" cy="4397400"/>
          </a:xfrm>
          <a:prstGeom prst="pi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Дуга 9"/>
          <p:cNvSpPr/>
          <p:nvPr/>
        </p:nvSpPr>
        <p:spPr>
          <a:xfrm rot="17667600">
            <a:off x="1107720" y="1483920"/>
            <a:ext cx="4551120" cy="4586400"/>
          </a:xfrm>
          <a:prstGeom prst="pie">
            <a:avLst/>
          </a:prstGeom>
          <a:solidFill>
            <a:srgbClr val="d60093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Дуга 10"/>
          <p:cNvSpPr/>
          <p:nvPr/>
        </p:nvSpPr>
        <p:spPr>
          <a:xfrm rot="3313800">
            <a:off x="1010520" y="1540080"/>
            <a:ext cx="4734000" cy="4537080"/>
          </a:xfrm>
          <a:prstGeom prst="pie">
            <a:avLst/>
          </a:prstGeom>
          <a:solidFill>
            <a:srgbClr val="ffcc66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Дуга 11"/>
          <p:cNvSpPr/>
          <p:nvPr/>
        </p:nvSpPr>
        <p:spPr>
          <a:xfrm rot="7111200">
            <a:off x="1100160" y="1499400"/>
            <a:ext cx="4632120" cy="4459320"/>
          </a:xfrm>
          <a:prstGeom prst="pie">
            <a:avLst/>
          </a:prstGeom>
          <a:solidFill>
            <a:srgbClr val="99ff33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Дуга 12"/>
          <p:cNvSpPr/>
          <p:nvPr/>
        </p:nvSpPr>
        <p:spPr>
          <a:xfrm rot="10642200">
            <a:off x="1066320" y="1573920"/>
            <a:ext cx="4632480" cy="4459320"/>
          </a:xfrm>
          <a:prstGeom prst="pie">
            <a:avLst/>
          </a:prstGeom>
          <a:solidFill>
            <a:srgbClr val="009999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Дуга 13"/>
          <p:cNvSpPr/>
          <p:nvPr/>
        </p:nvSpPr>
        <p:spPr>
          <a:xfrm rot="14237400">
            <a:off x="1153800" y="1542960"/>
            <a:ext cx="4653000" cy="4471920"/>
          </a:xfrm>
          <a:prstGeom prst="pie">
            <a:avLst/>
          </a:prstGeom>
          <a:solidFill>
            <a:srgbClr val="6600cc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18"/>
          <p:cNvSpPr/>
          <p:nvPr/>
        </p:nvSpPr>
        <p:spPr>
          <a:xfrm>
            <a:off x="5724360" y="2421000"/>
            <a:ext cx="3419640" cy="37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желто-оранж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сине – зел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желто-зелены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красно-оранж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красно-фиоле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сине-фиоле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8"/>
          <p:cNvSpPr/>
          <p:nvPr/>
        </p:nvSpPr>
        <p:spPr>
          <a:xfrm>
            <a:off x="5580000" y="1557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de0000"/>
                </a:solidFill>
                <a:latin typeface="Arial"/>
              </a:rPr>
              <a:t>Третичные отт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0">
            <a:hlinkClick r:id="rId1" action="ppaction://hlinksldjump"/>
          </p:cNvPr>
          <p:cNvSpPr/>
          <p:nvPr/>
        </p:nvSpPr>
        <p:spPr>
          <a:xfrm>
            <a:off x="4211640" y="630864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2627280" y="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Times New Roman"/>
              </a:rPr>
              <a:t>Цветовой к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3059280" y="792000"/>
            <a:ext cx="3384360" cy="0"/>
          </a:xfrm>
          <a:prstGeom prst="line">
            <a:avLst/>
          </a:prstGeom>
          <a:ln w="28440">
            <a:solidFill>
              <a:srgbClr val="de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Rectangle 25"/>
          <p:cNvGrpSpPr/>
          <p:nvPr/>
        </p:nvGrpSpPr>
        <p:grpSpPr>
          <a:xfrm>
            <a:off x="4211640" y="1122480"/>
            <a:ext cx="4103640" cy="5473440"/>
            <a:chOff x="4211640" y="1122480"/>
            <a:chExt cx="4103640" cy="5473440"/>
          </a:xfrm>
        </p:grpSpPr>
        <p:pic>
          <p:nvPicPr>
            <p:cNvPr id="581" name="Rectangle 25" descr=""/>
            <p:cNvPicPr/>
            <p:nvPr/>
          </p:nvPicPr>
          <p:blipFill>
            <a:blip r:embed="rId1"/>
            <a:stretch/>
          </p:blipFill>
          <p:spPr>
            <a:xfrm>
              <a:off x="4211640" y="1122480"/>
              <a:ext cx="4103640" cy="54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3"/>
            <p:cNvSpPr/>
            <p:nvPr/>
          </p:nvSpPr>
          <p:spPr>
            <a:xfrm>
              <a:off x="4216320" y="1130400"/>
              <a:ext cx="4094280" cy="54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Rectangle 24"/>
          <p:cNvGrpSpPr/>
          <p:nvPr/>
        </p:nvGrpSpPr>
        <p:grpSpPr>
          <a:xfrm>
            <a:off x="1328760" y="1268280"/>
            <a:ext cx="3700440" cy="5400720"/>
            <a:chOff x="1328760" y="1268280"/>
            <a:chExt cx="3700440" cy="5400720"/>
          </a:xfrm>
        </p:grpSpPr>
        <p:pic>
          <p:nvPicPr>
            <p:cNvPr id="584" name="Rectangle 24" descr=""/>
            <p:cNvPicPr/>
            <p:nvPr/>
          </p:nvPicPr>
          <p:blipFill>
            <a:blip r:embed="rId2"/>
            <a:stretch/>
          </p:blipFill>
          <p:spPr>
            <a:xfrm>
              <a:off x="1328760" y="1268280"/>
              <a:ext cx="3700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6"/>
            <p:cNvSpPr/>
            <p:nvPr/>
          </p:nvSpPr>
          <p:spPr>
            <a:xfrm>
              <a:off x="1333440" y="1273320"/>
              <a:ext cx="3691080" cy="53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AutoShape 5"/>
          <p:cNvSpPr/>
          <p:nvPr/>
        </p:nvSpPr>
        <p:spPr>
          <a:xfrm>
            <a:off x="600084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Дуга 17"/>
          <p:cNvSpPr/>
          <p:nvPr/>
        </p:nvSpPr>
        <p:spPr>
          <a:xfrm rot="20961600">
            <a:off x="2771640" y="1988640"/>
            <a:ext cx="3902040" cy="3916440"/>
          </a:xfrm>
          <a:prstGeom prst="pi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Дуга 18"/>
          <p:cNvSpPr/>
          <p:nvPr/>
        </p:nvSpPr>
        <p:spPr>
          <a:xfrm rot="13804200">
            <a:off x="2778480" y="1908360"/>
            <a:ext cx="3902040" cy="3916440"/>
          </a:xfrm>
          <a:prstGeom prst="pie">
            <a:avLst/>
          </a:prstGeom>
          <a:solidFill>
            <a:srgbClr val="0070c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Дуга 19"/>
          <p:cNvSpPr/>
          <p:nvPr/>
        </p:nvSpPr>
        <p:spPr>
          <a:xfrm rot="6385200">
            <a:off x="2778120" y="1908720"/>
            <a:ext cx="3902040" cy="3916440"/>
          </a:xfrm>
          <a:prstGeom prst="pi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701640" y="1697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Дуга 5"/>
          <p:cNvSpPr/>
          <p:nvPr/>
        </p:nvSpPr>
        <p:spPr>
          <a:xfrm rot="17296200">
            <a:off x="2796840" y="1963440"/>
            <a:ext cx="3856320" cy="3907080"/>
          </a:xfrm>
          <a:prstGeom prst="pie">
            <a:avLst/>
          </a:prstGeom>
          <a:solidFill>
            <a:srgbClr val="7030a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Дуга 6"/>
          <p:cNvSpPr/>
          <p:nvPr/>
        </p:nvSpPr>
        <p:spPr>
          <a:xfrm rot="10127400">
            <a:off x="2771280" y="1916280"/>
            <a:ext cx="3902040" cy="3916080"/>
          </a:xfrm>
          <a:prstGeom prst="pie">
            <a:avLst/>
          </a:prstGeom>
          <a:solidFill>
            <a:srgbClr val="00b05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Дуга 7"/>
          <p:cNvSpPr/>
          <p:nvPr/>
        </p:nvSpPr>
        <p:spPr>
          <a:xfrm rot="3076800">
            <a:off x="2771640" y="1988640"/>
            <a:ext cx="3943440" cy="3803760"/>
          </a:xfrm>
          <a:prstGeom prst="pie">
            <a:avLst/>
          </a:prstGeom>
          <a:solidFill>
            <a:srgbClr val="ffc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595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AutoShape 11">
            <a:hlinkClick r:id="rId3" action="ppaction://hlinksldjump"/>
          </p:cNvPr>
          <p:cNvSpPr/>
          <p:nvPr/>
        </p:nvSpPr>
        <p:spPr>
          <a:xfrm>
            <a:off x="6286680" y="6286680"/>
            <a:ext cx="1439640" cy="35712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87009" h="21600">
                <a:moveTo>
                  <a:pt x="0" y="0"/>
                </a:moveTo>
                <a:lnTo>
                  <a:pt x="87009" y="0"/>
                </a:lnTo>
                <a:lnTo>
                  <a:pt x="87009" y="21600"/>
                </a:lnTo>
                <a:lnTo>
                  <a:pt x="0" y="21600"/>
                </a:lnTo>
                <a:close/>
              </a:path>
              <a:path fill="lightenLess" w="87009" h="21600">
                <a:moveTo>
                  <a:pt x="0" y="0"/>
                </a:moveTo>
                <a:lnTo>
                  <a:pt x="87009" y="0"/>
                </a:lnTo>
                <a:lnTo>
                  <a:pt x="85609" y="1400"/>
                </a:lnTo>
                <a:lnTo>
                  <a:pt x="1400" y="1400"/>
                </a:lnTo>
                <a:close/>
              </a:path>
              <a:path fill="darken" w="87009" h="21600">
                <a:moveTo>
                  <a:pt x="87009" y="0"/>
                </a:moveTo>
                <a:lnTo>
                  <a:pt x="87009" y="21600"/>
                </a:lnTo>
                <a:lnTo>
                  <a:pt x="85609" y="20200"/>
                </a:lnTo>
                <a:lnTo>
                  <a:pt x="85609" y="1400"/>
                </a:lnTo>
                <a:close/>
              </a:path>
              <a:path fill="darkenLess" w="87009" h="21600">
                <a:moveTo>
                  <a:pt x="87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609" y="20200"/>
                </a:lnTo>
                <a:close/>
              </a:path>
              <a:path fill="lighten" w="87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1">
            <a:hlinkClick r:id="rId4" action="ppaction://hlinksldjump"/>
          </p:cNvPr>
          <p:cNvSpPr/>
          <p:nvPr/>
        </p:nvSpPr>
        <p:spPr>
          <a:xfrm>
            <a:off x="185724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14">
            <a:hlinkClick r:id="rId5" action="ppaction://hlinksldjump"/>
          </p:cNvPr>
          <p:cNvSpPr/>
          <p:nvPr/>
        </p:nvSpPr>
        <p:spPr>
          <a:xfrm>
            <a:off x="3143160" y="92880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4">
            <a:hlinkClick r:id="rId6" action="ppaction://hlinksldjump"/>
          </p:cNvPr>
          <p:cNvSpPr/>
          <p:nvPr/>
        </p:nvSpPr>
        <p:spPr>
          <a:xfrm>
            <a:off x="4572000" y="92880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0">
            <a:hlinkClick r:id="rId7" action="ppaction://hlinksldjump"/>
          </p:cNvPr>
          <p:cNvSpPr/>
          <p:nvPr/>
        </p:nvSpPr>
        <p:spPr>
          <a:xfrm>
            <a:off x="2916360" y="6237360"/>
            <a:ext cx="1512720" cy="43164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654" h="21600">
                <a:moveTo>
                  <a:pt x="0" y="0"/>
                </a:moveTo>
                <a:lnTo>
                  <a:pt x="75654" y="0"/>
                </a:lnTo>
                <a:lnTo>
                  <a:pt x="75654" y="21600"/>
                </a:lnTo>
                <a:lnTo>
                  <a:pt x="0" y="21600"/>
                </a:lnTo>
                <a:close/>
              </a:path>
              <a:path fill="lightenLess" w="75654" h="21600">
                <a:moveTo>
                  <a:pt x="0" y="0"/>
                </a:moveTo>
                <a:lnTo>
                  <a:pt x="75654" y="0"/>
                </a:lnTo>
                <a:lnTo>
                  <a:pt x="74254" y="1400"/>
                </a:lnTo>
                <a:lnTo>
                  <a:pt x="1400" y="1400"/>
                </a:lnTo>
                <a:close/>
              </a:path>
              <a:path fill="darken" w="75654" h="21600">
                <a:moveTo>
                  <a:pt x="75654" y="0"/>
                </a:moveTo>
                <a:lnTo>
                  <a:pt x="75654" y="21600"/>
                </a:lnTo>
                <a:lnTo>
                  <a:pt x="74254" y="20200"/>
                </a:lnTo>
                <a:lnTo>
                  <a:pt x="74254" y="1400"/>
                </a:lnTo>
                <a:close/>
              </a:path>
              <a:path fill="darkenLess" w="75654" h="21600">
                <a:moveTo>
                  <a:pt x="75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54" y="20200"/>
                </a:lnTo>
                <a:close/>
              </a:path>
              <a:path fill="lighten" w="75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81">
            <a:hlinkClick r:id="rId8" action="ppaction://hlinksldjump"/>
          </p:cNvPr>
          <p:cNvSpPr/>
          <p:nvPr/>
        </p:nvSpPr>
        <p:spPr>
          <a:xfrm>
            <a:off x="4572000" y="623736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0.09375 -0.00185 E">
                                      <p:cBhvr>
                                        <p:cTn id="130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09149 -0.0044 E">
                                      <p:cBhvr>
                                        <p:cTn id="132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09305 -0.00093 E">
                                      <p:cBhvr>
                                        <p:cTn id="134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-0.0875 0.00255 E">
                                      <p:cBhvr>
                                        <p:cTn id="139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08802 -0.00093 E">
                                      <p:cBhvr>
                                        <p:cTn id="141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08732 -0.00185 E">
                                      <p:cBhvr>
                                        <p:cTn id="143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04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AutoShape 6"/>
          <p:cNvSpPr/>
          <p:nvPr/>
        </p:nvSpPr>
        <p:spPr>
          <a:xfrm>
            <a:off x="3214800" y="928800"/>
            <a:ext cx="1571400" cy="42840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9182" h="21600">
                <a:moveTo>
                  <a:pt x="0" y="0"/>
                </a:moveTo>
                <a:lnTo>
                  <a:pt x="79182" y="0"/>
                </a:lnTo>
                <a:lnTo>
                  <a:pt x="79182" y="21600"/>
                </a:lnTo>
                <a:lnTo>
                  <a:pt x="0" y="21600"/>
                </a:lnTo>
                <a:close/>
              </a:path>
              <a:path fill="lightenLess" w="79182" h="21600">
                <a:moveTo>
                  <a:pt x="0" y="0"/>
                </a:moveTo>
                <a:lnTo>
                  <a:pt x="79182" y="0"/>
                </a:lnTo>
                <a:lnTo>
                  <a:pt x="77782" y="1400"/>
                </a:lnTo>
                <a:lnTo>
                  <a:pt x="1400" y="1400"/>
                </a:lnTo>
                <a:close/>
              </a:path>
              <a:path fill="darken" w="79182" h="21600">
                <a:moveTo>
                  <a:pt x="79182" y="0"/>
                </a:moveTo>
                <a:lnTo>
                  <a:pt x="79182" y="21600"/>
                </a:lnTo>
                <a:lnTo>
                  <a:pt x="77782" y="20200"/>
                </a:lnTo>
                <a:lnTo>
                  <a:pt x="77782" y="1400"/>
                </a:lnTo>
                <a:close/>
              </a:path>
              <a:path fill="darkenLess" w="79182" h="21600">
                <a:moveTo>
                  <a:pt x="7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2" y="20200"/>
                </a:lnTo>
                <a:close/>
              </a:path>
              <a:path fill="lighten" w="7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20"/>
          <p:cNvGrpSpPr/>
          <p:nvPr/>
        </p:nvGrpSpPr>
        <p:grpSpPr>
          <a:xfrm>
            <a:off x="2771640" y="4797360"/>
            <a:ext cx="3886200" cy="719280"/>
            <a:chOff x="2771640" y="4797360"/>
            <a:chExt cx="3886200" cy="719280"/>
          </a:xfrm>
        </p:grpSpPr>
        <p:pic>
          <p:nvPicPr>
            <p:cNvPr id="608" name="Picture 29" descr=""/>
            <p:cNvPicPr/>
            <p:nvPr/>
          </p:nvPicPr>
          <p:blipFill>
            <a:blip r:embed="rId1"/>
            <a:stretch/>
          </p:blipFill>
          <p:spPr>
            <a:xfrm>
              <a:off x="4427640" y="4797360"/>
              <a:ext cx="22302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30" descr=""/>
            <p:cNvPicPr/>
            <p:nvPr/>
          </p:nvPicPr>
          <p:blipFill>
            <a:blip r:embed="rId2"/>
            <a:stretch/>
          </p:blipFill>
          <p:spPr>
            <a:xfrm>
              <a:off x="2771640" y="4797360"/>
              <a:ext cx="20145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Group 19"/>
          <p:cNvGrpSpPr/>
          <p:nvPr/>
        </p:nvGrpSpPr>
        <p:grpSpPr>
          <a:xfrm>
            <a:off x="2050920" y="2276640"/>
            <a:ext cx="5369040" cy="574560"/>
            <a:chOff x="2050920" y="2276640"/>
            <a:chExt cx="5369040" cy="574560"/>
          </a:xfrm>
        </p:grpSpPr>
        <p:sp>
          <p:nvSpPr>
            <p:cNvPr id="611" name="Rectangle 5"/>
            <p:cNvSpPr/>
            <p:nvPr/>
          </p:nvSpPr>
          <p:spPr>
            <a:xfrm>
              <a:off x="2050920" y="2276640"/>
              <a:ext cx="901800" cy="574560"/>
            </a:xfrm>
            <a:prstGeom prst="rect">
              <a:avLst/>
            </a:prstGeom>
            <a:gradFill rotWithShape="0">
              <a:gsLst>
                <a:gs pos="0">
                  <a:srgbClr val="f01902"/>
                </a:gs>
                <a:gs pos="100000">
                  <a:srgbClr val="fa820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6"/>
            <p:cNvSpPr/>
            <p:nvPr/>
          </p:nvSpPr>
          <p:spPr>
            <a:xfrm>
              <a:off x="2914560" y="2276640"/>
              <a:ext cx="878040" cy="574560"/>
            </a:xfrm>
            <a:prstGeom prst="rect">
              <a:avLst/>
            </a:prstGeom>
            <a:gradFill rotWithShape="0">
              <a:gsLst>
                <a:gs pos="0">
                  <a:srgbClr val="fa820a"/>
                </a:gs>
                <a:gs pos="100000">
                  <a:srgbClr val="ffff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>
              <a:off x="3780000" y="2276640"/>
              <a:ext cx="1122120" cy="574560"/>
            </a:xfrm>
            <a:prstGeom prst="rect">
              <a:avLst/>
            </a:prstGeom>
            <a:gradFill rotWithShape="0">
              <a:gsLst>
                <a:gs pos="0">
                  <a:srgbClr val="ffff3b">
                    <a:alpha val="95294"/>
                  </a:srgbClr>
                </a:gs>
                <a:gs pos="100000">
                  <a:srgbClr val="008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9"/>
            <p:cNvSpPr/>
            <p:nvPr/>
          </p:nvSpPr>
          <p:spPr>
            <a:xfrm>
              <a:off x="5580000" y="2276640"/>
              <a:ext cx="779400" cy="574560"/>
            </a:xfrm>
            <a:prstGeom prst="rect">
              <a:avLst/>
            </a:prstGeom>
            <a:gradFill rotWithShape="0">
              <a:gsLst>
                <a:gs pos="0">
                  <a:srgbClr val="19c3ff"/>
                </a:gs>
                <a:gs pos="100000">
                  <a:srgbClr val="034e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0"/>
            <p:cNvSpPr/>
            <p:nvPr/>
          </p:nvSpPr>
          <p:spPr>
            <a:xfrm>
              <a:off x="4859280" y="2276640"/>
              <a:ext cx="779400" cy="574560"/>
            </a:xfrm>
            <a:prstGeom prst="rect">
              <a:avLst/>
            </a:prstGeom>
            <a:gradFill rotWithShape="0">
              <a:gsLst>
                <a:gs pos="0">
                  <a:srgbClr val="009200"/>
                </a:gs>
                <a:gs pos="100000">
                  <a:srgbClr val="19c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6299280" y="2276640"/>
              <a:ext cx="1120680" cy="574560"/>
            </a:xfrm>
            <a:prstGeom prst="rect">
              <a:avLst/>
            </a:prstGeom>
            <a:gradFill rotWithShape="0">
              <a:gsLst>
                <a:gs pos="0">
                  <a:srgbClr val="034ebd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Text Box 33"/>
          <p:cNvSpPr/>
          <p:nvPr/>
        </p:nvSpPr>
        <p:spPr>
          <a:xfrm>
            <a:off x="2843280" y="170028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Хроматически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3"/>
          <p:cNvSpPr/>
          <p:nvPr/>
        </p:nvSpPr>
        <p:spPr>
          <a:xfrm>
            <a:off x="2843280" y="422100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e0000"/>
                </a:solidFill>
                <a:latin typeface="Arial"/>
              </a:rPr>
              <a:t>Ахроматические цв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3"/>
          <p:cNvSpPr/>
          <p:nvPr/>
        </p:nvSpPr>
        <p:spPr>
          <a:xfrm>
            <a:off x="900000" y="3357720"/>
            <a:ext cx="26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Цветовой то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3492360" y="335772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Насыщен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516720" y="335772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365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ec0"/>
                </a:solidFill>
                <a:latin typeface="Arial"/>
              </a:rPr>
              <a:t>Ярк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5" descr=""/>
          <p:cNvPicPr/>
          <p:nvPr/>
        </p:nvPicPr>
        <p:blipFill>
          <a:blip r:embed="rId3"/>
          <a:srcRect l="0" t="0" r="0" b="6898"/>
          <a:stretch/>
        </p:blipFill>
        <p:spPr>
          <a:xfrm>
            <a:off x="1187280" y="4005360"/>
            <a:ext cx="24480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28"/>
          <p:cNvGrpSpPr/>
          <p:nvPr/>
        </p:nvGrpSpPr>
        <p:grpSpPr>
          <a:xfrm>
            <a:off x="1258920" y="3357720"/>
            <a:ext cx="2305080" cy="3166920"/>
            <a:chOff x="1258920" y="3357720"/>
            <a:chExt cx="2305080" cy="3166920"/>
          </a:xfrm>
        </p:grpSpPr>
        <p:sp>
          <p:nvSpPr>
            <p:cNvPr id="624" name="Rectangle 26"/>
            <p:cNvSpPr/>
            <p:nvPr/>
          </p:nvSpPr>
          <p:spPr>
            <a:xfrm>
              <a:off x="1258920" y="3357720"/>
              <a:ext cx="230508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>
              <a:off x="1258920" y="3860640"/>
              <a:ext cx="230508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29"/>
          <p:cNvGrpSpPr/>
          <p:nvPr/>
        </p:nvGrpSpPr>
        <p:grpSpPr>
          <a:xfrm>
            <a:off x="3851280" y="3357720"/>
            <a:ext cx="2305080" cy="3166920"/>
            <a:chOff x="3851280" y="3357720"/>
            <a:chExt cx="2305080" cy="3166920"/>
          </a:xfrm>
        </p:grpSpPr>
        <p:sp>
          <p:nvSpPr>
            <p:cNvPr id="627" name="Rectangle 30"/>
            <p:cNvSpPr/>
            <p:nvPr/>
          </p:nvSpPr>
          <p:spPr>
            <a:xfrm>
              <a:off x="3851280" y="3357720"/>
              <a:ext cx="230508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1"/>
            <p:cNvSpPr/>
            <p:nvPr/>
          </p:nvSpPr>
          <p:spPr>
            <a:xfrm>
              <a:off x="3851280" y="3860640"/>
              <a:ext cx="230508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32"/>
          <p:cNvGrpSpPr/>
          <p:nvPr/>
        </p:nvGrpSpPr>
        <p:grpSpPr>
          <a:xfrm>
            <a:off x="6372360" y="3357720"/>
            <a:ext cx="2232000" cy="3166920"/>
            <a:chOff x="6372360" y="3357720"/>
            <a:chExt cx="2232000" cy="3166920"/>
          </a:xfrm>
        </p:grpSpPr>
        <p:sp>
          <p:nvSpPr>
            <p:cNvPr id="630" name="Rectangle 33"/>
            <p:cNvSpPr/>
            <p:nvPr/>
          </p:nvSpPr>
          <p:spPr>
            <a:xfrm>
              <a:off x="6372360" y="3357720"/>
              <a:ext cx="2232000" cy="3166920"/>
            </a:xfrm>
            <a:prstGeom prst="rect">
              <a:avLst/>
            </a:prstGeom>
            <a:noFill/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4"/>
            <p:cNvSpPr/>
            <p:nvPr/>
          </p:nvSpPr>
          <p:spPr>
            <a:xfrm>
              <a:off x="6372360" y="3860640"/>
              <a:ext cx="2232000" cy="0"/>
            </a:xfrm>
            <a:prstGeom prst="line">
              <a:avLst/>
            </a:prstGeom>
            <a:ln cap="rnd" w="15840">
              <a:solidFill>
                <a:srgbClr val="002e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" name="Picture 36" descr=""/>
          <p:cNvPicPr/>
          <p:nvPr/>
        </p:nvPicPr>
        <p:blipFill>
          <a:blip r:embed="rId4"/>
          <a:srcRect l="73408" t="33272" r="25627" b="53804"/>
          <a:stretch/>
        </p:blipFill>
        <p:spPr>
          <a:xfrm>
            <a:off x="4716360" y="3933720"/>
            <a:ext cx="397080" cy="2521080"/>
          </a:xfrm>
          <a:prstGeom prst="rect">
            <a:avLst/>
          </a:prstGeom>
          <a:ln w="0">
            <a:noFill/>
          </a:ln>
        </p:spPr>
      </p:pic>
      <p:sp>
        <p:nvSpPr>
          <p:cNvPr id="633" name="AutoShape 32"/>
          <p:cNvSpPr/>
          <p:nvPr/>
        </p:nvSpPr>
        <p:spPr>
          <a:xfrm rot="18681000">
            <a:off x="5147280" y="4006080"/>
            <a:ext cx="504720" cy="71640"/>
          </a:xfrm>
          <a:prstGeom prst="flowChartTerminator">
            <a:avLst/>
          </a:prstGeom>
          <a:solidFill>
            <a:srgbClr val="ffcc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38" descr=""/>
          <p:cNvPicPr/>
          <p:nvPr/>
        </p:nvPicPr>
        <p:blipFill>
          <a:blip r:embed="rId5"/>
          <a:srcRect l="0" t="0" r="0" b="6898"/>
          <a:stretch/>
        </p:blipFill>
        <p:spPr>
          <a:xfrm>
            <a:off x="6300720" y="4076640"/>
            <a:ext cx="2374920" cy="2028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9" descr=""/>
          <p:cNvPicPr/>
          <p:nvPr/>
        </p:nvPicPr>
        <p:blipFill>
          <a:blip r:embed="rId6"/>
          <a:srcRect l="0" t="0" r="0" b="6898"/>
          <a:stretch/>
        </p:blipFill>
        <p:spPr>
          <a:xfrm>
            <a:off x="6227640" y="4005360"/>
            <a:ext cx="2521080" cy="215100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1">
            <a:hlinkClick r:id="rId7" action="ppaction://hlinksldjump"/>
          </p:cNvPr>
          <p:cNvSpPr/>
          <p:nvPr/>
        </p:nvSpPr>
        <p:spPr>
          <a:xfrm>
            <a:off x="1836720" y="928800"/>
            <a:ext cx="1449360" cy="428400"/>
          </a:xfrm>
          <a:custGeom>
            <a:avLst/>
            <a:gdLst>
              <a:gd name="textAreaLeft" fmla="*/ 27720 w 1449360"/>
              <a:gd name="textAreaRight" fmla="*/ 1421640 w 14493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3034" h="21600">
                <a:moveTo>
                  <a:pt x="0" y="0"/>
                </a:moveTo>
                <a:lnTo>
                  <a:pt x="73034" y="0"/>
                </a:lnTo>
                <a:lnTo>
                  <a:pt x="73034" y="21600"/>
                </a:lnTo>
                <a:lnTo>
                  <a:pt x="0" y="21600"/>
                </a:lnTo>
                <a:close/>
              </a:path>
              <a:path fill="lightenLess" w="73034" h="21600">
                <a:moveTo>
                  <a:pt x="0" y="0"/>
                </a:moveTo>
                <a:lnTo>
                  <a:pt x="73034" y="0"/>
                </a:lnTo>
                <a:lnTo>
                  <a:pt x="71634" y="1400"/>
                </a:lnTo>
                <a:lnTo>
                  <a:pt x="1400" y="1400"/>
                </a:lnTo>
                <a:close/>
              </a:path>
              <a:path fill="darken" w="73034" h="21600">
                <a:moveTo>
                  <a:pt x="73034" y="0"/>
                </a:moveTo>
                <a:lnTo>
                  <a:pt x="73034" y="21600"/>
                </a:lnTo>
                <a:lnTo>
                  <a:pt x="71634" y="20200"/>
                </a:lnTo>
                <a:lnTo>
                  <a:pt x="71634" y="1400"/>
                </a:lnTo>
                <a:close/>
              </a:path>
              <a:path fill="darkenLess" w="73034" h="21600">
                <a:moveTo>
                  <a:pt x="73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634" y="20200"/>
                </a:lnTo>
                <a:close/>
              </a:path>
              <a:path fill="lighten" w="73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44">
            <a:hlinkClick r:id="rId8" action="ppaction://hlinksldjump"/>
          </p:cNvPr>
          <p:cNvSpPr/>
          <p:nvPr/>
        </p:nvSpPr>
        <p:spPr>
          <a:xfrm>
            <a:off x="4572000" y="928800"/>
            <a:ext cx="1500120" cy="42840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1">
            <a:hlinkClick r:id="rId9" action="ppaction://hlinksldjump"/>
          </p:cNvPr>
          <p:cNvSpPr/>
          <p:nvPr/>
        </p:nvSpPr>
        <p:spPr>
          <a:xfrm>
            <a:off x="6357960" y="6286680"/>
            <a:ext cx="1440000" cy="40464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19" h="21600">
                <a:moveTo>
                  <a:pt x="0" y="0"/>
                </a:moveTo>
                <a:lnTo>
                  <a:pt x="76819" y="0"/>
                </a:lnTo>
                <a:lnTo>
                  <a:pt x="76819" y="21600"/>
                </a:lnTo>
                <a:lnTo>
                  <a:pt x="0" y="21600"/>
                </a:lnTo>
                <a:close/>
              </a:path>
              <a:path fill="lightenLess" w="76819" h="21600">
                <a:moveTo>
                  <a:pt x="0" y="0"/>
                </a:moveTo>
                <a:lnTo>
                  <a:pt x="76819" y="0"/>
                </a:lnTo>
                <a:lnTo>
                  <a:pt x="75419" y="1400"/>
                </a:lnTo>
                <a:lnTo>
                  <a:pt x="1400" y="1400"/>
                </a:lnTo>
                <a:close/>
              </a:path>
              <a:path fill="darken" w="76819" h="21600">
                <a:moveTo>
                  <a:pt x="76819" y="0"/>
                </a:moveTo>
                <a:lnTo>
                  <a:pt x="76819" y="21600"/>
                </a:lnTo>
                <a:lnTo>
                  <a:pt x="75419" y="20200"/>
                </a:lnTo>
                <a:lnTo>
                  <a:pt x="75419" y="1400"/>
                </a:lnTo>
                <a:close/>
              </a:path>
              <a:path fill="darkenLess" w="76819" h="21600">
                <a:moveTo>
                  <a:pt x="76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19" y="20200"/>
                </a:lnTo>
                <a:close/>
              </a:path>
              <a:path fill="lighten" w="76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3">
            <a:hlinkClick r:id="rId10" action="ppaction://hlinksldjump"/>
          </p:cNvPr>
          <p:cNvSpPr/>
          <p:nvPr/>
        </p:nvSpPr>
        <p:spPr>
          <a:xfrm>
            <a:off x="6000840" y="928800"/>
            <a:ext cx="1428840" cy="428400"/>
          </a:xfrm>
          <a:custGeom>
            <a:avLst/>
            <a:gdLst>
              <a:gd name="textAreaLeft" fmla="*/ 27720 w 1428840"/>
              <a:gd name="textAreaRight" fmla="*/ 1401120 w 14288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-0.01944 0.30972 E">
                                      <p:cBhvr>
                                        <p:cTn id="221" dur="5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80000"/>
                                      </p:to>
                                    </p:animClr>
                                    <p:set>
                                      <p:cBhvr>
                                        <p:cTn id="224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41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AutoShape 13"/>
          <p:cNvSpPr/>
          <p:nvPr/>
        </p:nvSpPr>
        <p:spPr>
          <a:xfrm>
            <a:off x="2771640" y="616572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11"/>
          <p:cNvSpPr/>
          <p:nvPr/>
        </p:nvSpPr>
        <p:spPr>
          <a:xfrm>
            <a:off x="6084720" y="616572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11"/>
          <p:cNvSpPr/>
          <p:nvPr/>
        </p:nvSpPr>
        <p:spPr>
          <a:xfrm>
            <a:off x="1857240" y="1071720"/>
            <a:ext cx="1428840" cy="404640"/>
          </a:xfrm>
          <a:custGeom>
            <a:avLst/>
            <a:gdLst>
              <a:gd name="textAreaLeft" fmla="*/ 25920 w 1428840"/>
              <a:gd name="textAreaRight" fmla="*/ 1402920 w 14288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224" h="21600">
                <a:moveTo>
                  <a:pt x="0" y="0"/>
                </a:moveTo>
                <a:lnTo>
                  <a:pt x="76224" y="0"/>
                </a:lnTo>
                <a:lnTo>
                  <a:pt x="76224" y="21600"/>
                </a:lnTo>
                <a:lnTo>
                  <a:pt x="0" y="21600"/>
                </a:lnTo>
                <a:close/>
              </a:path>
              <a:path fill="lightenLess" w="76224" h="21600">
                <a:moveTo>
                  <a:pt x="0" y="0"/>
                </a:moveTo>
                <a:lnTo>
                  <a:pt x="76224" y="0"/>
                </a:lnTo>
                <a:lnTo>
                  <a:pt x="74824" y="1400"/>
                </a:lnTo>
                <a:lnTo>
                  <a:pt x="1400" y="1400"/>
                </a:lnTo>
                <a:close/>
              </a:path>
              <a:path fill="darken" w="76224" h="21600">
                <a:moveTo>
                  <a:pt x="76224" y="0"/>
                </a:moveTo>
                <a:lnTo>
                  <a:pt x="76224" y="21600"/>
                </a:lnTo>
                <a:lnTo>
                  <a:pt x="74824" y="20200"/>
                </a:lnTo>
                <a:lnTo>
                  <a:pt x="74824" y="1400"/>
                </a:lnTo>
                <a:close/>
              </a:path>
              <a:path fill="darkenLess" w="76224" h="21600">
                <a:moveTo>
                  <a:pt x="7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24" y="20200"/>
                </a:lnTo>
                <a:close/>
              </a:path>
              <a:path fill="lighten" w="7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6000840" y="1071720"/>
            <a:ext cx="1439640" cy="40464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14"/>
          <p:cNvSpPr/>
          <p:nvPr/>
        </p:nvSpPr>
        <p:spPr>
          <a:xfrm>
            <a:off x="314316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4"/>
          <p:cNvSpPr/>
          <p:nvPr/>
        </p:nvSpPr>
        <p:spPr>
          <a:xfrm>
            <a:off x="457200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0"/>
          <p:cNvSpPr/>
          <p:nvPr/>
        </p:nvSpPr>
        <p:spPr>
          <a:xfrm>
            <a:off x="4284720" y="6165720"/>
            <a:ext cx="1512720" cy="43200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C:\Users\User\Desktop\Урок_Щекочихина_декабрь\декабрь 2014\080e3e25f582cabccc558014b08e534f (1) - копия.jpg"/>
          <p:cNvPicPr/>
          <p:nvPr/>
        </p:nvPicPr>
        <p:blipFill>
          <a:blip r:embed="rId1"/>
          <a:stretch/>
        </p:blipFill>
        <p:spPr>
          <a:xfrm>
            <a:off x="1700280" y="1841400"/>
            <a:ext cx="5790960" cy="36259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13"/>
          <p:cNvSpPr/>
          <p:nvPr/>
        </p:nvSpPr>
        <p:spPr>
          <a:xfrm>
            <a:off x="1214280" y="5572080"/>
            <a:ext cx="671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90ec9"/>
                </a:solidFill>
                <a:latin typeface="Times New Roman"/>
              </a:rPr>
              <a:t>Кандинский В. В. «Желтое – красное – синее», 1925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1071720" y="3143160"/>
            <a:ext cx="1511280" cy="1536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2"/>
          <a:stretch/>
        </p:blipFill>
        <p:spPr>
          <a:xfrm>
            <a:off x="4889520" y="3127320"/>
            <a:ext cx="1512720" cy="1444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3"/>
          <a:stretch/>
        </p:blipFill>
        <p:spPr>
          <a:xfrm>
            <a:off x="3017880" y="3139920"/>
            <a:ext cx="1512720" cy="1503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4"/>
          <a:stretch/>
        </p:blipFill>
        <p:spPr>
          <a:xfrm>
            <a:off x="6834240" y="3139920"/>
            <a:ext cx="15127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4"/>
          <p:cNvGrpSpPr/>
          <p:nvPr/>
        </p:nvGrpSpPr>
        <p:grpSpPr>
          <a:xfrm>
            <a:off x="2627280" y="0"/>
            <a:ext cx="3995640" cy="792000"/>
            <a:chOff x="2627280" y="0"/>
            <a:chExt cx="3995640" cy="792000"/>
          </a:xfrm>
        </p:grpSpPr>
        <p:sp>
          <p:nvSpPr>
            <p:cNvPr id="657" name="Text Box 15"/>
            <p:cNvSpPr/>
            <p:nvPr/>
          </p:nvSpPr>
          <p:spPr>
            <a:xfrm>
              <a:off x="2627280" y="0"/>
              <a:ext cx="39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33cc"/>
                  </a:solidFill>
                  <a:latin typeface="Times New Roman"/>
                </a:rPr>
                <a:t>Цветовой кру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6"/>
            <p:cNvSpPr/>
            <p:nvPr/>
          </p:nvSpPr>
          <p:spPr>
            <a:xfrm>
              <a:off x="3058920" y="792000"/>
              <a:ext cx="3384720" cy="0"/>
            </a:xfrm>
            <a:prstGeom prst="line">
              <a:avLst/>
            </a:prstGeom>
            <a:ln w="28440">
              <a:solidFill>
                <a:srgbClr val="de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Text Box 16"/>
          <p:cNvSpPr/>
          <p:nvPr/>
        </p:nvSpPr>
        <p:spPr>
          <a:xfrm>
            <a:off x="2484360" y="191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60000"/>
                </a:solidFill>
                <a:latin typeface="Arial"/>
              </a:rPr>
              <a:t>Подбери контрастную па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8"/>
          <p:cNvSpPr/>
          <p:nvPr/>
        </p:nvSpPr>
        <p:spPr>
          <a:xfrm>
            <a:off x="1649520" y="3213000"/>
            <a:ext cx="865080" cy="830520"/>
          </a:xfrm>
          <a:prstGeom prst="rect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9"/>
          <p:cNvSpPr/>
          <p:nvPr/>
        </p:nvSpPr>
        <p:spPr>
          <a:xfrm>
            <a:off x="3594240" y="3216240"/>
            <a:ext cx="861840" cy="8622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28496" dir="17774481" blurRad="0" rotWithShape="0">
              <a:srgbClr val="f569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0"/>
          <p:cNvSpPr/>
          <p:nvPr/>
        </p:nvSpPr>
        <p:spPr>
          <a:xfrm>
            <a:off x="5465880" y="3213000"/>
            <a:ext cx="865080" cy="830520"/>
          </a:xfrm>
          <a:prstGeom prst="rect">
            <a:avLst/>
          </a:prstGeom>
          <a:solidFill>
            <a:srgbClr val="eb074e"/>
          </a:solidFill>
          <a:ln w="0">
            <a:noFill/>
          </a:ln>
          <a:effectLst>
            <a:outerShdw dist="38160" dir="16200000" blurRad="0" rotWithShape="0">
              <a:srgbClr val="e911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1"/>
          <p:cNvSpPr/>
          <p:nvPr/>
        </p:nvSpPr>
        <p:spPr>
          <a:xfrm>
            <a:off x="7410600" y="3213000"/>
            <a:ext cx="865080" cy="830520"/>
          </a:xfrm>
          <a:prstGeom prst="rect">
            <a:avLst/>
          </a:prstGeom>
          <a:solidFill>
            <a:srgbClr val="f4ee00"/>
          </a:solidFill>
          <a:ln w="0">
            <a:noFill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1"/>
          <p:cNvSpPr/>
          <p:nvPr/>
        </p:nvSpPr>
        <p:spPr>
          <a:xfrm>
            <a:off x="6084720" y="616572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1"/>
          <p:cNvSpPr/>
          <p:nvPr/>
        </p:nvSpPr>
        <p:spPr>
          <a:xfrm>
            <a:off x="1857240" y="1071720"/>
            <a:ext cx="1500480" cy="404640"/>
          </a:xfrm>
          <a:custGeom>
            <a:avLst/>
            <a:gdLst>
              <a:gd name="textAreaLeft" fmla="*/ 25920 w 1500480"/>
              <a:gd name="textAreaRight" fmla="*/ 1474560 w 15004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45" h="21600">
                <a:moveTo>
                  <a:pt x="0" y="0"/>
                </a:moveTo>
                <a:lnTo>
                  <a:pt x="80045" y="0"/>
                </a:lnTo>
                <a:lnTo>
                  <a:pt x="80045" y="21600"/>
                </a:lnTo>
                <a:lnTo>
                  <a:pt x="0" y="21600"/>
                </a:lnTo>
                <a:close/>
              </a:path>
              <a:path fill="lightenLess" w="80045" h="21600">
                <a:moveTo>
                  <a:pt x="0" y="0"/>
                </a:moveTo>
                <a:lnTo>
                  <a:pt x="80045" y="0"/>
                </a:lnTo>
                <a:lnTo>
                  <a:pt x="78645" y="1400"/>
                </a:lnTo>
                <a:lnTo>
                  <a:pt x="1400" y="1400"/>
                </a:lnTo>
                <a:close/>
              </a:path>
              <a:path fill="darken" w="80045" h="21600">
                <a:moveTo>
                  <a:pt x="80045" y="0"/>
                </a:moveTo>
                <a:lnTo>
                  <a:pt x="80045" y="21600"/>
                </a:lnTo>
                <a:lnTo>
                  <a:pt x="78645" y="20200"/>
                </a:lnTo>
                <a:lnTo>
                  <a:pt x="78645" y="1400"/>
                </a:lnTo>
                <a:close/>
              </a:path>
              <a:path fill="darkenLess" w="80045" h="21600">
                <a:moveTo>
                  <a:pt x="80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45" y="20200"/>
                </a:lnTo>
                <a:close/>
              </a:path>
              <a:path fill="lighten" w="80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13"/>
          <p:cNvSpPr/>
          <p:nvPr/>
        </p:nvSpPr>
        <p:spPr>
          <a:xfrm>
            <a:off x="6072120" y="1071720"/>
            <a:ext cx="1440000" cy="40464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6819" h="21600">
                <a:moveTo>
                  <a:pt x="0" y="0"/>
                </a:moveTo>
                <a:lnTo>
                  <a:pt x="76819" y="0"/>
                </a:lnTo>
                <a:lnTo>
                  <a:pt x="76819" y="21600"/>
                </a:lnTo>
                <a:lnTo>
                  <a:pt x="0" y="21600"/>
                </a:lnTo>
                <a:close/>
              </a:path>
              <a:path fill="lightenLess" w="76819" h="21600">
                <a:moveTo>
                  <a:pt x="0" y="0"/>
                </a:moveTo>
                <a:lnTo>
                  <a:pt x="76819" y="0"/>
                </a:lnTo>
                <a:lnTo>
                  <a:pt x="75419" y="1400"/>
                </a:lnTo>
                <a:lnTo>
                  <a:pt x="1400" y="1400"/>
                </a:lnTo>
                <a:close/>
              </a:path>
              <a:path fill="darken" w="76819" h="21600">
                <a:moveTo>
                  <a:pt x="76819" y="0"/>
                </a:moveTo>
                <a:lnTo>
                  <a:pt x="76819" y="21600"/>
                </a:lnTo>
                <a:lnTo>
                  <a:pt x="75419" y="20200"/>
                </a:lnTo>
                <a:lnTo>
                  <a:pt x="75419" y="1400"/>
                </a:lnTo>
                <a:close/>
              </a:path>
              <a:path fill="darkenLess" w="76819" h="21600">
                <a:moveTo>
                  <a:pt x="76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19" y="20200"/>
                </a:lnTo>
                <a:close/>
              </a:path>
              <a:path fill="lighten" w="76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4"/>
          <p:cNvSpPr/>
          <p:nvPr/>
        </p:nvSpPr>
        <p:spPr>
          <a:xfrm>
            <a:off x="3214800" y="1071720"/>
            <a:ext cx="1500120" cy="404640"/>
          </a:xfrm>
          <a:custGeom>
            <a:avLst/>
            <a:gdLst>
              <a:gd name="textAreaLeft" fmla="*/ 25920 w 1500120"/>
              <a:gd name="textAreaRight" fmla="*/ 1474200 w 15001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26" h="21600">
                <a:moveTo>
                  <a:pt x="0" y="0"/>
                </a:moveTo>
                <a:lnTo>
                  <a:pt x="80026" y="0"/>
                </a:lnTo>
                <a:lnTo>
                  <a:pt x="80026" y="21600"/>
                </a:lnTo>
                <a:lnTo>
                  <a:pt x="0" y="21600"/>
                </a:lnTo>
                <a:close/>
              </a:path>
              <a:path fill="lightenLess" w="80026" h="21600">
                <a:moveTo>
                  <a:pt x="0" y="0"/>
                </a:moveTo>
                <a:lnTo>
                  <a:pt x="80026" y="0"/>
                </a:lnTo>
                <a:lnTo>
                  <a:pt x="78626" y="1400"/>
                </a:lnTo>
                <a:lnTo>
                  <a:pt x="1400" y="1400"/>
                </a:lnTo>
                <a:close/>
              </a:path>
              <a:path fill="darken" w="80026" h="21600">
                <a:moveTo>
                  <a:pt x="80026" y="0"/>
                </a:moveTo>
                <a:lnTo>
                  <a:pt x="80026" y="21600"/>
                </a:lnTo>
                <a:lnTo>
                  <a:pt x="78626" y="20200"/>
                </a:lnTo>
                <a:lnTo>
                  <a:pt x="78626" y="1400"/>
                </a:lnTo>
                <a:close/>
              </a:path>
              <a:path fill="darkenLess" w="80026" h="21600">
                <a:moveTo>
                  <a:pt x="8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26" y="20200"/>
                </a:lnTo>
                <a:close/>
              </a:path>
              <a:path fill="lighten" w="8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4"/>
          <p:cNvSpPr/>
          <p:nvPr/>
        </p:nvSpPr>
        <p:spPr>
          <a:xfrm>
            <a:off x="4643280" y="1071720"/>
            <a:ext cx="1500480" cy="404640"/>
          </a:xfrm>
          <a:custGeom>
            <a:avLst/>
            <a:gdLst>
              <a:gd name="textAreaLeft" fmla="*/ 25920 w 1500480"/>
              <a:gd name="textAreaRight" fmla="*/ 1474560 w 15004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0045" h="21600">
                <a:moveTo>
                  <a:pt x="0" y="0"/>
                </a:moveTo>
                <a:lnTo>
                  <a:pt x="80045" y="0"/>
                </a:lnTo>
                <a:lnTo>
                  <a:pt x="80045" y="21600"/>
                </a:lnTo>
                <a:lnTo>
                  <a:pt x="0" y="21600"/>
                </a:lnTo>
                <a:close/>
              </a:path>
              <a:path fill="lightenLess" w="80045" h="21600">
                <a:moveTo>
                  <a:pt x="0" y="0"/>
                </a:moveTo>
                <a:lnTo>
                  <a:pt x="80045" y="0"/>
                </a:lnTo>
                <a:lnTo>
                  <a:pt x="78645" y="1400"/>
                </a:lnTo>
                <a:lnTo>
                  <a:pt x="1400" y="1400"/>
                </a:lnTo>
                <a:close/>
              </a:path>
              <a:path fill="darken" w="80045" h="21600">
                <a:moveTo>
                  <a:pt x="80045" y="0"/>
                </a:moveTo>
                <a:lnTo>
                  <a:pt x="80045" y="21600"/>
                </a:lnTo>
                <a:lnTo>
                  <a:pt x="78645" y="20200"/>
                </a:lnTo>
                <a:lnTo>
                  <a:pt x="78645" y="1400"/>
                </a:lnTo>
                <a:close/>
              </a:path>
              <a:path fill="darkenLess" w="80045" h="21600">
                <a:moveTo>
                  <a:pt x="80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645" y="20200"/>
                </a:lnTo>
                <a:close/>
              </a:path>
              <a:path fill="lighten" w="80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оче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13"/>
          <p:cNvSpPr/>
          <p:nvPr/>
        </p:nvSpPr>
        <p:spPr>
          <a:xfrm>
            <a:off x="4067280" y="6165720"/>
            <a:ext cx="1584360" cy="432000"/>
          </a:xfrm>
          <a:custGeom>
            <a:avLst/>
            <a:gdLst>
              <a:gd name="textAreaLeft" fmla="*/ 27720 w 1584360"/>
              <a:gd name="textAreaRight" fmla="*/ 1556640 w 158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80"/>
          <p:cNvSpPr/>
          <p:nvPr/>
        </p:nvSpPr>
        <p:spPr>
          <a:xfrm>
            <a:off x="2556000" y="6165720"/>
            <a:ext cx="1512720" cy="432000"/>
          </a:xfrm>
          <a:custGeom>
            <a:avLst/>
            <a:gdLst>
              <a:gd name="textAreaLeft" fmla="*/ 27720 w 1512720"/>
              <a:gd name="textAreaRight" fmla="*/ 1485000 w 151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591" h="21600">
                <a:moveTo>
                  <a:pt x="0" y="0"/>
                </a:moveTo>
                <a:lnTo>
                  <a:pt x="75591" y="0"/>
                </a:lnTo>
                <a:lnTo>
                  <a:pt x="75591" y="21600"/>
                </a:lnTo>
                <a:lnTo>
                  <a:pt x="0" y="21600"/>
                </a:lnTo>
                <a:close/>
              </a:path>
              <a:path fill="lightenLess" w="75591" h="21600">
                <a:moveTo>
                  <a:pt x="0" y="0"/>
                </a:moveTo>
                <a:lnTo>
                  <a:pt x="75591" y="0"/>
                </a:lnTo>
                <a:lnTo>
                  <a:pt x="74191" y="1400"/>
                </a:lnTo>
                <a:lnTo>
                  <a:pt x="1400" y="1400"/>
                </a:lnTo>
                <a:close/>
              </a:path>
              <a:path fill="darken" w="75591" h="21600">
                <a:moveTo>
                  <a:pt x="75591" y="0"/>
                </a:moveTo>
                <a:lnTo>
                  <a:pt x="75591" y="21600"/>
                </a:lnTo>
                <a:lnTo>
                  <a:pt x="74191" y="20200"/>
                </a:lnTo>
                <a:lnTo>
                  <a:pt x="74191" y="1400"/>
                </a:lnTo>
                <a:close/>
              </a:path>
              <a:path fill="darkenLess" w="75591" h="21600">
                <a:moveTo>
                  <a:pt x="7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91" y="20200"/>
                </a:lnTo>
                <a:close/>
              </a:path>
              <a:path fill="lighten" w="7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2a9fa"/>
              </a:gs>
              <a:gs pos="50000">
                <a:srgbClr val="cbe5fd"/>
              </a:gs>
              <a:gs pos="100000">
                <a:srgbClr val="72a9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дание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8:10:53Z</dcterms:created>
  <dc:creator>UserXP</dc:creator>
  <dc:description/>
  <dc:language>en-US</dc:language>
  <cp:lastModifiedBy>User</cp:lastModifiedBy>
  <dcterms:modified xsi:type="dcterms:W3CDTF">2015-04-25T23:20:53Z</dcterms:modified>
  <cp:revision>121</cp:revision>
  <dc:subject/>
  <dc:title>Слайд 1</dc:title>
</cp:coreProperties>
</file>