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D2F-82DA-4EF7-A04C-1FD14995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2B0-1D9A-4FA8-A1A1-B8E77B55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162-114E-491E-BE8D-5A3953BF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5F2-1956-4974-849D-8F6751A3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4A0-616B-47F6-B6CE-90117679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CBC-3232-4093-8F7F-0701BDF5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F4A-9490-4215-8F6A-44D4F577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3A6-B8BD-40BD-9CB1-F22E38E9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8A5-5BBC-4E35-8ED7-47CC7C09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A18-A660-4D0D-BD3F-628A6145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1E9-AF2C-499D-B937-075D7ACC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C10-C322-424E-BCF1-436D03B8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17E1-8D46-4CF4-8EB6-03CC6D070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му : «ПОМОГИ НАШЕМУ ГОРОД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2276640"/>
            <a:ext cx="741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Коломыц Сергей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2 класса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 Гимназия № 3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як 2014 г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наверное думает: «Чтобы я сделал для своего города?». Мне представилась уникальная возможность поучаствовать в этом. Я бы обратил на следующие в нашем город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НАШЕГО Г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хотелось затрону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омные живот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молодеж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пожил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тый город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городе много бездомных домашних животных, и мне больно это видеть брошенных котят, щенят, которые живут в холоде. Я бы предложил открыть приют для них, где они ждали своих хозяев в тепле и чистоте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getImage (11).jpg"/>
          <p:cNvPicPr/>
          <p:nvPr/>
        </p:nvPicPr>
        <p:blipFill>
          <a:blip r:embed="rId1"/>
          <a:stretch/>
        </p:blipFill>
        <p:spPr>
          <a:xfrm>
            <a:off x="1692360" y="1916280"/>
            <a:ext cx="5975280" cy="4209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ЕЖЬ НАШЕГО Г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главных проблем среди молодежи – это вредные привычки. Такие как курение,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реш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говорить о вреде кур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 спорт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ть досуговые центры для молодеж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ь штрафы за продажу алкоголя несовершеннолет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getImage (16)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8658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getImage (17)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1214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getImage (25).jpg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19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ПОЖИЛЫХ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пенсию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 пожилых людей( кружки : спортивные: гимнастика, шахматы, вышивка, вязание, и т.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ть по дому( наводить порядок в доме, на улиц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В ШАХМ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getImage (28).jpg"/>
          <p:cNvPicPr/>
          <p:nvPr/>
        </p:nvPicPr>
        <p:blipFill>
          <a:blip r:embed="rId1"/>
          <a:stretch/>
        </p:blipFill>
        <p:spPr>
          <a:xfrm>
            <a:off x="611280" y="1413000"/>
            <a:ext cx="7921440" cy="4968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здравляют пожилых людей с НОВЫМ ГОДО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getImage (20).jpg"/>
          <p:cNvPicPr/>
          <p:nvPr/>
        </p:nvPicPr>
        <p:blipFill>
          <a:blip r:embed="rId1"/>
          <a:stretch/>
        </p:blipFill>
        <p:spPr>
          <a:xfrm>
            <a:off x="457200" y="155736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нате у пожилых люд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getImage (19).jpg"/>
          <p:cNvPicPr/>
          <p:nvPr/>
        </p:nvPicPr>
        <p:blipFill>
          <a:blip r:embed="rId1"/>
          <a:stretch/>
        </p:blipFill>
        <p:spPr>
          <a:xfrm>
            <a:off x="538200" y="1600200"/>
            <a:ext cx="8067600" cy="4525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мне твердят, что есть края иные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мире есть иная красот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 люблю сво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родные, милые мест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оляцковск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getImage (2).jpg"/>
          <p:cNvPicPr/>
          <p:nvPr/>
        </p:nvPicPr>
        <p:blipFill>
          <a:blip r:embed="rId1"/>
          <a:stretch/>
        </p:blipFill>
        <p:spPr>
          <a:xfrm>
            <a:off x="900000" y="2133720"/>
            <a:ext cx="7344000" cy="3992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ТЫЙ ГОРОД» – наша главная проблема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– ЗА ЧИСТЫЙ ГОРОД». Нужно создавать условия, чтобы было чисто и уютно возле своих домов в которых мы живем, всей улицы, мест где мы отдыхаем и возле предприят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РЕШ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ить больше мусорных ба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сти штрафы или вести разговор о чистом город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дка деревьев ( озеленение город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ь всем людям на суббот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getImage (22).jpg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getImage (24)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6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Ы НАШЕГО ГОРОД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getImage (23).jpg"/>
          <p:cNvPicPr/>
          <p:nvPr/>
        </p:nvPicPr>
        <p:blipFill>
          <a:blip r:embed="rId1"/>
          <a:stretch/>
        </p:blipFill>
        <p:spPr>
          <a:xfrm>
            <a:off x="468360" y="1773360"/>
            <a:ext cx="8280360" cy="435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ЫЙ ГОРОД – это сделать город чище, комфортнее и удобнее для прожи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ый город – это желание совместно сделать наш город таким , каким мы хотим его видеть. Чтобы каждый житель гордился своим городом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getImage (4).jpg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12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 ЛЮБИТЕ СВОЙ ГОРОД КАК ЛЮБЛЮ ЕГО 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getImage (26).jpg"/>
          <p:cNvPicPr/>
          <p:nvPr/>
        </p:nvPicPr>
        <p:blipFill>
          <a:blip r:embed="rId1"/>
          <a:stretch/>
        </p:blipFill>
        <p:spPr>
          <a:xfrm>
            <a:off x="684360" y="1413000"/>
            <a:ext cx="78483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Горняке есть мемориал, парк, спортивная школа, стадион, дом культуры, церковь и много других красивых мест куда можно сходить и провести время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getImage (5).jpg"/>
          <p:cNvPicPr/>
          <p:nvPr/>
        </p:nvPicPr>
        <p:blipFill>
          <a:blip r:embed="rId1"/>
          <a:stretch/>
        </p:blipFill>
        <p:spPr>
          <a:xfrm>
            <a:off x="1163520" y="1600200"/>
            <a:ext cx="681696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getImage (6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getImage (7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ая шк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getImage (16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getImage (18).jpg"/>
          <p:cNvPicPr/>
          <p:nvPr/>
        </p:nvPicPr>
        <p:blipFill>
          <a:blip r:embed="rId1"/>
          <a:stretch/>
        </p:blipFill>
        <p:spPr>
          <a:xfrm>
            <a:off x="1171440" y="1600200"/>
            <a:ext cx="680112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ОРИ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getImage (8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getImage (30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14:49:33Z</dcterms:created>
  <dc:creator>юлия</dc:creator>
  <dc:description/>
  <dc:language>en-US</dc:language>
  <cp:lastModifiedBy>l</cp:lastModifiedBy>
  <dcterms:modified xsi:type="dcterms:W3CDTF">2015-04-26T09:35:28Z</dcterms:modified>
  <cp:revision>32</cp:revision>
  <dc:subject/>
  <dc:title>ПРЕЗЕНТАЦИЯ  на тему : «ПОМОГИ НАШЕМУ ГОРОДУ».</dc:title>
</cp:coreProperties>
</file>