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6B5-6A59-401E-8F97-20CE50C4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37C-600F-493D-A6F8-516B845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D48-414D-4CAF-BFAE-E8AB3ACA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D3E-597B-439A-BFD9-50F5F2EE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2DE-64DE-4EBE-A489-817D1153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76D-3936-4A12-A96D-39F003D3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E20-07E0-4080-A964-4D005319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383-0E97-467F-9356-9D164B88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410-0899-41CA-A1CB-2C2BE74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F76-EFB4-4144-B6B0-600AB2C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B10-2B92-423F-96C9-477EA59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9E4-453A-4A04-8406-6ADBA7F9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F41-D80B-4FE5-AC91-D8DAD70C4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: «ПОМОГИ НАШЕМУ ГОР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4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Коломыц Сергей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2 класса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 Гимназия № 3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як 2014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наверное думает: «Чтобы я сделал для своего города?». Мне представилась уникальная возможность поучаствовать в этом. Я бы обратил на следующие в нашем горо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НАШЕГО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хотелось затрону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живот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молодеж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пожил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ый город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городе много бездомных домашних животных, и мне больно это видеть брошенных котят, щенят, которые живут в холоде. Я бы предложил открыть приют для них, где они ждали своих хозяев в тепле и чистоте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getImage (11).jpg"/>
          <p:cNvPicPr/>
          <p:nvPr/>
        </p:nvPicPr>
        <p:blipFill>
          <a:blip r:embed="rId1"/>
          <a:stretch/>
        </p:blipFill>
        <p:spPr>
          <a:xfrm>
            <a:off x="1692360" y="1916280"/>
            <a:ext cx="5975280" cy="420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ЕЖЬ НАШЕГО Г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главных проблем среди молодежи – это вредные привычки. Такие как курение,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говорить о вреде ку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спор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ть досуговые центры для молодеж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штрафы за продажу алкоголя несовершеннол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getImage (16)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865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getImage (17)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21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getImage (25).jpg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19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ПОЖИЛЫ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енсию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 пожилых людей( кружки : спортивные: гимнастика, шахматы, вышивка, вязание, и т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по дому( наводить порядок в доме, на ули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В ШАХМ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getImage (28).jpg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здравляют пожилых людей с НОВЫМ ГОДО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getImage (20).jpg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е у пожилых люд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getImage (19).jpg"/>
          <p:cNvPicPr/>
          <p:nvPr/>
        </p:nvPicPr>
        <p:blipFill>
          <a:blip r:embed="rId1"/>
          <a:stretch/>
        </p:blipFill>
        <p:spPr>
          <a:xfrm>
            <a:off x="538200" y="1600200"/>
            <a:ext cx="806760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мне твердят, что есть края ины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мире есть иная красот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люблю сво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одные, милые мест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оляцковск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getImage (2).jpg"/>
          <p:cNvPicPr/>
          <p:nvPr/>
        </p:nvPicPr>
        <p:blipFill>
          <a:blip r:embed="rId1"/>
          <a:stretch/>
        </p:blipFill>
        <p:spPr>
          <a:xfrm>
            <a:off x="900000" y="2133720"/>
            <a:ext cx="7344000" cy="399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ЫЙ ГОРОД» – наша главная проблема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– ЗА ЧИСТЫЙ ГОРОД». Нужно создавать условия, чтобы было чисто и уютно возле своих домов в которых мы живем, всей улицы, мест где мы отдыхаем и возле предпри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больше мусорных ба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штрафы или вести разговор о чистом горо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ка деревьев ( озеленение город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всем людям на суббот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getImage (22).jpg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getImage (24)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6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Ы НАШЕГО ГОР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getImage (23).jpg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35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Й ГОРОД – это сделать город чище, комфортнее и удобнее для про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й город – это желание совместно сделать наш город таким , каким мы хотим его видеть. Чтобы каждый житель гордился своим городом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getImage (4)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ЛЮБИТЕ СВОЙ ГОРОД КАК ЛЮБЛЮ ЕГО 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getImage (26).jpg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Горняке есть мемориал, парк, спортивная школа, стадион, дом культуры, церковь и много других красивых мест куда можно сходить и провести время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getImage (5).jpg"/>
          <p:cNvPicPr/>
          <p:nvPr/>
        </p:nvPicPr>
        <p:blipFill>
          <a:blip r:embed="rId1"/>
          <a:stretch/>
        </p:blipFill>
        <p:spPr>
          <a:xfrm>
            <a:off x="1163520" y="1600200"/>
            <a:ext cx="68169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getImage (6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getImage (7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getImage (16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getImage (18).jpg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getImage (8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getImage (30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14:49:33Z</dcterms:created>
  <dc:creator>юлия</dc:creator>
  <dc:description/>
  <dc:language>en-US</dc:language>
  <cp:lastModifiedBy>l</cp:lastModifiedBy>
  <dcterms:modified xsi:type="dcterms:W3CDTF">2015-04-26T09:35:28Z</dcterms:modified>
  <cp:revision>32</cp:revision>
  <dc:subject/>
  <dc:title>ПРЕЗЕНТАЦИЯ  на тему : «ПОМОГИ НАШЕМУ ГОРОДУ».</dc:title>
</cp:coreProperties>
</file>