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jpeg" ContentType="image/jpeg"/>
  <Override PartName="/ppt/media/image23.wmf" ContentType="image/x-wmf"/>
  <Override PartName="/ppt/media/image21.gif" ContentType="image/gif"/>
  <Override PartName="/ppt/media/image20.gif" ContentType="image/gif"/>
  <Override PartName="/ppt/media/image26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gif" ContentType="image/gif"/>
  <Override PartName="/ppt/media/image14.gif" ContentType="image/gif"/>
  <Override PartName="/ppt/media/image1.jpeg" ContentType="image/jpeg"/>
  <Override PartName="/ppt/media/image3.png" ContentType="image/png"/>
  <Override PartName="/ppt/media/image33.wmf" ContentType="image/x-wmf"/>
  <Override PartName="/ppt/media/image13.wmf" ContentType="image/x-wmf"/>
  <Override PartName="/ppt/media/image5.png" ContentType="image/png"/>
  <Override PartName="/ppt/media/image11.gif" ContentType="image/gif"/>
  <Override PartName="/ppt/media/image10.gif" ContentType="image/gif"/>
  <Override PartName="/ppt/media/image43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5.wmf" ContentType="image/x-wmf"/>
  <Override PartName="/ppt/media/image9.gif" ContentType="image/gif"/>
  <Override PartName="/ppt/media/image2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8.gif" ContentType="image/gif"/>
  <Override PartName="/ppt/media/image19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949-FCAC-449F-90DB-3530781B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885-A8A3-43FD-8F6A-B52BCB0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C85-8B10-4DE4-BDD3-461E7ABF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4AF-C549-4643-87E8-5A007799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76E-EB52-4DA0-BBD6-8D3E428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C54-9398-4873-A441-A88A8EB6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F69-B3DD-4A82-AAD5-4960A2C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9A6-F56D-48C3-AF89-E721E236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4B2-5D27-4DEC-8024-BC183B5F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DA5-989D-4F61-83D1-9F4117AB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016-3AC5-4AEC-9251-938D33F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DA3-7DC8-47A8-BCC0-2364022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E51-063C-4055-80E0-18310E739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D:\группы\фото рамок\Spring-7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944640" y="1262160"/>
            <a:ext cx="7076880" cy="172548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3071880" y="3929040"/>
            <a:ext cx="54291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Bookman Old Style"/>
              </a:rPr>
              <a:t>Подготовила: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                         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МБДОУ детский с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                         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общеразвивающего ви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                          № </a:t>
            </a:r>
            <a:r>
              <a:rPr b="1" i="1" lang="ru-RU" sz="1800" spc="-1" strike="noStrike">
                <a:solidFill>
                  <a:srgbClr val="403152"/>
                </a:solidFill>
                <a:latin typeface="Bookman Old Style"/>
              </a:rPr>
              <a:t>42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Bookman Old Style"/>
              </a:rPr>
              <a:t>                        </a:t>
            </a:r>
            <a:r>
              <a:rPr b="1" lang="ru-RU" sz="2400" spc="-1" strike="noStrike">
                <a:solidFill>
                  <a:srgbClr val="953735"/>
                </a:solidFill>
                <a:latin typeface="Bookman Old Style"/>
              </a:rPr>
              <a:t>Данилова О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main_big.jpg"/>
          <p:cNvPicPr/>
          <p:nvPr/>
        </p:nvPicPr>
        <p:blipFill>
          <a:blip r:embed="rId2"/>
          <a:stretch/>
        </p:blipFill>
        <p:spPr>
          <a:xfrm>
            <a:off x="4356000" y="620640"/>
            <a:ext cx="4464000" cy="4464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i.jpg"/>
          <p:cNvPicPr/>
          <p:nvPr/>
        </p:nvPicPr>
        <p:blipFill>
          <a:blip r:embed="rId3"/>
          <a:stretch/>
        </p:blipFill>
        <p:spPr>
          <a:xfrm>
            <a:off x="468360" y="476280"/>
            <a:ext cx="2951280" cy="4753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539640" y="5661000"/>
            <a:ext cx="344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егко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ер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унь, оно летит сам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572000" y="5661000"/>
            <a:ext cx="39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яжел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ганте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поднять их не сум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021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mph" presetID="32" repeatCount="1000">
                                  <p:stCondLst>
                                    <p:cond delay="350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mkr2.jpg"/>
          <p:cNvPicPr/>
          <p:nvPr/>
        </p:nvPicPr>
        <p:blipFill>
          <a:blip r:embed="rId2"/>
          <a:stretch/>
        </p:blipFill>
        <p:spPr>
          <a:xfrm>
            <a:off x="468360" y="549360"/>
            <a:ext cx="3527280" cy="41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J:\Clip Art\Household\Bedroom\Pillow 8.wmf"/>
          <p:cNvPicPr/>
          <p:nvPr/>
        </p:nvPicPr>
        <p:blipFill>
          <a:blip r:embed="rId3"/>
          <a:stretch/>
        </p:blipFill>
        <p:spPr>
          <a:xfrm>
            <a:off x="5148360" y="3716280"/>
            <a:ext cx="3456000" cy="2594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402840" y="573264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верд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амень на пу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учше сразу обой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151240" y="620640"/>
            <a:ext cx="36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ягкую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уш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ожи скорей под ушк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957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2" repeatCount="1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2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mph" presetID="32" repeatCount="1000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J:\Clip Art\Kids' Stuff\Images (A - Bo)\Boy Playing Baseball 1.wmf"/>
          <p:cNvPicPr/>
          <p:nvPr/>
        </p:nvPicPr>
        <p:blipFill>
          <a:blip r:embed="rId2"/>
          <a:stretch/>
        </p:blipFill>
        <p:spPr>
          <a:xfrm>
            <a:off x="1547640" y="1052640"/>
            <a:ext cx="2073600" cy="432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:\Clip Art\Animals\Birds (A - Bi)\Bird 019.wmf"/>
          <p:cNvPicPr/>
          <p:nvPr/>
        </p:nvPicPr>
        <p:blipFill>
          <a:blip r:embed="rId3"/>
          <a:stretch/>
        </p:blipFill>
        <p:spPr>
          <a:xfrm>
            <a:off x="250920" y="1484280"/>
            <a:ext cx="1284120" cy="101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:\Clip Art\Animals\Birds (A - Bi)\Bird &amp; House.wmf"/>
          <p:cNvPicPr/>
          <p:nvPr/>
        </p:nvPicPr>
        <p:blipFill>
          <a:blip r:embed="rId4"/>
          <a:stretch/>
        </p:blipFill>
        <p:spPr>
          <a:xfrm>
            <a:off x="7334280" y="692280"/>
            <a:ext cx="123012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J:\Clip Art\Kids' Stuff\Images (Bo - D)\Boy Smiling 2.wmf"/>
          <p:cNvPicPr/>
          <p:nvPr/>
        </p:nvPicPr>
        <p:blipFill>
          <a:blip r:embed="rId5"/>
          <a:stretch/>
        </p:blipFill>
        <p:spPr>
          <a:xfrm>
            <a:off x="5076720" y="1197000"/>
            <a:ext cx="2303640" cy="3887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9"/>
          <p:cNvSpPr/>
          <p:nvPr/>
        </p:nvSpPr>
        <p:spPr>
          <a:xfrm>
            <a:off x="267120" y="5589720"/>
            <a:ext cx="43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л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льчишка бросил палк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том и камень в гал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5020920" y="5589720"/>
            <a:ext cx="39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бр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птичку накорм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кормушку смастер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003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 repeatCount="1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29" dur="1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J:\Clip Art\Animals\Cartoons (Mo - O)\Mouse 29.wmf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475920" y="5516640"/>
            <a:ext cx="369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н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ольшо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жует трав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вкусную е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076720" y="4762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леньк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ыш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т грызть страницы в книж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J:\Clip Art\Education &amp; Schools\Books\Book - Science 2.wmf"/>
          <p:cNvPicPr/>
          <p:nvPr/>
        </p:nvPicPr>
        <p:blipFill>
          <a:blip r:embed="rId3"/>
          <a:stretch/>
        </p:blipFill>
        <p:spPr>
          <a:xfrm>
            <a:off x="7524720" y="378936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J:\Clip Art\Animals\Cartoons (Do - Fi)\Elephant 22.wmf"/>
          <p:cNvPicPr/>
          <p:nvPr/>
        </p:nvPicPr>
        <p:blipFill>
          <a:blip r:embed="rId4"/>
          <a:stretch/>
        </p:blipFill>
        <p:spPr>
          <a:xfrm>
            <a:off x="468360" y="333360"/>
            <a:ext cx="4248000" cy="424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J:\Clip Art\Plants &amp; Flowers\Plants\Plant 012.wmf"/>
          <p:cNvPicPr/>
          <p:nvPr/>
        </p:nvPicPr>
        <p:blipFill>
          <a:blip r:embed="rId5"/>
          <a:stretch/>
        </p:blipFill>
        <p:spPr>
          <a:xfrm>
            <a:off x="611280" y="3213000"/>
            <a:ext cx="1903320" cy="1739880"/>
          </a:xfrm>
          <a:prstGeom prst="rect">
            <a:avLst/>
          </a:prstGeom>
          <a:ln w="0">
            <a:noFill/>
          </a:ln>
        </p:spPr>
      </p:pic>
      <p:pic>
        <p:nvPicPr>
          <p:cNvPr id="123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073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9" repeatCount="1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mph" presetID="19" repeatCount="1000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3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J:\Clip Art\Food &amp; Drink\Drinks - Non-Alcoholic\Coffee 13.wmf"/>
          <p:cNvPicPr/>
          <p:nvPr/>
        </p:nvPicPr>
        <p:blipFill>
          <a:blip r:embed="rId2"/>
          <a:stretch/>
        </p:blipFill>
        <p:spPr>
          <a:xfrm>
            <a:off x="468360" y="549360"/>
            <a:ext cx="34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J:\Clip Art\Food &amp; Drink\Drinks - Non-Alcoholic\Lemonade 15.wmf"/>
          <p:cNvPicPr/>
          <p:nvPr/>
        </p:nvPicPr>
        <p:blipFill>
          <a:blip r:embed="rId3"/>
          <a:stretch/>
        </p:blipFill>
        <p:spPr>
          <a:xfrm>
            <a:off x="5364000" y="2708280"/>
            <a:ext cx="3329280" cy="3686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0"/>
          <p:cNvSpPr/>
          <p:nvPr/>
        </p:nvSpPr>
        <p:spPr>
          <a:xfrm>
            <a:off x="483840" y="5516640"/>
            <a:ext cx="34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й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оряч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налье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огреемся вдво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4932360" y="476280"/>
            <a:ext cx="37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олодный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осмотр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гает от ж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913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5" presetSubtype="10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J:\Clip Art\Animals\Cartoons (R - Rh)\Rabbit 34.wmf"/>
          <p:cNvPicPr/>
          <p:nvPr/>
        </p:nvPicPr>
        <p:blipFill>
          <a:blip r:embed="rId2"/>
          <a:stretch/>
        </p:blipFill>
        <p:spPr>
          <a:xfrm>
            <a:off x="5148360" y="335772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J:\Clip Art\Animals\Cartoons (Fi - Fo)\Fox Standing.wmf"/>
          <p:cNvPicPr/>
          <p:nvPr/>
        </p:nvPicPr>
        <p:blipFill>
          <a:blip r:embed="rId3"/>
          <a:stretch/>
        </p:blipFill>
        <p:spPr>
          <a:xfrm>
            <a:off x="900000" y="1197000"/>
            <a:ext cx="2159280" cy="4392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4859280" y="476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красавицы-лис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лин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хвостик для крас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802760" y="1700280"/>
            <a:ext cx="34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ротк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у зайчи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строногого трусиш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954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 repeatCount="1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J:\Clip Art\Kids' Stuff\Images (A - Bo)\Boy in Shorts 10.wmf"/>
          <p:cNvPicPr/>
          <p:nvPr/>
        </p:nvPicPr>
        <p:blipFill>
          <a:blip r:embed="rId2"/>
          <a:stretch/>
        </p:blipFill>
        <p:spPr>
          <a:xfrm>
            <a:off x="7164360" y="2276640"/>
            <a:ext cx="1511280" cy="3000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J:\Clip Art\Kids' Stuff\Images (Bo - D)\Boy with Backpack 2.wmf"/>
          <p:cNvPicPr/>
          <p:nvPr/>
        </p:nvPicPr>
        <p:blipFill>
          <a:blip r:embed="rId3"/>
          <a:stretch/>
        </p:blipFill>
        <p:spPr>
          <a:xfrm>
            <a:off x="4716360" y="2133720"/>
            <a:ext cx="2048040" cy="32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J:\Clip Art\Kids' Stuff\Images (Bo - D)\Boy with Bag 1.wmf"/>
          <p:cNvPicPr/>
          <p:nvPr/>
        </p:nvPicPr>
        <p:blipFill>
          <a:blip r:embed="rId4"/>
          <a:stretch/>
        </p:blipFill>
        <p:spPr>
          <a:xfrm>
            <a:off x="684360" y="333360"/>
            <a:ext cx="2374920" cy="532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:\Clip Art\Kids' Stuff\Images (Bo - D)\Boy with Bag 2.wmf"/>
          <p:cNvPicPr/>
          <p:nvPr/>
        </p:nvPicPr>
        <p:blipFill>
          <a:blip r:embed="rId5"/>
          <a:stretch/>
        </p:blipFill>
        <p:spPr>
          <a:xfrm>
            <a:off x="3132000" y="1125360"/>
            <a:ext cx="1727280" cy="4219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2"/>
          <p:cNvSpPr/>
          <p:nvPr/>
        </p:nvSpPr>
        <p:spPr>
          <a:xfrm flipH="1">
            <a:off x="1186560" y="5732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 меня семья большая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ервы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па мой шага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я плетусь, никуда не тороплю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0819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5" repeatCount="2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5" repeatCount="2000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:\группы\фото рамок\0_a807e_3053c87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5303520" y="404640"/>
            <a:ext cx="335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бо 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ысок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достать нам до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изко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ягкая тра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цветочки, и зем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4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J:\Clip Art\Animals\Cartoons (Bu - Ca)\Camel 15.wmf"/>
          <p:cNvPicPr/>
          <p:nvPr/>
        </p:nvPicPr>
        <p:blipFill>
          <a:blip r:embed="rId2"/>
          <a:stretch/>
        </p:blipFill>
        <p:spPr>
          <a:xfrm>
            <a:off x="6659640" y="2060640"/>
            <a:ext cx="2224080" cy="3097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250920" y="573264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ыстр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гает тигри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-бы как-то прокорми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5373000" y="476280"/>
            <a:ext cx="32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ерблюд, наобо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дленн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д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J:\Clip Art\Plants &amp; Flowers\Plants\Grass.wmf"/>
          <p:cNvPicPr/>
          <p:nvPr/>
        </p:nvPicPr>
        <p:blipFill>
          <a:blip r:embed="rId3"/>
          <a:stretch/>
        </p:blipFill>
        <p:spPr>
          <a:xfrm>
            <a:off x="395280" y="549360"/>
            <a:ext cx="3848040" cy="3857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jivotniea-3631.gif"/>
          <p:cNvPicPr/>
          <p:nvPr/>
        </p:nvPicPr>
        <p:blipFill>
          <a:blip r:embed="rId4"/>
          <a:stretch/>
        </p:blipFill>
        <p:spPr>
          <a:xfrm>
            <a:off x="826920" y="692280"/>
            <a:ext cx="3024360" cy="475272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5"/>
          <a:stretch/>
        </p:blipFill>
        <p:spPr>
          <a:xfrm>
            <a:off x="4149720" y="3152880"/>
            <a:ext cx="55260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02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5.55556E-007 -4.81481E-006 L -0.25 -4.81481E-006 E">
                                      <p:cBhvr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detia-804.gif"/>
          <p:cNvPicPr/>
          <p:nvPr/>
        </p:nvPicPr>
        <p:blipFill>
          <a:blip r:embed="rId2"/>
          <a:stretch/>
        </p:blipFill>
        <p:spPr>
          <a:xfrm>
            <a:off x="755640" y="765000"/>
            <a:ext cx="158436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detia-735.gif"/>
          <p:cNvPicPr/>
          <p:nvPr/>
        </p:nvPicPr>
        <p:blipFill>
          <a:blip r:embed="rId3"/>
          <a:stretch/>
        </p:blipFill>
        <p:spPr>
          <a:xfrm>
            <a:off x="5292720" y="620640"/>
            <a:ext cx="2448000" cy="2509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detia-774.gif"/>
          <p:cNvPicPr/>
          <p:nvPr/>
        </p:nvPicPr>
        <p:blipFill>
          <a:blip r:embed="rId4"/>
          <a:stretch/>
        </p:blipFill>
        <p:spPr>
          <a:xfrm>
            <a:off x="5796000" y="3213000"/>
            <a:ext cx="1297080" cy="2087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398520" y="566100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кучн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 одном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стей к себе з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306760" y="5661000"/>
            <a:ext cx="36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ем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сел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гр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гать, прыгать, догоня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Записанный звук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45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J:\Clip Art\Household\Home Improvement\Door - Open 3.wmf"/>
          <p:cNvPicPr/>
          <p:nvPr/>
        </p:nvPicPr>
        <p:blipFill>
          <a:blip r:embed="rId2"/>
          <a:stretch/>
        </p:blipFill>
        <p:spPr>
          <a:xfrm>
            <a:off x="5003640" y="549360"/>
            <a:ext cx="3456000" cy="417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J:\Clip Art\Household\Home Improvement\Window 20.wmf"/>
          <p:cNvPicPr/>
          <p:nvPr/>
        </p:nvPicPr>
        <p:blipFill>
          <a:blip r:embed="rId3"/>
          <a:stretch/>
        </p:blipFill>
        <p:spPr>
          <a:xfrm>
            <a:off x="324000" y="620640"/>
            <a:ext cx="3743280" cy="4103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468360" y="551664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етит солнышко в окн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л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арк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716360" y="5229360"/>
            <a:ext cx="4427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й, ка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олодн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перь. Ветерок пролез под двер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931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6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7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detia-679.gif"/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detia-674.gif"/>
          <p:cNvPicPr/>
          <p:nvPr/>
        </p:nvPicPr>
        <p:blipFill>
          <a:blip r:embed="rId3"/>
          <a:stretch/>
        </p:blipFill>
        <p:spPr>
          <a:xfrm>
            <a:off x="5580000" y="981000"/>
            <a:ext cx="1871640" cy="3130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24000" y="5300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их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шем дом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т еще, братишка – со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859280" y="530064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ромк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кричу : Встава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о мною поигра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940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483120" y="5445000"/>
            <a:ext cx="40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иль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мишка косолап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, какие ла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859280" y="33336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т заинька – трусиш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ззащитный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аб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ишк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J:\Clip Art\Plants &amp; Flowers\Plants\Plant 055.wmf"/>
          <p:cNvPicPr/>
          <p:nvPr/>
        </p:nvPicPr>
        <p:blipFill>
          <a:blip r:embed="rId2"/>
          <a:stretch/>
        </p:blipFill>
        <p:spPr>
          <a:xfrm>
            <a:off x="324000" y="1844640"/>
            <a:ext cx="4671720" cy="32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J:\Clip Art\Animals\Cartoons (A - Be)\Bear 14.wmf"/>
          <p:cNvPicPr/>
          <p:nvPr/>
        </p:nvPicPr>
        <p:blipFill>
          <a:blip r:embed="rId3"/>
          <a:stretch/>
        </p:blipFill>
        <p:spPr>
          <a:xfrm>
            <a:off x="755640" y="189000"/>
            <a:ext cx="3776760" cy="408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J:\Clip Art\Plants &amp; Flowers\Plants\Plant 056.wmf"/>
          <p:cNvPicPr/>
          <p:nvPr/>
        </p:nvPicPr>
        <p:blipFill>
          <a:blip r:embed="rId4"/>
          <a:stretch/>
        </p:blipFill>
        <p:spPr>
          <a:xfrm>
            <a:off x="5292720" y="4146480"/>
            <a:ext cx="3301920" cy="24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:\Clip Art\Animals\Cartoons (R - Rh)\Rabbit - Friendly.wmf"/>
          <p:cNvPicPr/>
          <p:nvPr/>
        </p:nvPicPr>
        <p:blipFill>
          <a:blip r:embed="rId5"/>
          <a:stretch/>
        </p:blipFill>
        <p:spPr>
          <a:xfrm>
            <a:off x="5651640" y="2205000"/>
            <a:ext cx="3097080" cy="3492360"/>
          </a:xfrm>
          <a:prstGeom prst="rect">
            <a:avLst/>
          </a:prstGeom>
          <a:ln w="0">
            <a:noFill/>
          </a:ln>
        </p:spPr>
      </p:pic>
      <p:pic>
        <p:nvPicPr>
          <p:cNvPr id="83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022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koshkia-1290.gif"/>
          <p:cNvPicPr/>
          <p:nvPr/>
        </p:nvPicPr>
        <p:blipFill>
          <a:blip r:embed="rId2"/>
          <a:stretch/>
        </p:blipFill>
        <p:spPr>
          <a:xfrm>
            <a:off x="611280" y="981000"/>
            <a:ext cx="403200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koshkia-1165.gif"/>
          <p:cNvPicPr/>
          <p:nvPr/>
        </p:nvPicPr>
        <p:blipFill>
          <a:blip r:embed="rId3"/>
          <a:stretch/>
        </p:blipFill>
        <p:spPr>
          <a:xfrm>
            <a:off x="5651640" y="3500280"/>
            <a:ext cx="2808000" cy="2795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26520" y="5516640"/>
            <a:ext cx="400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растил себе живо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ш соседский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олст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508720" y="620640"/>
            <a:ext cx="312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теноче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ому что  мол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949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 repeatCount="1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J:\Clip Art\Plants &amp; Flowers\General\Mushroom 13.wmf"/>
          <p:cNvPicPr/>
          <p:nvPr/>
        </p:nvPicPr>
        <p:blipFill>
          <a:blip r:embed="rId2"/>
          <a:stretch/>
        </p:blipFill>
        <p:spPr>
          <a:xfrm>
            <a:off x="468360" y="620640"/>
            <a:ext cx="2951280" cy="352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J:\Clip Art\Plants &amp; Flowers\General\Mushroom 16.wmf"/>
          <p:cNvPicPr/>
          <p:nvPr/>
        </p:nvPicPr>
        <p:blipFill>
          <a:blip r:embed="rId3"/>
          <a:stretch/>
        </p:blipFill>
        <p:spPr>
          <a:xfrm>
            <a:off x="5364000" y="2637000"/>
            <a:ext cx="3311640" cy="3998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395280" y="551664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онк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жкой мухомо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меня глядит в упо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788000" y="549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на краешке дорож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ровик н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олсто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ож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049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mph" presetID="32" repeatCount="1000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33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5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19:52Z</dcterms:created>
  <dc:creator>Ольга</dc:creator>
  <dc:description/>
  <dc:language>en-US</dc:language>
  <cp:lastModifiedBy>Admin</cp:lastModifiedBy>
  <dcterms:modified xsi:type="dcterms:W3CDTF">2015-04-26T09:27:56Z</dcterms:modified>
  <cp:revision>106</cp:revision>
  <dc:subject/>
  <dc:title>Слайд 1</dc:title>
</cp:coreProperties>
</file>