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CE96-F6E7-4487-910C-88766667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077D-E48E-4420-84AB-3A5CF661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2754-7C86-438B-BD41-EB605165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D08E-2AFC-4CDC-BF2F-B9AC34CA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B375-75C8-4920-AF00-B3212501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F30F-50B8-4CBF-B19E-CABB8610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3EB2-D588-4056-9804-34BDC3CC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B71B-6E07-4166-B53A-697ADD91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AE1B-D4B3-45FD-A69D-E07F7281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439E-C50D-481A-AB38-B8E7DDA6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A7DA-9C23-4B3A-93A2-0FCDF5BD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4096-3306-4BE5-B195-5272D0ED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FC66-FB06-4636-B1FA-480CF060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871B-6F86-4AE9-A58C-975689DF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20C0-D397-4B59-8B63-E8908EC6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F3F7-EEAD-48DD-B628-0B234BBB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93D7-10B3-478E-8FB0-2B512568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E77-0D02-4DB0-87EC-AF62291E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2B3-5038-48B0-8719-50F44964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3A32-F1DA-41C6-8927-80F77DD7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C720-6F9B-4BEF-8E08-72740CD4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5AF5-4801-49CE-B9F8-8FEA1F18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871-A02E-43F9-825A-E67E826D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7D0-42AB-4AD5-9AAF-061772C4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b83d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d49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f4e7e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13f9a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83d6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490c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83d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83d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2E63-5CFD-49B2-AFC6-FD9710C0B6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b83d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f4e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f4e7e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d49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f4e7e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13f9a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83d6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490c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83d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83d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6E0F-C0B4-46A5-830A-0F04319DAE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5960" y="1071720"/>
            <a:ext cx="721512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7439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874396"/>
                </a:solidFill>
                <a:latin typeface="Times New Roman"/>
              </a:rPr>
              <a:t>ТЕМА ВЫСТУПЛЕНИЯ:</a:t>
            </a:r>
            <a:br>
              <a:rPr sz="1200"/>
            </a:br>
            <a:br>
              <a:rPr sz="1800"/>
            </a:br>
            <a:r>
              <a:rPr b="1" lang="ru-RU" sz="1800" spc="-1" strike="noStrike">
                <a:solidFill>
                  <a:srgbClr val="b83d68"/>
                </a:solidFill>
                <a:latin typeface="Times New Roman"/>
              </a:rPr>
              <a:t>ПРОФИЛИРОВАНИЕ СОДЕРЖАНИЯ ДИСЦИПЛИНЫ : «ОСНОВЫ БЕЗОПАСНОСТИ ЖИЗНЕДЕЯТЕЛЬНОСТИ» НА ПРИМЕРЕ ПРОФЕССИИ: ПОВАР, КОНДИТЕР</a:t>
            </a:r>
            <a:endParaRPr b="0" lang="en-US" sz="18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99720" y="4857840"/>
            <a:ext cx="77151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авлова Ма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еподаватель ОБ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57120" y="285840"/>
            <a:ext cx="8786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БОУ СПО (ССУЗ) «Челябинский государствен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лледж индустрии питания и торгов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5"/>
          <p:cNvGrpSpPr/>
          <p:nvPr/>
        </p:nvGrpSpPr>
        <p:grpSpPr>
          <a:xfrm>
            <a:off x="7675920" y="8640"/>
            <a:ext cx="2615400" cy="1743120"/>
            <a:chOff x="7675920" y="8640"/>
            <a:chExt cx="2615400" cy="1743120"/>
          </a:xfrm>
        </p:grpSpPr>
        <p:grpSp>
          <p:nvGrpSpPr>
            <p:cNvPr id="101" name="Group 6"/>
            <p:cNvGrpSpPr/>
            <p:nvPr/>
          </p:nvGrpSpPr>
          <p:grpSpPr>
            <a:xfrm>
              <a:off x="7909560" y="8640"/>
              <a:ext cx="651600" cy="1523160"/>
              <a:chOff x="7909560" y="8640"/>
              <a:chExt cx="651600" cy="1523160"/>
            </a:xfrm>
          </p:grpSpPr>
          <p:sp>
            <p:nvSpPr>
              <p:cNvPr id="102" name="AutoShape 7"/>
              <p:cNvSpPr/>
              <p:nvPr/>
            </p:nvSpPr>
            <p:spPr>
              <a:xfrm rot="16003200">
                <a:off x="7497000" y="905400"/>
                <a:ext cx="996480" cy="114840"/>
              </a:xfrm>
              <a:prstGeom prst="rtTriangle">
                <a:avLst/>
              </a:prstGeom>
              <a:solidFill>
                <a:srgbClr val="dddddd"/>
              </a:solidFill>
              <a:ln w="381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8"/>
              <p:cNvSpPr/>
              <p:nvPr/>
            </p:nvSpPr>
            <p:spPr>
              <a:xfrm rot="17233200">
                <a:off x="7478640" y="681840"/>
                <a:ext cx="1540080" cy="176040"/>
              </a:xfrm>
              <a:prstGeom prst="rtTriangle">
                <a:avLst/>
              </a:prstGeom>
              <a:solidFill>
                <a:srgbClr val="c0c0c0">
                  <a:alpha val="60000"/>
                </a:srgbClr>
              </a:solidFill>
              <a:ln w="38160">
                <a:solidFill>
                  <a:srgbClr val="c23e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9"/>
            <p:cNvGrpSpPr/>
            <p:nvPr/>
          </p:nvGrpSpPr>
          <p:grpSpPr>
            <a:xfrm>
              <a:off x="7675920" y="891720"/>
              <a:ext cx="2615400" cy="860040"/>
              <a:chOff x="7675920" y="891720"/>
              <a:chExt cx="2615400" cy="860040"/>
            </a:xfrm>
          </p:grpSpPr>
          <p:sp>
            <p:nvSpPr>
              <p:cNvPr id="105" name="AutoShape 10"/>
              <p:cNvSpPr/>
              <p:nvPr/>
            </p:nvSpPr>
            <p:spPr>
              <a:xfrm rot="21193800">
                <a:off x="9575280" y="929160"/>
                <a:ext cx="676440" cy="705240"/>
              </a:xfrm>
              <a:custGeom>
                <a:avLst/>
                <a:gdLst>
                  <a:gd name="textAreaLeft" fmla="*/ 99000 w 676440"/>
                  <a:gd name="textAreaRight" fmla="*/ 577440 w 676440"/>
                  <a:gd name="textAreaTop" fmla="*/ 102960 h 705240"/>
                  <a:gd name="textAreaBottom" fmla="*/ 602280 h 70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WordArt 11"/>
              <p:cNvSpPr txBox="1"/>
              <p:nvPr/>
            </p:nvSpPr>
            <p:spPr>
              <a:xfrm rot="21193800">
                <a:off x="7714800" y="1008000"/>
                <a:ext cx="680760" cy="705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irclePour">
                  <a:avLst>
                    <a:gd name="adj1" fmla="val 10859995"/>
                    <a:gd name="adj2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38160">
                      <a:solidFill>
                        <a:srgbClr val="c23e83"/>
                      </a:solidFill>
                      <a:miter/>
                    </a:ln>
                    <a:solidFill>
                      <a:srgbClr val="c0c0c0"/>
                    </a:solidFill>
                    <a:effectLst>
                      <a:outerShdw dist="17819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Arial Black"/>
                  </a:rPr>
                  <a:t>ЧГКИПиТ</a:t>
                </a:r>
                <a:endParaRPr b="0" lang="en-US" sz="2000" spc="1" strike="noStrike">
                  <a:ln w="38160">
                    <a:solidFill>
                      <a:srgbClr val="c23e83"/>
                    </a:solidFill>
                    <a:miter/>
                  </a:ln>
                  <a:solidFill>
                    <a:srgbClr val="c0c0c0"/>
                  </a:solidFill>
                  <a:effectLst>
                    <a:outerShdw dist="17819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</p:grp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Times New Roman"/>
              </a:rPr>
              <a:t>Значение профилирования </a:t>
            </a:r>
            <a:endParaRPr b="0" lang="en-US" sz="3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3840" y="1213920"/>
            <a:ext cx="8929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филирование  содержания любой учебной дисциплины, в том числе «Основы безопасности жизнедеятельности» мотивирует  ребят на его изучение, т.к. этим достигается понимание того, что полученные знания и навыки они применят в своей профессиональной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держание учебной дисциплины : направлено на доступность, легкое понимание студентами того, что они будут в дальнейшем изучать в получаемой профессии. Им будет легче адаптироваться при  изучении дисциплин и междисциплинарных курсов (МДК), а также при проведении ЛПР  и ПЗ, в дальнейшем ориентироваться на требования работодате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будущем, по мере формирования устойчивых жизненных приоритетов, часть выпускников может получить следующую ступень СПО (по программе подготовки специалистов среднего звена) или поступить в учебное заведение  высшего профессионального образования.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Times New Roman"/>
              </a:rPr>
              <a:t>Профилирование обучения</a:t>
            </a:r>
            <a:endParaRPr b="0" lang="en-US" sz="3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5480" y="1213920"/>
            <a:ext cx="86439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55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остигается путем дифференциации содержания, структуры и организации образовательного процесса и придания ему на этой основе определенного профессионального уклона. Характер, степень и периодизация этих изменений зависят от целей профилирования и особенностей учебной дисциплины. В учебной дисциплине: «Основы безопасности жизнедеятельности» просматривается межпредметная связь с  такими дисциплинами  и междисциплинарными курсами (МДК) к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55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Физиология питания с основами товароведения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Основы микробиологии, санитарии и гигиены в пищевом производстве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ДК 01.01 Технология обработки сырья и приготовления блюд из овощей и гриб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ДК 02.01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ехнология обработки сырья и приготовления блюд и гарниров из круп и бобовых и макаронных изделий, яйц, творога, теста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928440"/>
            <a:ext cx="805788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100" spc="-1" strike="noStrike">
                <a:solidFill>
                  <a:srgbClr val="b13f9a"/>
                </a:solidFill>
                <a:latin typeface="Times New Roman"/>
              </a:rPr>
              <a:t>Рассмотрим элемент урока</a:t>
            </a:r>
            <a:r>
              <a:rPr b="0" lang="ru-RU" sz="2100" spc="-1" strike="noStrike">
                <a:solidFill>
                  <a:srgbClr val="b13f9a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b13f9a"/>
                </a:solidFill>
                <a:latin typeface="Times New Roman"/>
              </a:rPr>
              <a:t>по теме: «Здоровый образ жизни» -правильное питание прослеживается межпредметная связь с дисциплиной: «Физиология питания с основами товароведения»</a:t>
            </a:r>
            <a:br>
              <a:rPr sz="2800"/>
            </a:br>
            <a:br>
              <a:rPr sz="2800"/>
            </a:br>
            <a:br>
              <a:rPr sz="3200"/>
            </a:br>
            <a:endParaRPr b="0" lang="en-US" sz="21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840" y="114264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блемы в области пит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Недостаточное содержание в рационе незаменимых нутриентов  (биологически значимые химические элементы, необходимые организму человека для обеспечения нормальной жизнедеятельности): витаминов, макро- и микроэлементов, пищевых волокон, растительных жиров, животного бел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Разбалансированность рациона по основным пищевым веществам, несоответствие потребляемой и расходуемой энергии, проблема «пустых» калорий, избыточной массы тела и ожи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Алкоголизм и табакоку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Загрязнение продуктов питания ксенобиотиками (вещества, поступающие в человеческий организм с пищевыми продуктами и имеющие высокую токсичность) химического и биологического происхождения. Фальсификация прод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8" descr="img-d8c3a"/>
          <p:cNvPicPr/>
          <p:nvPr/>
        </p:nvPicPr>
        <p:blipFill>
          <a:blip r:embed="rId1"/>
          <a:stretch/>
        </p:blipFill>
        <p:spPr>
          <a:xfrm>
            <a:off x="7215120" y="2786040"/>
            <a:ext cx="1714680" cy="10717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9" descr="fasol"/>
          <p:cNvPicPr/>
          <p:nvPr/>
        </p:nvPicPr>
        <p:blipFill>
          <a:blip r:embed="rId2"/>
          <a:stretch/>
        </p:blipFill>
        <p:spPr>
          <a:xfrm>
            <a:off x="3143160" y="2857680"/>
            <a:ext cx="1928880" cy="10713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0" descr="banan"/>
          <p:cNvPicPr/>
          <p:nvPr/>
        </p:nvPicPr>
        <p:blipFill>
          <a:blip r:embed="rId3"/>
          <a:stretch/>
        </p:blipFill>
        <p:spPr>
          <a:xfrm>
            <a:off x="5286240" y="2857680"/>
            <a:ext cx="1714680" cy="10713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аленка"/>
          <p:cNvPicPr/>
          <p:nvPr/>
        </p:nvPicPr>
        <p:blipFill>
          <a:blip r:embed="rId4"/>
          <a:stretch/>
        </p:blipFill>
        <p:spPr>
          <a:xfrm>
            <a:off x="5786280" y="4572000"/>
            <a:ext cx="1357560" cy="10605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7" descr=""/>
          <p:cNvPicPr/>
          <p:nvPr/>
        </p:nvPicPr>
        <p:blipFill>
          <a:blip r:embed="rId5"/>
          <a:stretch/>
        </p:blipFill>
        <p:spPr>
          <a:xfrm>
            <a:off x="7238880" y="4500720"/>
            <a:ext cx="1690920" cy="1071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50104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13f9a"/>
                </a:solidFill>
                <a:latin typeface="Times New Roman"/>
              </a:rPr>
              <a:t>Рассмотрим элемент урока</a:t>
            </a:r>
            <a:r>
              <a:rPr b="0" lang="ru-RU" sz="2200" spc="-1" strike="noStrike">
                <a:solidFill>
                  <a:srgbClr val="b13f9a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b13f9a"/>
                </a:solidFill>
                <a:latin typeface="Times New Roman"/>
              </a:rPr>
              <a:t>по теме: «Здоровый образ жизни» -гигиена подростка прослеживается межпредметная связь с дисциплиной: «Основы микробиологии, санитарии и гигиены в пищевом производстве» </a:t>
            </a:r>
            <a:br>
              <a:rPr sz="2200"/>
            </a:br>
            <a:endParaRPr b="0" lang="en-US" sz="2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858160" cy="5429160"/>
          </a:xfrm>
          <a:prstGeom prst="rect">
            <a:avLst/>
          </a:prstGeom>
          <a:noFill/>
          <a:ln w="9360">
            <a:solidFill>
              <a:srgbClr val="b23b7e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Гигиена труда или профессиональная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ар должен работать в спецодеж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ртка, колпак (волосы убраны),фартук, прихват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увь (с закрытым носком и задником) каблу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олее 3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дитер  - то же + ш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ар, кондитер должен работать в одноразовых перчат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нитарные требования к рук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d490c5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гти коротко подстрижены, без маникюра и кол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d490c5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и без гнойничковых заболе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d490c5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царапины или порезы использовать напаль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d490c5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выполнения каждой операции повар моет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d490c5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ереходе с сырой продукции на готовую пов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ет руки  и дезинфицирует 0,2 % раствором хлорам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ар, кондитер при выходе из цеха  и при посещении туал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нимает спецодеж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23" descr="ph10_rd6"/>
          <p:cNvPicPr/>
          <p:nvPr/>
        </p:nvPicPr>
        <p:blipFill>
          <a:blip r:embed="rId1"/>
          <a:stretch/>
        </p:blipFill>
        <p:spPr>
          <a:xfrm>
            <a:off x="7215120" y="5000760"/>
            <a:ext cx="1714680" cy="16430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"/>
          <p:cNvPicPr/>
          <p:nvPr/>
        </p:nvPicPr>
        <p:blipFill>
          <a:blip r:embed="rId2"/>
          <a:stretch/>
        </p:blipFill>
        <p:spPr>
          <a:xfrm>
            <a:off x="6429240" y="2000160"/>
            <a:ext cx="252900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"/>
          <p:cNvPicPr/>
          <p:nvPr/>
        </p:nvPicPr>
        <p:blipFill>
          <a:blip r:embed="rId3"/>
          <a:stretch/>
        </p:blipFill>
        <p:spPr>
          <a:xfrm>
            <a:off x="6858000" y="3500280"/>
            <a:ext cx="2071800" cy="1357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057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imes New Roman"/>
              </a:rPr>
              <a:t>Рассмотрим элемент урока</a:t>
            </a:r>
            <a:r>
              <a:rPr b="0" lang="ru-RU" sz="2400" spc="-1" strike="noStrike">
                <a:solidFill>
                  <a:srgbClr val="b13f9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b13f9a"/>
                </a:solidFill>
                <a:latin typeface="Times New Roman"/>
              </a:rPr>
              <a:t>по теме: «Вредные привычки»  прослеживается межпредметная связь с дисциплиной: «Физиология питания с основами товароведения» </a:t>
            </a:r>
            <a:br>
              <a:rPr sz="2800"/>
            </a:br>
            <a:br>
              <a:rPr sz="3200"/>
            </a:br>
            <a:endParaRPr b="0" lang="en-US" sz="24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71680" y="1428480"/>
            <a:ext cx="85723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Вдыхание дыма тлеющего табака  приводит к притуплению вкусовых ощущений вкусовых рецеп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Употребление больших д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епких спиртных напит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изменению вкусовы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нятельных ощущ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4" descr="CAW5U34P"/>
          <p:cNvPicPr/>
          <p:nvPr/>
        </p:nvPicPr>
        <p:blipFill>
          <a:blip r:embed="rId1"/>
          <a:stretch/>
        </p:blipFill>
        <p:spPr>
          <a:xfrm>
            <a:off x="7524720" y="1928880"/>
            <a:ext cx="133344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60c473449a9492364b5cb066d44da1d1"/>
          <p:cNvPicPr/>
          <p:nvPr/>
        </p:nvPicPr>
        <p:blipFill>
          <a:blip r:embed="rId2"/>
          <a:stretch/>
        </p:blipFill>
        <p:spPr>
          <a:xfrm>
            <a:off x="6227640" y="2286000"/>
            <a:ext cx="1152720" cy="13795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"/>
          <p:cNvPicPr/>
          <p:nvPr/>
        </p:nvPicPr>
        <p:blipFill>
          <a:blip r:embed="rId3"/>
          <a:stretch/>
        </p:blipFill>
        <p:spPr>
          <a:xfrm>
            <a:off x="4500720" y="3643200"/>
            <a:ext cx="4357440" cy="32148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"/>
          <p:cNvPicPr/>
          <p:nvPr/>
        </p:nvPicPr>
        <p:blipFill>
          <a:blip r:embed="rId4"/>
          <a:stretch/>
        </p:blipFill>
        <p:spPr>
          <a:xfrm>
            <a:off x="2143080" y="4071960"/>
            <a:ext cx="254340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9" descr=""/>
          <p:cNvPicPr/>
          <p:nvPr/>
        </p:nvPicPr>
        <p:blipFill>
          <a:blip r:embed="rId5"/>
          <a:stretch/>
        </p:blipFill>
        <p:spPr>
          <a:xfrm>
            <a:off x="214200" y="4429080"/>
            <a:ext cx="1785960" cy="2214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50104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13f9a"/>
                </a:solidFill>
                <a:latin typeface="Times New Roman"/>
              </a:rPr>
              <a:t>Рассмотрим элемент урока</a:t>
            </a:r>
            <a:r>
              <a:rPr b="0" lang="ru-RU" sz="2200" spc="-1" strike="noStrike">
                <a:solidFill>
                  <a:srgbClr val="b13f9a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b13f9a"/>
                </a:solidFill>
                <a:latin typeface="Times New Roman"/>
              </a:rPr>
              <a:t>по теме: «Двигательная активность»</a:t>
            </a:r>
            <a:br>
              <a:rPr sz="2200"/>
            </a:br>
            <a:r>
              <a:rPr b="1" lang="ru-RU" sz="2200" spc="-1" strike="noStrike">
                <a:solidFill>
                  <a:srgbClr val="b13f9a"/>
                </a:solidFill>
                <a:latin typeface="Times New Roman"/>
              </a:rPr>
              <a:t>прослеживается межпредметная связь с дисциплиной</a:t>
            </a:r>
            <a:r>
              <a:rPr b="1" lang="ru-RU" sz="2000" spc="-1" strike="noStrike">
                <a:solidFill>
                  <a:srgbClr val="b13f9a"/>
                </a:solidFill>
                <a:latin typeface="Times New Roman"/>
              </a:rPr>
              <a:t> : «Физиология питания с основами товароведения» </a:t>
            </a:r>
            <a:endParaRPr b="0" lang="en-US" sz="20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1680" y="149976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к в течение многотысячелетней эволюции адаптировался к поступлению определенной пищи в составе раци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ставе современного рациона преобладают высококалорийные жирные, сладкие и соленые продукты преимущественно животной группы, а снижение физической активности и усиление стресса приводят к заболеваниям связанным с избыточной массой тела и ожирением, атеросклерозом, гипертонической болезнью, нарушениями обменных проце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9" descr=""/>
          <p:cNvPicPr/>
          <p:nvPr/>
        </p:nvPicPr>
        <p:blipFill>
          <a:blip r:embed="rId1"/>
          <a:stretch/>
        </p:blipFill>
        <p:spPr>
          <a:xfrm>
            <a:off x="6429240" y="4786200"/>
            <a:ext cx="2452680" cy="1835280"/>
          </a:xfrm>
          <a:prstGeom prst="rect">
            <a:avLst/>
          </a:prstGeom>
          <a:ln w="0">
            <a:noFill/>
          </a:ln>
        </p:spPr>
      </p:pic>
      <p:pic>
        <p:nvPicPr>
          <p:cNvPr id="133" name="Содержимое 5" descr="мим.jpg"/>
          <p:cNvPicPr/>
          <p:nvPr/>
        </p:nvPicPr>
        <p:blipFill>
          <a:blip r:embed="rId2"/>
          <a:srcRect l="6171" t="1664" r="6171" b="50576"/>
          <a:stretch/>
        </p:blipFill>
        <p:spPr>
          <a:xfrm>
            <a:off x="3357720" y="4929120"/>
            <a:ext cx="2786040" cy="1714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марина владимировна\Мои документы\Мои рисунки\др.jpg"/>
          <p:cNvPicPr/>
          <p:nvPr/>
        </p:nvPicPr>
        <p:blipFill>
          <a:blip r:embed="rId3"/>
          <a:srcRect l="2808" t="787" r="0" b="1596"/>
          <a:stretch/>
        </p:blipFill>
        <p:spPr>
          <a:xfrm>
            <a:off x="214200" y="5000760"/>
            <a:ext cx="2643480" cy="16509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13f9a"/>
                </a:solidFill>
                <a:latin typeface="Times New Roman"/>
              </a:rPr>
              <a:t>Заключение</a:t>
            </a: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3840" y="1599840"/>
            <a:ext cx="8472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езультате внедрения профильного содержания в изучение дисциплины: «Основы безопасности жизнедеятельности» обучающиеся расширили знания, помогающие овладеть профессией: Повар, кондитер , что в дальнейшем  поможет студентам легче осваивать изучение  дисциплин и МДК, а, в конечном итоге, адаптироваться на производ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1483920"/>
            <a:ext cx="795672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b13f9a"/>
                </a:solidFill>
                <a:latin typeface="Times New Roman"/>
              </a:rPr>
              <a:t> </a:t>
            </a:r>
            <a:r>
              <a:rPr b="1" lang="ru-RU" sz="11400" spc="-1" strike="noStrike">
                <a:solidFill>
                  <a:srgbClr val="b13f9a"/>
                </a:solidFill>
                <a:latin typeface="Times New Roman"/>
              </a:rPr>
              <a:t>Спасибо за внимание!</a:t>
            </a:r>
            <a:r>
              <a:rPr b="0" lang="ru-RU" sz="3800" spc="-1" strike="noStrike">
                <a:solidFill>
                  <a:srgbClr val="b13f9a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55640" y="388764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4T15:51:26Z</dcterms:created>
  <dc:creator>Loner-XP</dc:creator>
  <dc:description/>
  <dc:language>en-US</dc:language>
  <cp:lastModifiedBy>User</cp:lastModifiedBy>
  <dcterms:modified xsi:type="dcterms:W3CDTF">2015-03-24T19:50:55Z</dcterms:modified>
  <cp:revision>125</cp:revision>
  <dc:subject/>
  <dc:title>«Функциональная пища: за и против»</dc:title>
</cp:coreProperties>
</file>