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49C-FCA8-48B4-BC89-F9273101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537-A0FF-4AE7-88F9-58056A6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A53-B9DF-4B81-A7B3-9BC4B4C9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A90-F817-4AAA-9AE3-59201E90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3BA-9557-4B15-A85D-FAA68C59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79DC-E35B-4776-9F5F-1F434B8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59A3-10F3-48CC-A3DB-9C4CEEDE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3EC3-A421-45E9-9EA6-3A9CC829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91A2-3A27-42BC-8599-0D585053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F811-0814-4DF7-B182-22D41816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FE6D-58AF-43C1-BDAE-855BE44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11E-E615-46D3-9366-3FD8A680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30C6-1264-4219-A38E-95C525F9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3561-E1F5-4CA4-A60E-C5C77C21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1043-8559-40D2-B873-74253BB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9ECC-ED58-417F-AA3D-14B43ECB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373F-95B4-4EE4-B555-ACF5C4EE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910-98ED-44ED-9AD0-DF638AC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237-5BBF-49FA-ABDC-88E6B3C7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1E5-881D-4CBF-8566-6DFEAF9A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59C-CC09-4714-885B-F93B6D50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435-BE99-4D66-8171-25EB8DF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E1F-1C38-4B80-81C1-FE2A8502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B55-B482-4AD2-AFBE-36191BD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13f9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3d6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490c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DA18-54A3-4350-B4ED-26F67CE417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4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13f9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3d6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490c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D8C1-34BD-409B-BD0F-D8391E91AD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5960" y="1071720"/>
            <a:ext cx="721512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7439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74396"/>
                </a:solidFill>
                <a:latin typeface="Times New Roman"/>
              </a:rPr>
              <a:t>ТЕМА ВЫСТУПЛЕНИЯ:</a:t>
            </a:r>
            <a:br>
              <a:rPr sz="1200"/>
            </a:br>
            <a:br>
              <a:rPr sz="1800"/>
            </a:br>
            <a:r>
              <a:rPr b="1" lang="ru-RU" sz="1800" spc="-1" strike="noStrike">
                <a:solidFill>
                  <a:srgbClr val="b83d68"/>
                </a:solidFill>
                <a:latin typeface="Times New Roman"/>
              </a:rPr>
              <a:t>ПРОФИЛИРОВАНИЕ СОДЕРЖАНИЯ ДИСЦИПЛИНЫ : «ОСНОВЫ БЕЗОПАСНОСТИ ЖИЗНЕДЕЯТЕЛЬНОСТИ» НА ПРИМЕРЕ ПРОФЕССИИ: ПОВАР, КОНДИТЕР</a:t>
            </a:r>
            <a:endParaRPr b="0" lang="en-US" sz="18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9720" y="4857840"/>
            <a:ext cx="7715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авлова Ма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57120" y="285840"/>
            <a:ext cx="8786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БОУ СПО (ССУЗ) «Челябинский государстве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ледж индустрии питания и торгов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7675920" y="8640"/>
            <a:ext cx="2615400" cy="1743120"/>
            <a:chOff x="7675920" y="8640"/>
            <a:chExt cx="2615400" cy="1743120"/>
          </a:xfrm>
        </p:grpSpPr>
        <p:grpSp>
          <p:nvGrpSpPr>
            <p:cNvPr id="101" name="Group 6"/>
            <p:cNvGrpSpPr/>
            <p:nvPr/>
          </p:nvGrpSpPr>
          <p:grpSpPr>
            <a:xfrm>
              <a:off x="7909560" y="8640"/>
              <a:ext cx="651600" cy="1523160"/>
              <a:chOff x="7909560" y="8640"/>
              <a:chExt cx="651600" cy="1523160"/>
            </a:xfrm>
          </p:grpSpPr>
          <p:sp>
            <p:nvSpPr>
              <p:cNvPr id="102" name="AutoShape 7"/>
              <p:cNvSpPr/>
              <p:nvPr/>
            </p:nvSpPr>
            <p:spPr>
              <a:xfrm rot="16003200">
                <a:off x="7497000" y="905400"/>
                <a:ext cx="996480" cy="114840"/>
              </a:xfrm>
              <a:prstGeom prst="rtTriangle">
                <a:avLst/>
              </a:prstGeom>
              <a:solidFill>
                <a:srgbClr val="dddddd"/>
              </a:solidFill>
              <a:ln w="381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8"/>
              <p:cNvSpPr/>
              <p:nvPr/>
            </p:nvSpPr>
            <p:spPr>
              <a:xfrm rot="17233200">
                <a:off x="7478640" y="681840"/>
                <a:ext cx="1540080" cy="176040"/>
              </a:xfrm>
              <a:prstGeom prst="rtTriangle">
                <a:avLst/>
              </a:prstGeom>
              <a:solidFill>
                <a:srgbClr val="c0c0c0">
                  <a:alpha val="60000"/>
                </a:srgbClr>
              </a:solidFill>
              <a:ln w="38160">
                <a:solidFill>
                  <a:srgbClr val="c23e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9"/>
            <p:cNvGrpSpPr/>
            <p:nvPr/>
          </p:nvGrpSpPr>
          <p:grpSpPr>
            <a:xfrm>
              <a:off x="7675920" y="891720"/>
              <a:ext cx="2615400" cy="860040"/>
              <a:chOff x="7675920" y="891720"/>
              <a:chExt cx="2615400" cy="860040"/>
            </a:xfrm>
          </p:grpSpPr>
          <p:sp>
            <p:nvSpPr>
              <p:cNvPr id="105" name="AutoShape 10"/>
              <p:cNvSpPr/>
              <p:nvPr/>
            </p:nvSpPr>
            <p:spPr>
              <a:xfrm rot="21193800">
                <a:off x="9575280" y="929160"/>
                <a:ext cx="676440" cy="705240"/>
              </a:xfrm>
              <a:custGeom>
                <a:avLst/>
                <a:gdLst>
                  <a:gd name="textAreaLeft" fmla="*/ 99000 w 676440"/>
                  <a:gd name="textAreaRight" fmla="*/ 577440 w 676440"/>
                  <a:gd name="textAreaTop" fmla="*/ 102960 h 705240"/>
                  <a:gd name="textAreaBottom" fmla="*/ 602280 h 70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WordArt 11"/>
              <p:cNvSpPr txBox="1"/>
              <p:nvPr/>
            </p:nvSpPr>
            <p:spPr>
              <a:xfrm rot="21193800">
                <a:off x="7714800" y="1008000"/>
                <a:ext cx="680760" cy="705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irclePour">
                  <a:avLst>
                    <a:gd name="adj1" fmla="val 10859995"/>
                    <a:gd name="adj2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38160">
                      <a:solidFill>
                        <a:srgbClr val="c23e83"/>
                      </a:solidFill>
                      <a:miter/>
                    </a:ln>
                    <a:solidFill>
                      <a:srgbClr val="c0c0c0"/>
                    </a:solidFill>
                    <a:effectLst>
                      <a:outerShdw dist="17819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rial Black"/>
                  </a:rPr>
                  <a:t>ЧГКИПиТ</a:t>
                </a:r>
                <a:endParaRPr b="0" lang="en-US" sz="2000" spc="1" strike="noStrike">
                  <a:ln w="38160">
                    <a:solidFill>
                      <a:srgbClr val="c23e83"/>
                    </a:solidFill>
                    <a:miter/>
                  </a:ln>
                  <a:solidFill>
                    <a:srgbClr val="c0c0c0"/>
                  </a:solidFill>
                  <a:effectLst>
                    <a:outerShdw dist="17819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Times New Roman"/>
              </a:rPr>
              <a:t>Значение профилирования </a:t>
            </a:r>
            <a:endParaRPr b="0" lang="en-US" sz="3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филирование  содержания любой учебной дисциплины, в том числе «Основы безопасности жизнедеятельности» мотивирует  ребят на его изучение, т.к. этим достигается понимание того, что полученные знания и навыки они применят в своей профессиональн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держание учебной дисциплины : направлено на доступность, легкое понимание студентами того, что они будут в дальнейшем изучать в получаемой профессии. Им будет легче адаптироваться при  изучении дисциплин и междисциплинарных курсов (МДК), а также при проведении ЛПР  и ПЗ, в дальнейшем ориентироваться на требования работод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будущем, по мере формирования устойчивых жизненных приоритетов, часть выпускников может получить следующую ступень СПО (по программе подготовки специалистов среднего звена) или поступить в учебное заведение  высшего профессионального образования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Times New Roman"/>
              </a:rPr>
              <a:t>Профилирование обучения</a:t>
            </a:r>
            <a:endParaRPr b="0" lang="en-US" sz="3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остигается путем дифференциации содержания, структуры и организации образовательного процесса и придания ему на этой основе определенного профессионального уклона. Характер, степень и периодизация этих изменений зависят от целей профилирования и особенностей учебной дисциплины. В учебной дисциплине: «Основы безопасности жизнедеятельности» просматривается межпредметная связь с  такими дисциплинами  и междисциплинарными курсами (МДК) к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Физиология питания с основами товароведени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Основы микробиологии, санитарии и гигиены в пищевом производств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ДК 01.01 Технология обработки сырья и приготовления блюд из овощей и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ДК 02.0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хнология обработки сырья и приготовления блюд и гарниров из круп и бобовых и макаронных изделий, яйц, творога, тест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05788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100" spc="-1" strike="noStrike">
                <a:solidFill>
                  <a:srgbClr val="b13f9a"/>
                </a:solidFill>
                <a:latin typeface="Times New Roman"/>
              </a:rPr>
              <a:t>Рассмотрим элемент урока</a:t>
            </a:r>
            <a:r>
              <a:rPr b="0" lang="ru-RU" sz="21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b13f9a"/>
                </a:solidFill>
                <a:latin typeface="Times New Roman"/>
              </a:rPr>
              <a:t>по теме: «Здоровый образ жизни» -правильное питание прослеживается межпредметная связь с дисциплиной: «Физиология питания с основами товароведения»</a:t>
            </a:r>
            <a:br>
              <a:rPr sz="2800"/>
            </a:br>
            <a:br>
              <a:rPr sz="2800"/>
            </a:br>
            <a:br>
              <a:rPr sz="3200"/>
            </a:br>
            <a:endParaRPr b="0" lang="en-US" sz="21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блемы в област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Недостаточное содержание в рационе незаменимых нутриентов  (биологически значимые химические элементы, необходимые организму человека для обеспечения нормальной жизнедеятельности): витаминов, макро- и микроэлементов, пищевых волокон, растительных жиров, животного б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Разбалансированность рациона по основным пищевым веществам, несоответствие потребляемой и расходуемой энергии, проблема «пустых» калорий, избыточной массы тела и ожи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Алкоголизм и табакоку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Загрязнение продуктов питания ксенобиотиками (вещества, поступающие в человеческий организм с пищевыми продуктами и имеющие высокую токсичность) химического и биологического происхождения. Фальсификация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8" descr="img-d8c3a"/>
          <p:cNvPicPr/>
          <p:nvPr/>
        </p:nvPicPr>
        <p:blipFill>
          <a:blip r:embed="rId1"/>
          <a:stretch/>
        </p:blipFill>
        <p:spPr>
          <a:xfrm>
            <a:off x="7215120" y="2786040"/>
            <a:ext cx="1714680" cy="10717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fasol"/>
          <p:cNvPicPr/>
          <p:nvPr/>
        </p:nvPicPr>
        <p:blipFill>
          <a:blip r:embed="rId2"/>
          <a:stretch/>
        </p:blipFill>
        <p:spPr>
          <a:xfrm>
            <a:off x="3143160" y="2857680"/>
            <a:ext cx="1928880" cy="1071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banan"/>
          <p:cNvPicPr/>
          <p:nvPr/>
        </p:nvPicPr>
        <p:blipFill>
          <a:blip r:embed="rId3"/>
          <a:stretch/>
        </p:blipFill>
        <p:spPr>
          <a:xfrm>
            <a:off x="5286240" y="2857680"/>
            <a:ext cx="1714680" cy="1071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аленка"/>
          <p:cNvPicPr/>
          <p:nvPr/>
        </p:nvPicPr>
        <p:blipFill>
          <a:blip r:embed="rId4"/>
          <a:stretch/>
        </p:blipFill>
        <p:spPr>
          <a:xfrm>
            <a:off x="5786280" y="4572000"/>
            <a:ext cx="1357560" cy="10605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7" descr=""/>
          <p:cNvPicPr/>
          <p:nvPr/>
        </p:nvPicPr>
        <p:blipFill>
          <a:blip r:embed="rId5"/>
          <a:stretch/>
        </p:blipFill>
        <p:spPr>
          <a:xfrm>
            <a:off x="7238880" y="4500720"/>
            <a:ext cx="1690920" cy="1071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5010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Рассмотрим элемент урока</a:t>
            </a:r>
            <a:r>
              <a:rPr b="0" lang="ru-RU" sz="22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по теме: «Здоровый образ жизни» -гигиена подростка прослеживается межпредметная связь с дисциплиной: «Основы микробиологии, санитарии и гигиены в пищевом производстве» </a:t>
            </a:r>
            <a:br>
              <a:rPr sz="2200"/>
            </a:br>
            <a:endParaRPr b="0" lang="en-US" sz="2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5429160"/>
          </a:xfrm>
          <a:prstGeom prst="rect">
            <a:avLst/>
          </a:prstGeom>
          <a:noFill/>
          <a:ln w="9360">
            <a:solidFill>
              <a:srgbClr val="b23b7e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Гигиена труда или профессиональ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ар должен работать в спецодеж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тка, колпак (волосы убраны),фартук, прихват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увь (с закрытым носком и задником) кабл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олее 3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дитер  - то же + 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ар, кондитер должен работать в одноразовых перча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итарные требования к ру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ти коротко подстрижены, без маникюра и кол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и без гнойничковых заболе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царапины или порезы использовать напа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ыполнения каждой операции повар моет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реходе с сырой продукции на готовую пов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ет руки  и дезинфицирует 0,2 % раствором хлорам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ар, кондитер при выходе из цеха  и при посещении туа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имает спецодеж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3" descr="ph10_rd6"/>
          <p:cNvPicPr/>
          <p:nvPr/>
        </p:nvPicPr>
        <p:blipFill>
          <a:blip r:embed="rId1"/>
          <a:stretch/>
        </p:blipFill>
        <p:spPr>
          <a:xfrm>
            <a:off x="7215120" y="500076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2"/>
          <a:stretch/>
        </p:blipFill>
        <p:spPr>
          <a:xfrm>
            <a:off x="6429240" y="2000160"/>
            <a:ext cx="252900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3"/>
          <a:stretch/>
        </p:blipFill>
        <p:spPr>
          <a:xfrm>
            <a:off x="6858000" y="3500280"/>
            <a:ext cx="20718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057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Рассмотрим элемент урока</a:t>
            </a:r>
            <a:r>
              <a:rPr b="0" lang="ru-RU" sz="24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по теме: «Вредные привычки»  прослеживается межпредметная связь с дисциплиной: «Физиология питания с основами товароведения» </a:t>
            </a:r>
            <a:br>
              <a:rPr sz="2800"/>
            </a:br>
            <a:br>
              <a:rPr sz="3200"/>
            </a:br>
            <a:endParaRPr b="0" lang="en-US" sz="24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428480"/>
            <a:ext cx="8572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Вдыхание дыма тлеющего табака  приводит к притуплению вкусовых ощущений вкусовых рецеп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Употребление больших д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пких спиртных напит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изменению вкусов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нятельных ощу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4" descr="CAW5U34P"/>
          <p:cNvPicPr/>
          <p:nvPr/>
        </p:nvPicPr>
        <p:blipFill>
          <a:blip r:embed="rId1"/>
          <a:stretch/>
        </p:blipFill>
        <p:spPr>
          <a:xfrm>
            <a:off x="7524720" y="1928880"/>
            <a:ext cx="133344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60c473449a9492364b5cb066d44da1d1"/>
          <p:cNvPicPr/>
          <p:nvPr/>
        </p:nvPicPr>
        <p:blipFill>
          <a:blip r:embed="rId2"/>
          <a:stretch/>
        </p:blipFill>
        <p:spPr>
          <a:xfrm>
            <a:off x="6227640" y="2286000"/>
            <a:ext cx="1152720" cy="1379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"/>
          <p:cNvPicPr/>
          <p:nvPr/>
        </p:nvPicPr>
        <p:blipFill>
          <a:blip r:embed="rId3"/>
          <a:stretch/>
        </p:blipFill>
        <p:spPr>
          <a:xfrm>
            <a:off x="4500720" y="3643200"/>
            <a:ext cx="4357440" cy="3214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4"/>
          <a:stretch/>
        </p:blipFill>
        <p:spPr>
          <a:xfrm>
            <a:off x="2143080" y="4071960"/>
            <a:ext cx="254340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"/>
          <p:cNvPicPr/>
          <p:nvPr/>
        </p:nvPicPr>
        <p:blipFill>
          <a:blip r:embed="rId5"/>
          <a:stretch/>
        </p:blipFill>
        <p:spPr>
          <a:xfrm>
            <a:off x="214200" y="4429080"/>
            <a:ext cx="178596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5010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Рассмотрим элемент урока</a:t>
            </a:r>
            <a:r>
              <a:rPr b="0" lang="ru-RU" sz="22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по теме: «Двигательная активность»</a:t>
            </a:r>
            <a:br>
              <a:rPr sz="2200"/>
            </a:br>
            <a:r>
              <a:rPr b="1" lang="ru-RU" sz="2200" spc="-1" strike="noStrike">
                <a:solidFill>
                  <a:srgbClr val="b13f9a"/>
                </a:solidFill>
                <a:latin typeface="Times New Roman"/>
              </a:rPr>
              <a:t>прослеживается межпредметная связь с дисциплиной</a:t>
            </a:r>
            <a:r>
              <a:rPr b="1" lang="ru-RU" sz="2000" spc="-1" strike="noStrike">
                <a:solidFill>
                  <a:srgbClr val="b13f9a"/>
                </a:solidFill>
                <a:latin typeface="Times New Roman"/>
              </a:rPr>
              <a:t> : «Физиология питания с основами товароведения» </a:t>
            </a:r>
            <a:endParaRPr b="0" lang="en-US" sz="20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680" y="14997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в течение многотысячелетней эволюции адаптировался к поступлению определенной пищи в составе рац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ставе современного рациона преобладают высококалорийные жирные, сладкие и соленые продукты преимущественно животной группы, а снижение физической активности и усиление стресса приводят к заболеваниям связанным с избыточной массой тела и ожирением, атеросклерозом, гипертонической болезнью, нарушениями обменных 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9" descr=""/>
          <p:cNvPicPr/>
          <p:nvPr/>
        </p:nvPicPr>
        <p:blipFill>
          <a:blip r:embed="rId1"/>
          <a:stretch/>
        </p:blipFill>
        <p:spPr>
          <a:xfrm>
            <a:off x="6429240" y="4786200"/>
            <a:ext cx="2452680" cy="183528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5" descr="мим.jpg"/>
          <p:cNvPicPr/>
          <p:nvPr/>
        </p:nvPicPr>
        <p:blipFill>
          <a:blip r:embed="rId2"/>
          <a:srcRect l="6171" t="1664" r="6171" b="50576"/>
          <a:stretch/>
        </p:blipFill>
        <p:spPr>
          <a:xfrm>
            <a:off x="3357720" y="4929120"/>
            <a:ext cx="2786040" cy="171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марина владимировна\Мои документы\Мои рисунки\др.jpg"/>
          <p:cNvPicPr/>
          <p:nvPr/>
        </p:nvPicPr>
        <p:blipFill>
          <a:blip r:embed="rId3"/>
          <a:srcRect l="2808" t="787" r="0" b="1596"/>
          <a:stretch/>
        </p:blipFill>
        <p:spPr>
          <a:xfrm>
            <a:off x="214200" y="5000760"/>
            <a:ext cx="2643480" cy="1650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13f9a"/>
                </a:solidFill>
                <a:latin typeface="Times New Roman"/>
              </a:rPr>
              <a:t>Заключение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внедрения профильного содержания в изучение дисциплины: «Основы безопасности жизнедеятельности» обучающиеся расширили знания, помогающие овладеть профессией: Повар, кондитер , что в дальнейшем  поможет студентам легче осваивать изучение  дисциплин и МДК, а, в конечном итоге, адаптироваться на производ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95672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ru-RU" sz="11400" spc="-1" strike="noStrike">
                <a:solidFill>
                  <a:srgbClr val="b13f9a"/>
                </a:solidFill>
                <a:latin typeface="Times New Roman"/>
              </a:rPr>
              <a:t>Спасибо за внимание!</a:t>
            </a: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55640" y="3887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5:51:26Z</dcterms:created>
  <dc:creator>Loner-XP</dc:creator>
  <dc:description/>
  <dc:language>en-US</dc:language>
  <cp:lastModifiedBy>User</cp:lastModifiedBy>
  <dcterms:modified xsi:type="dcterms:W3CDTF">2015-03-24T19:50:55Z</dcterms:modified>
  <cp:revision>125</cp:revision>
  <dc:subject/>
  <dc:title>«Функциональная пища: за и против»</dc:title>
</cp:coreProperties>
</file>