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4F3-64EC-4C09-ACAC-FA3AED75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480-A760-424C-A078-C6F67041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4D1-9F27-4EFC-A3DC-A8A4788C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637-04BD-45F1-92EA-3FCF426F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606-5DB2-4021-8FBF-A9912233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3FE-13A6-496E-876F-3C506E1D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312D-45A5-4D9C-BB9D-96237F58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EF8-A1AD-4D65-9AFF-092A9A69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BD9E-7E8F-494A-9425-150950CA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8CF-6A7B-449F-A1CD-5A5104EC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68B-8831-4D6E-B34E-824333A8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8D5-0F57-4F23-8235-9CE394D7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BF7F-0D4C-4162-9712-47A1F3B2E9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27636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РЕЛЬЕФ ДНА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МИРОВОГО ОКЕА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4267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315200" y="0"/>
            <a:ext cx="1828800" cy="6858000"/>
            <a:chOff x="7315200" y="0"/>
            <a:chExt cx="1828800" cy="685800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7315200" y="28195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7315200" y="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7315200" y="137160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7315200" y="41911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>
              <a:off x="7315200" y="5562720"/>
              <a:ext cx="182880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7315200" y="0"/>
            <a:ext cx="1828800" cy="6858000"/>
            <a:chOff x="7315200" y="0"/>
            <a:chExt cx="1828800" cy="685800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7315200" y="28195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7315200" y="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7315200" y="137160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5"/>
            <a:stretch/>
          </p:blipFill>
          <p:spPr>
            <a:xfrm>
              <a:off x="7315200" y="41911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6"/>
            <a:stretch/>
          </p:blipFill>
          <p:spPr>
            <a:xfrm>
              <a:off x="7315200" y="5562720"/>
              <a:ext cx="1828800" cy="12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" descr="Формы рельефа дна океана"/>
          <p:cNvPicPr/>
          <p:nvPr/>
        </p:nvPicPr>
        <p:blipFill>
          <a:blip r:embed="rId7"/>
          <a:stretch/>
        </p:blipFill>
        <p:spPr>
          <a:xfrm>
            <a:off x="380880" y="1676520"/>
            <a:ext cx="6553440" cy="4321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228600"/>
            <a:ext cx="6934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) Подводные горы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Это отдельные поднятия под водой на дне океанов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61722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ы рельефа дна оке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447920" y="601992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Черные курильщик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80880" y="390600"/>
            <a:ext cx="81536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47920" y="601992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ралловый атол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04920" y="200160"/>
            <a:ext cx="84582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7315200" y="0"/>
            <a:ext cx="1828800" cy="6858000"/>
            <a:chOff x="7315200" y="0"/>
            <a:chExt cx="1828800" cy="6858000"/>
          </a:xfrm>
        </p:grpSpPr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7315200" y="28195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7315200" y="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4"/>
            <a:stretch/>
          </p:blipFill>
          <p:spPr>
            <a:xfrm>
              <a:off x="7315200" y="137160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7315200" y="41911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6"/>
            <a:stretch/>
          </p:blipFill>
          <p:spPr>
            <a:xfrm>
              <a:off x="7315200" y="5562720"/>
              <a:ext cx="182880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380880" y="1219320"/>
            <a:ext cx="67820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ормирование рельефа дна Мирового океан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происходит под влиянием внешних и внутренних сил планет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 дне океана происходят накопление различных веществ, извержения вулканов, землетрясения. Рельеф дна океана довольно разнообразен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 древности изучение океана сводилось к тому, что исследовались части океана, острова, некоторые акватории. Было мало сведений о глубинах океан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ервая попытка исследования дна океана и его глубин была совершена Британской экспедицией на судне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«Челленджер»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в 1872 году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315200" y="0"/>
            <a:ext cx="1828800" cy="6858000"/>
            <a:chOff x="7315200" y="0"/>
            <a:chExt cx="1828800" cy="68580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7315200" y="28195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7315200" y="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7315200" y="137160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7315200" y="41911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7315200" y="5562720"/>
              <a:ext cx="1828800" cy="12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85800" y="3200400"/>
            <a:ext cx="5867280" cy="2994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61722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удно Челлендже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71629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Экспедиция дала начало для образования новой науки – океанологии. В дальнейшем был изобретен метод эхолотирования, т.е. изучения глубин с помощью прибора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</a:rPr>
              <a:t>эхолот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Этот прибор отправляет звук на дно океана, он отражается и возвращается обратно. Зная скорость и время, можно вычислить глубину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7315200" y="0"/>
            <a:ext cx="1828800" cy="6858000"/>
            <a:chOff x="7315200" y="0"/>
            <a:chExt cx="1828800" cy="685800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7315200" y="28195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7315200" y="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7315200" y="137160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7315200" y="41911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7315200" y="5562720"/>
              <a:ext cx="1828800" cy="12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3505320" y="2743200"/>
            <a:ext cx="3684600" cy="3962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5715000"/>
            <a:ext cx="289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ринцип действия эхоло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7086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ктивно стали изучать рельеф дна Мирового океана после Второй мировой войны. Большой шаг в изучении дна океана человечество совершило благодаря созданным погружным глубоководным аппаратам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315200" y="0"/>
            <a:ext cx="1828800" cy="6858000"/>
            <a:chOff x="7315200" y="0"/>
            <a:chExt cx="1828800" cy="685800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7315200" y="28195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7315200" y="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4"/>
            <a:stretch/>
          </p:blipFill>
          <p:spPr>
            <a:xfrm>
              <a:off x="7315200" y="137160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5"/>
            <a:stretch/>
          </p:blipFill>
          <p:spPr>
            <a:xfrm>
              <a:off x="7315200" y="41911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6"/>
            <a:stretch/>
          </p:blipFill>
          <p:spPr>
            <a:xfrm>
              <a:off x="7315200" y="5562720"/>
              <a:ext cx="182880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685800" y="61722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лубоководный аппарат «Мир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Глубоководный аппарат «Мир»"/>
          <p:cNvPicPr/>
          <p:nvPr/>
        </p:nvPicPr>
        <p:blipFill>
          <a:blip r:embed="rId7"/>
          <a:stretch/>
        </p:blipFill>
        <p:spPr>
          <a:xfrm>
            <a:off x="228600" y="2133720"/>
            <a:ext cx="67816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7315200" y="0"/>
            <a:ext cx="1828800" cy="6858000"/>
            <a:chOff x="7315200" y="0"/>
            <a:chExt cx="1828800" cy="685800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7315200" y="28195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7315200" y="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7315200" y="137160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7315200" y="41911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tretch/>
          </p:blipFill>
          <p:spPr>
            <a:xfrm>
              <a:off x="7315200" y="5562720"/>
              <a:ext cx="182880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228600" y="274680"/>
            <a:ext cx="7009560" cy="6276600"/>
            <a:chOff x="228600" y="274680"/>
            <a:chExt cx="7009560" cy="6276600"/>
          </a:xfrm>
        </p:grpSpPr>
        <p:cxnSp>
          <p:nvCxnSpPr>
            <p:cNvPr id="88" name="_s12309"/>
            <p:cNvCxnSpPr>
              <a:stCxn id="89" idx="0"/>
              <a:endCxn id="90" idx="2"/>
            </p:cNvCxnSpPr>
            <p:nvPr/>
          </p:nvCxnSpPr>
          <p:spPr>
            <a:xfrm flipV="1" rot="16200000">
              <a:off x="4331880" y="2185560"/>
              <a:ext cx="1256040" cy="2453760"/>
            </a:xfrm>
            <a:prstGeom prst="bentConnector3">
              <a:avLst>
                <a:gd name="adj1" fmla="val 207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12308"/>
            <p:cNvCxnSpPr>
              <a:stCxn id="92" idx="0"/>
              <a:endCxn id="90" idx="2"/>
            </p:cNvCxnSpPr>
            <p:nvPr/>
          </p:nvCxnSpPr>
          <p:spPr>
            <a:xfrm flipV="1">
              <a:off x="3733560" y="2784600"/>
              <a:ext cx="2880" cy="1256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2307"/>
            <p:cNvCxnSpPr>
              <a:stCxn id="94" idx="0"/>
              <a:endCxn id="90" idx="2"/>
            </p:cNvCxnSpPr>
            <p:nvPr/>
          </p:nvCxnSpPr>
          <p:spPr>
            <a:xfrm flipH="1" flipV="1" rot="5400000">
              <a:off x="1879920" y="2186640"/>
              <a:ext cx="1256040" cy="2451960"/>
            </a:xfrm>
            <a:prstGeom prst="bentConnector3">
              <a:avLst>
                <a:gd name="adj1" fmla="val 207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0" name="_s12303"/>
            <p:cNvSpPr/>
            <p:nvPr/>
          </p:nvSpPr>
          <p:spPr>
            <a:xfrm>
              <a:off x="2682000" y="274680"/>
              <a:ext cx="2102760" cy="2510640"/>
            </a:xfrm>
            <a:custGeom>
              <a:avLst/>
              <a:gdLst>
                <a:gd name="textAreaLeft" fmla="*/ 102600 w 2102760"/>
                <a:gd name="textAreaRight" fmla="*/ 2000160 w 2102760"/>
                <a:gd name="textAreaTop" fmla="*/ 102600 h 2510640"/>
                <a:gd name="textAreaBottom" fmla="*/ 2408040 h 2510640"/>
              </a:gdLst>
              <a:ahLst/>
              <a:rect l="textAreaLeft" t="textAreaTop" r="textAreaRight" b="textAreaBottom"/>
              <a:pathLst>
                <a:path w="21600" h="25789">
                  <a:moveTo>
                    <a:pt x="3600" y="0"/>
                  </a:moveTo>
                  <a:arcTo wR="3600" hR="3600" stAng="16200000" swAng="-5400000"/>
                  <a:lnTo>
                    <a:pt x="0" y="22189"/>
                  </a:lnTo>
                  <a:arcTo wR="3600" hR="3600" stAng="10800000" swAng="-5400000"/>
                  <a:lnTo>
                    <a:pt x="18000" y="257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Зон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Мировог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океан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12304"/>
            <p:cNvSpPr/>
            <p:nvPr/>
          </p:nvSpPr>
          <p:spPr>
            <a:xfrm>
              <a:off x="228600" y="4040640"/>
              <a:ext cx="2102760" cy="2510640"/>
            </a:xfrm>
            <a:custGeom>
              <a:avLst/>
              <a:gdLst>
                <a:gd name="textAreaLeft" fmla="*/ 102600 w 2102760"/>
                <a:gd name="textAreaRight" fmla="*/ 2000160 w 2102760"/>
                <a:gd name="textAreaTop" fmla="*/ 102600 h 2510640"/>
                <a:gd name="textAreaBottom" fmla="*/ 2408040 h 2510640"/>
              </a:gdLst>
              <a:ahLst/>
              <a:rect l="textAreaLeft" t="textAreaTop" r="textAreaRight" b="textAreaBottom"/>
              <a:pathLst>
                <a:path w="21600" h="25789">
                  <a:moveTo>
                    <a:pt x="3600" y="0"/>
                  </a:moveTo>
                  <a:arcTo wR="3600" hR="3600" stAng="16200000" swAng="-5400000"/>
                  <a:lnTo>
                    <a:pt x="0" y="22189"/>
                  </a:lnTo>
                  <a:arcTo wR="3600" hR="3600" stAng="10800000" swAng="-5400000"/>
                  <a:lnTo>
                    <a:pt x="18000" y="257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подводна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краин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материк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12305"/>
            <p:cNvSpPr/>
            <p:nvPr/>
          </p:nvSpPr>
          <p:spPr>
            <a:xfrm>
              <a:off x="2682000" y="4040640"/>
              <a:ext cx="2102760" cy="2510640"/>
            </a:xfrm>
            <a:custGeom>
              <a:avLst/>
              <a:gdLst>
                <a:gd name="textAreaLeft" fmla="*/ 102600 w 2102760"/>
                <a:gd name="textAreaRight" fmla="*/ 2000160 w 2102760"/>
                <a:gd name="textAreaTop" fmla="*/ 102600 h 2510640"/>
                <a:gd name="textAreaBottom" fmla="*/ 2408040 h 2510640"/>
              </a:gdLst>
              <a:ahLst/>
              <a:rect l="textAreaLeft" t="textAreaTop" r="textAreaRight" b="textAreaBottom"/>
              <a:pathLst>
                <a:path w="21600" h="25789">
                  <a:moveTo>
                    <a:pt x="3600" y="0"/>
                  </a:moveTo>
                  <a:arcTo wR="3600" hR="3600" stAng="16200000" swAng="-5400000"/>
                  <a:lnTo>
                    <a:pt x="0" y="22189"/>
                  </a:lnTo>
                  <a:arcTo wR="3600" hR="3600" stAng="10800000" swAng="-5400000"/>
                  <a:lnTo>
                    <a:pt x="18000" y="257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лож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океан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12306"/>
            <p:cNvSpPr/>
            <p:nvPr/>
          </p:nvSpPr>
          <p:spPr>
            <a:xfrm>
              <a:off x="5135400" y="4040640"/>
              <a:ext cx="2102760" cy="2510640"/>
            </a:xfrm>
            <a:custGeom>
              <a:avLst/>
              <a:gdLst>
                <a:gd name="textAreaLeft" fmla="*/ 102600 w 2102760"/>
                <a:gd name="textAreaRight" fmla="*/ 2000160 w 2102760"/>
                <a:gd name="textAreaTop" fmla="*/ 102600 h 2510640"/>
                <a:gd name="textAreaBottom" fmla="*/ 2408040 h 2510640"/>
              </a:gdLst>
              <a:ahLst/>
              <a:rect l="textAreaLeft" t="textAreaTop" r="textAreaRight" b="textAreaBottom"/>
              <a:pathLst>
                <a:path w="21600" h="25789">
                  <a:moveTo>
                    <a:pt x="3600" y="0"/>
                  </a:moveTo>
                  <a:arcTo wR="3600" hR="3600" stAng="16200000" swAng="-5400000"/>
                  <a:lnTo>
                    <a:pt x="0" y="22189"/>
                  </a:lnTo>
                  <a:arcTo wR="3600" hR="3600" stAng="10800000" swAng="-5400000"/>
                  <a:lnTo>
                    <a:pt x="18000" y="257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переходна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зон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7467480" y="0"/>
            <a:ext cx="1676520" cy="6858000"/>
            <a:chOff x="7467480" y="0"/>
            <a:chExt cx="1676520" cy="68580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7467480" y="2819520"/>
              <a:ext cx="16765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7467480" y="0"/>
              <a:ext cx="16765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7467480" y="1371600"/>
              <a:ext cx="167652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7467480" y="4191120"/>
              <a:ext cx="16765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7467480" y="5562720"/>
              <a:ext cx="1676520" cy="12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746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СНОВНЫЕ ФОРМЫ РЕЛЬЕФА ДНА МИРОВОГО ОКЕА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315200" y="0"/>
            <a:ext cx="1828800" cy="6858000"/>
            <a:chOff x="7315200" y="0"/>
            <a:chExt cx="1828800" cy="68580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7315200" y="28195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7315200" y="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7315200" y="137160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5"/>
            <a:stretch/>
          </p:blipFill>
          <p:spPr>
            <a:xfrm>
              <a:off x="7315200" y="41911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6"/>
            <a:stretch/>
          </p:blipFill>
          <p:spPr>
            <a:xfrm>
              <a:off x="7315200" y="5562720"/>
              <a:ext cx="182880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685800" y="61722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быча нефти на шельф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143000"/>
            <a:ext cx="7162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Шельф (материковая отмель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Глубина до 200 метров, это продолжение материка под водой. Шельфовые территории богаты рыбой и многими полезными ископаемы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Добыча нефти на шельфе"/>
          <p:cNvPicPr/>
          <p:nvPr/>
        </p:nvPicPr>
        <p:blipFill>
          <a:blip r:embed="rId7"/>
          <a:stretch/>
        </p:blipFill>
        <p:spPr>
          <a:xfrm>
            <a:off x="1066680" y="2666880"/>
            <a:ext cx="5477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7315200" y="0"/>
            <a:ext cx="1828800" cy="6858000"/>
            <a:chOff x="7315200" y="0"/>
            <a:chExt cx="1828800" cy="685800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7315200" y="28195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7315200" y="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7315200" y="137160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5"/>
            <a:stretch/>
          </p:blipFill>
          <p:spPr>
            <a:xfrm>
              <a:off x="7315200" y="41911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6"/>
            <a:stretch/>
          </p:blipFill>
          <p:spPr>
            <a:xfrm>
              <a:off x="7315200" y="5562720"/>
              <a:ext cx="182880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"/>
          <p:cNvSpPr/>
          <p:nvPr/>
        </p:nvSpPr>
        <p:spPr>
          <a:xfrm>
            <a:off x="228600" y="228600"/>
            <a:ext cx="69343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Материковый скло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Это «обрыв» материка под водой, здесь резко меняются глубины и крутизна скло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Глубоководный желоб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Это самые глубоководные части Мирового океана, они представляют собой глубоководные «ущелья» глубиной до 11 000 метров. Самое глубокое место –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рианский желоб (11022м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Ложе океан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Это «равнина» на дне океана. Глубина – от 2500 до 6000 метр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7315200" y="0"/>
            <a:ext cx="1828800" cy="6858000"/>
            <a:chOff x="7315200" y="0"/>
            <a:chExt cx="1828800" cy="685800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7315200" y="28195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7315200" y="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7315200" y="137160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>
              <a:off x="7315200" y="419112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7315200" y="5562720"/>
              <a:ext cx="182880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685800" y="61722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рединно-океанические хребт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28600"/>
            <a:ext cx="6934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) Срединно-океанический хребет (СОХ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Это «горы», «хребты» под водой. Длина до 60 000 к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рединно-океанические хребты могут подниматься над водой, образуя остро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304920" y="2438280"/>
            <a:ext cx="6629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0T21:14:47Z</dcterms:created>
  <dc:creator>Дима и Марина</dc:creator>
  <dc:description/>
  <dc:language>en-US</dc:language>
  <cp:lastModifiedBy>Морозовы</cp:lastModifiedBy>
  <dcterms:modified xsi:type="dcterms:W3CDTF">2015-04-26T10:33:3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