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5A78-A2EC-4190-8221-86633531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F845-195F-4346-867C-505C3F77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AA27-EB07-458E-B2CD-3A213F79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6D8-EBED-4441-8016-047D7DD2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1C00-7AD6-46CA-9F3C-1477CE5B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295-C82C-4634-B0E2-78A46E5A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994-CD03-4443-8AD2-271BAA34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8967-AD05-48C4-BF4C-CC09624F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E72-705D-4924-B108-D72AD5FE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EB3A-402F-4F18-A95B-7D45D400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4927-A8EF-41C9-92A3-3A3B669D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03A-017C-4FE7-AE62-CAF6029C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64AC-D08A-4B40-A117-F5B5ACFA5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Рождество-Богородицкий хра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Благодарю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за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200" spc="-1" strike="noStrike">
                <a:solidFill>
                  <a:srgbClr val="000000"/>
                </a:solidFill>
                <a:latin typeface="Bookman Old Style"/>
              </a:rPr>
              <a:t>Цель работы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выявить значение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собора в жизни города и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уточнить хронологию его истории с момента создания до сегодняшних д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c7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-1713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В своей научной работе мы исследовали хронологию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истории церкви с момента создания до сегодняшних дней и выявили её значение в современной жизни людей и гор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219240"/>
            <a:ext cx="8424720" cy="494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4000" y="26028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ждество-Богородицкий храм(вид сзад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Основные д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собор заложен в 1889 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23 августа 1909 года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подняли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коло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в 1919 г. здесь разместился госпиталь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от 5 апреля 1934 г.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церковь была закрыта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здание было передано «Башкино» в декабре 1935 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от 16 октября 1938 г. в храме разместились авиамастер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от 21 июня 1955 г. здание было передано под кинотеа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от 21 августа 1991 г. здание возвращено 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православной церк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c7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Некоторые фа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масса наименьшего колокола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4,5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масса наибольшего колокола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835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высота собора 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21 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высота колокольни 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47 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длина собора с колокольней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440,6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наибольшая ширина собора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22,4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16572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ждество-Богородицкий собор(вид изнутри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c7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848360" cy="5889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404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ждество-Богородицки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ор (вид сперед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Сувениры интересных мест :: Имена и достопримечательности"/>
          <p:cNvPicPr/>
          <p:nvPr/>
        </p:nvPicPr>
        <p:blipFill>
          <a:blip r:embed="rId1"/>
          <a:stretch/>
        </p:blipFill>
        <p:spPr>
          <a:xfrm>
            <a:off x="611280" y="549360"/>
            <a:ext cx="8028000" cy="6021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86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ждество-Богородицкий храм(вид сверх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c7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ив на поставленные нами вопросы, мы смогли достичь нашей цели: узнали много нового о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ждество-Богородицком соборе, выявили его значение в жизни города и людей, а также уточнили хронологию истории церкви с момента создания до сегодняшних дн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0T15:00:34Z</dcterms:created>
  <dc:creator>Alan</dc:creator>
  <dc:description/>
  <dc:language>en-US</dc:language>
  <cp:lastModifiedBy>Alan</cp:lastModifiedBy>
  <dcterms:modified xsi:type="dcterms:W3CDTF">2014-10-30T17:48:28Z</dcterms:modified>
  <cp:revision>8</cp:revision>
  <dc:subject/>
  <dc:title>Рождество-Богородицкий храм </dc:title>
</cp:coreProperties>
</file>