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9.wmf" ContentType="image/x-wmf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8.wmf" ContentType="image/x-wmf"/>
  <Override PartName="/ppt/media/image10.gif" ContentType="image/gif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0830-5176-458D-8B9E-B0CAC627DF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4B11-1179-4D9D-A156-8C9AEBAE6A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E54F-2F16-449E-96DB-103389F9DC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F0ED-403A-4597-9491-A975DE4C8A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D561-801C-4236-A308-831EA19311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B9A9-FC52-4912-A758-5D355F9E96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112-DF59-4453-9961-3AFA870D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C65-090B-4629-A55B-A4DB8669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65C-8ABE-4001-8A13-143FA873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322-945F-4E43-8223-C042A141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FBD0-CED6-46E8-8DB1-93886E38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CDE6-CDF1-4852-91E7-B0B09839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70F7-13D8-4063-9172-2B763B9C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858A-0DEE-4216-A1B5-20A1D68B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F9C1-C675-4818-A727-E78AA0C2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FFC8-F76D-447B-A28B-26975E96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33EF-4301-4E46-8A58-D8201F6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53F-6A15-409E-B7C5-8D8B35C8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C88B-B712-480C-A979-4F2A77C4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BDE1-566B-41C1-A25A-61045C4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C68F-9F2C-45D4-85EA-6F176011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F93A-C374-4CBE-BE0F-078363B4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9B5F-DF0E-48F0-BFE8-5607696C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282-47F5-41D5-84BE-2F4B0089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32C-16CA-48D3-84A2-F255E9E3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5A7-CFBF-47BE-97C6-4D70C6AD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472-C616-47D2-8CFC-05ED7080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B0B-D09C-419D-98FD-F24088C6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D01-98B2-4C5F-9C20-D7BE2674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7BD-E51E-4F5E-A4B2-51D98D2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E87A-A3CE-41A5-A966-07084F3207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306D-D446-448F-8150-2522396559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Родительское собрание</a:t>
            </a:r>
            <a:br>
              <a:rPr sz="5400"/>
            </a:b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«Режим дня в жизни школьника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ить ребёнка в последний момент перед уходом в школу, объясняя это себе и другим большой любовью к не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мить ребёнка перед школой и после неё сухой пищей, бутербродами, объясняя это себе и другим, что ребёнку такая еда нрави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бовать от ребёнка только отличных и хороших результатов в школе, если он к ним не го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AG00109_"/>
          <p:cNvPicPr/>
          <p:nvPr/>
        </p:nvPicPr>
        <p:blipFill>
          <a:blip r:embed="rId1"/>
          <a:stretch/>
        </p:blipFill>
        <p:spPr>
          <a:xfrm>
            <a:off x="457200" y="0"/>
            <a:ext cx="496800" cy="952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зу после школьных уроков выполнять домашние зад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шать детей игр на свежем воздухе из – за плохих отметок в шко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тавлять ребёнка спать днём после уроков и лишать его этого пра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чать на ребёнка вообще и во время выполнения домашних заданий в ча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тавлять многократно переписывать в тетрадь из чернов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делать оздоровительных пауз во время выполнения домашних зад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дать папу и маму, чтобы выполнять уро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деть у телевизора и за компьютером более 40 – 45 минут в д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отреть перед сном страшные фильмы и играть в шумные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гать ребёнка перед с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являть двигательную активность в свободное от уроков врем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говаривать с ребёнком о его школьных проблемах зло и назида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щать ошибки и неудачи ребё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Родительские «нельз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бёнок, соблюдающий режим дня гораздо легче справляется со школьными нагрузками, успевает отдохнуть, не переутомляе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" descr="Рисунок1"/>
          <p:cNvPicPr/>
          <p:nvPr/>
        </p:nvPicPr>
        <p:blipFill>
          <a:blip r:embed="rId1"/>
          <a:stretch/>
        </p:blipFill>
        <p:spPr>
          <a:xfrm>
            <a:off x="2133720" y="3276720"/>
            <a:ext cx="525780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Памятка :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Как проводить оздоровительные минутки при выполнении домашних заданий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доровительная минутка проводится через каждые 10 – 15 минут выполнения домашних зад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ая продолжительность оздоровительной минутки не более 3 мин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ребёнок выполнял письменное задание, необходимо выполнить упражнения для рук: сжимание и разжимание пальцев, потряхивание кистями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длительного сидения ребёнку необходимо делать потягивания, приседания, повороты туловища в разные ст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ребёнок  малоактивен, не оставляйте это без внимания. Таким детям необходим ваш личный при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аботьтесь о том, чтобы в вашем доме был элементарный спортивный инвентарь: мяч, скакалка, обруч, гантели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вы сами в этот момент дома, делайте все упражнения вместе с ребёнком. Только тогда он поймёт их важность и необходим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27280" y="981000"/>
            <a:ext cx="4537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ропускайте трудности. При необходимости обращайтесь за помощью к специалистам: психологу, логопеду, окулис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Похвала способна повысить интеллектуальные дост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0" y="0"/>
            <a:ext cx="4140360" cy="170028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684360" y="457200"/>
            <a:ext cx="3201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684360" y="838080"/>
            <a:ext cx="30495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strips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хочу быть здоровы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могу быть здоровы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буду здоровы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3" descr="i9.jpg"/>
          <p:cNvPicPr/>
          <p:nvPr/>
        </p:nvPicPr>
        <p:blipFill>
          <a:blip r:embed="rId1"/>
          <a:stretch/>
        </p:blipFill>
        <p:spPr>
          <a:xfrm>
            <a:off x="5857920" y="4071960"/>
            <a:ext cx="2392200" cy="17859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i5.jpg"/>
          <p:cNvPicPr/>
          <p:nvPr/>
        </p:nvPicPr>
        <p:blipFill>
          <a:blip r:embed="rId2"/>
          <a:stretch/>
        </p:blipFill>
        <p:spPr>
          <a:xfrm>
            <a:off x="1428840" y="40719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7" descr="i23.jpg"/>
          <p:cNvPicPr/>
          <p:nvPr/>
        </p:nvPicPr>
        <p:blipFill>
          <a:blip r:embed="rId3"/>
          <a:stretch/>
        </p:blipFill>
        <p:spPr>
          <a:xfrm>
            <a:off x="3929040" y="5626080"/>
            <a:ext cx="18543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60"/>
                            </p:stCondLst>
                            <p:childTnLst>
                              <p:par>
                                <p:cTn id="122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2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760"/>
                            </p:stCondLst>
                            <p:childTnLst>
                              <p:par>
                                <p:cTn id="12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60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36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60"/>
                            </p:stCondLst>
                            <p:childTnLst>
                              <p:par>
                                <p:cTn id="13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2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800"/>
                            </p:stCondLst>
                            <p:childTnLst>
                              <p:par>
                                <p:cTn id="1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5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800"/>
                            </p:stCondLst>
                            <p:childTnLst>
                              <p:par>
                                <p:cTn id="15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560"/>
                            </p:stCondLst>
                            <p:childTnLst>
                              <p:par>
                                <p:cTn id="1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56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456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Хорошими людьми становят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больше от упражнений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чем от природы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мокр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Arial"/>
              </a:rPr>
              <a:t>Статистика актуальности т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20-25 % первоклассников, преступающих ежегодно школьный порог, остаются здоровыми после первого года обучения в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онцу первой четверти худеют 30 %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%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ников жалуются на головные боли, усталость, сонливость, отсутствие желания у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учащихся имеют различные нарушения оса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 % детей имеют нарушения зрения различной тяже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% детей входят в группу риска в связи со склонностью к близору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24 % учеников выдерживают ночной норматив с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жедневно дети недосыпают от 1,5 часов до получа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TYPEWRIT_thumb"/>
          <p:cNvPicPr/>
          <p:nvPr/>
        </p:nvPicPr>
        <p:blipFill>
          <a:blip r:embed="rId1"/>
          <a:stretch/>
        </p:blipFill>
        <p:spPr>
          <a:xfrm>
            <a:off x="5791320" y="5181480"/>
            <a:ext cx="251460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режима дня позволяет ребёнку сохранять физическое и психологическое равновесие, что даёт возможность соблюдения эмоционального равновесия. Этот возраст характеризуется эмоциональной неустойчивостью, которая ведёт к хронической усталости и утомляемости. Эти постоянные симптомы приводят к снижению работоспособности ребё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зкая работоспособность характеризу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м количества правильных ответов на уроке и дома после того, как ребёнок выучил материал уро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м количества ошибок наряду с хорошо выученным правил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еянностью и невнимательностью ребёнка, быстрой утомляемост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м почерка ребёнка в связи с ухудшением регуляции физических функ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Arial"/>
              </a:rPr>
              <a:t>Режим 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едование различных видов деятельности и отдыха в течении суток, установление оптимальных норм продолжительности деятельности и отдыха для школьников разного возраста, средство выработки у ребёнка привычки распоряжаться своим временем, умения избирать для себя наиболее приемлемый ритм жизни и труда, потребности заполнять своё время полезной деятель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SCHOOLMA"/>
          <p:cNvPicPr/>
          <p:nvPr/>
        </p:nvPicPr>
        <p:blipFill>
          <a:blip r:embed="rId1"/>
          <a:stretch/>
        </p:blipFill>
        <p:spPr>
          <a:xfrm>
            <a:off x="7391520" y="5181480"/>
            <a:ext cx="1523880" cy="1295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BOYWVIDE"/>
          <p:cNvPicPr/>
          <p:nvPr/>
        </p:nvPicPr>
        <p:blipFill>
          <a:blip r:embed="rId2"/>
          <a:stretch/>
        </p:blipFill>
        <p:spPr>
          <a:xfrm>
            <a:off x="4038480" y="5105520"/>
            <a:ext cx="1671840" cy="143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GIRLBRD"/>
          <p:cNvPicPr/>
          <p:nvPr/>
        </p:nvPicPr>
        <p:blipFill>
          <a:blip r:embed="rId3"/>
          <a:stretch/>
        </p:blipFill>
        <p:spPr>
          <a:xfrm>
            <a:off x="304920" y="5029200"/>
            <a:ext cx="1536480" cy="151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CASWOMAN"/>
          <p:cNvPicPr/>
          <p:nvPr/>
        </p:nvPicPr>
        <p:blipFill>
          <a:blip r:embed="rId4"/>
          <a:stretch/>
        </p:blipFill>
        <p:spPr>
          <a:xfrm>
            <a:off x="2286000" y="51055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WMBSKTBL"/>
          <p:cNvPicPr/>
          <p:nvPr/>
        </p:nvPicPr>
        <p:blipFill>
          <a:blip r:embed="rId5"/>
          <a:stretch/>
        </p:blipFill>
        <p:spPr>
          <a:xfrm>
            <a:off x="5943600" y="4876920"/>
            <a:ext cx="129528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4" descr="photo29"/>
          <p:cNvPicPr/>
          <p:nvPr/>
        </p:nvPicPr>
        <p:blipFill>
          <a:blip r:embed="rId1"/>
          <a:stretch/>
        </p:blipFill>
        <p:spPr>
          <a:xfrm flipH="1">
            <a:off x="0" y="0"/>
            <a:ext cx="1835280" cy="16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1905120" y="1066680"/>
          <a:ext cx="7086600" cy="5257800"/>
        </p:xfrm>
        <a:graphic>
          <a:graphicData uri="http://schemas.openxmlformats.org/drawingml/2006/table">
            <a:tbl>
              <a:tblPr/>
              <a:tblGrid>
                <a:gridCol w="4057560"/>
                <a:gridCol w="3029040"/>
              </a:tblGrid>
              <a:tr h="38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ный вариант режима дня школь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Подъё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7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Зарядка, умывание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уборка пос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7.30 – 8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Завтр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8.00 – 8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Дорога в шко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8.20 – 8.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Занятия в шко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9.00 – 13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Прогулка на свежем воздух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3.00 – 14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Обед, отдых, помощь по д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4.30 – 16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Приготовление уро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6.00 – 17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Свободное врем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7.00 – 19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Уж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9.00 – 19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Свободное врем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19.30 – 2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Личная гигиена, подготовка ко с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4873"/>
                          </a:solidFill>
                          <a:latin typeface="Arial"/>
                        </a:rPr>
                        <a:t>20.30 – 2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914400" y="2160"/>
            <a:ext cx="6951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ое 3-дневное меню для детей школьного возрас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762120"/>
          <a:ext cx="9067680" cy="6019560"/>
        </p:xfrm>
        <a:graphic>
          <a:graphicData uri="http://schemas.openxmlformats.org/drawingml/2006/table">
            <a:tbl>
              <a:tblPr/>
              <a:tblGrid>
                <a:gridCol w="2970000"/>
                <a:gridCol w="2784600"/>
                <a:gridCol w="331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й ден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й ден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й ден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тра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ичниц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е фрук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чная каш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ртая морков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рук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нивые варени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 с молок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леб с масл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62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е фрук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завтрак (в школе)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ша пше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лат морковно-яблоч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тлета с картофельным пюр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жий огурец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а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ыбная котлета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тушеными овощ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жий помидор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299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 с лимоном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29"/>
          <p:cNvSpPr/>
          <p:nvPr/>
        </p:nvSpPr>
        <p:spPr>
          <a:xfrm>
            <a:off x="179280" y="585612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2"/>
          <p:cNvSpPr/>
          <p:nvPr/>
        </p:nvSpPr>
        <p:spPr>
          <a:xfrm>
            <a:off x="457200" y="762120"/>
            <a:ext cx="82296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особ приготовления пищи также оказывает влияние на здоровье. В питании детей необходимо использовать те способы приготовления пищи, при которых не требуется большого количества масла, жира, соли, сахара (это отваривание, запекание, туше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ременный школьник, по мнению диетологов, должен есть не менее четырех раз в день, причем на завтрак, обед и ужин непременно должно быть горячее блюдо. За день школьники должны выпивать не менее одного-полутора литров жидкости, но не газированной воды, а фруктовых или овощных со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55148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4" descr="919299358"/>
          <p:cNvPicPr/>
          <p:nvPr/>
        </p:nvPicPr>
        <p:blipFill>
          <a:blip r:embed="rId1"/>
          <a:stretch/>
        </p:blipFill>
        <p:spPr>
          <a:xfrm>
            <a:off x="3059280" y="4844880"/>
            <a:ext cx="2089080" cy="201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5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260280"/>
            <a:ext cx="8820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того, чтобы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человеческий моз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этот сложнейший механизм, функционировал нормально, его клеткам, которых насчитывается свыше ста миллиардов!) необходимо получать большое количество энергии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Моз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как известно, забирает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0% всей энерги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получаемой с пищ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ужин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за 2 часа до сна, рекомендуются молочные, фруктово-овощные, крупяные и другие блюда, не перегружающие работу органов пищеварения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сключаются острые приправы, кофе, какао, чай, шоколад и другие продукты, возбуждающие нервную систему. Переедание и голод ухудшают со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ду лучше начинать с закусок (салат, винегрет, сыр, копченые колбасы и др.), возбуждающих аппетит. Пищу нужно хорошо пережевывать. Плохо пережеванная пища усиливает образование слизи в желудке, снижает кислотность и переваривающие свойства желудочного сока.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еприятные разговоры, чтение газет и другие отвлекающие моменты также тормозят секрецию органов пищеварения и ухудшают аппетит.</a:t>
            </a:r>
            <a:br>
              <a:rPr sz="2000"/>
            </a:br>
            <a:r>
              <a:rPr b="1" lang="ru-RU" sz="2000" spc="-1" strike="noStrike" u="sng">
                <a:solidFill>
                  <a:srgbClr val="660033"/>
                </a:solidFill>
                <a:uFillTx/>
                <a:latin typeface="Times New Roman"/>
              </a:rPr>
              <a:t>Ешьте в одно и то же врем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Нерегулярный и беспорядочный прием пищи нарушает работу желез органов пищеварения, ухудшает усвоение пищи и способствует развитию различных заболеваний. 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ереедание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зывает чувство тяжести, сонливость, снижение трудоспособности. Длительное переедание приводит к ожирению и ранней стар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се пользователи</cp:lastModifiedBy>
  <dcterms:modified xsi:type="dcterms:W3CDTF">2012-06-26T14:03:5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