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0C30-37AB-44DF-9D00-B840F4729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7EF4-A65B-4DFB-AADA-697A29F10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5627-7044-4CB3-8CC1-03BB2941F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99BE-041A-4C2E-9F76-EDCFFD22B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3BA3A-5945-4EDB-A03C-595B43733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82E11-AD8B-48EE-A98B-C4D341823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667D5-8339-4097-A20F-948C7060A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F71C8-1868-4FDD-BB25-30D3E26A9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581AD-2F92-4801-88D6-3581C5470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BCC34-5700-4C72-A93C-87E52C34E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8E4A2-37EF-477E-9117-1A104ED0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5324-2C85-46F5-A8F7-D524B8B55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B76EC-411B-4587-B3DE-EC260429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71A0A-8F2F-4EC9-B900-5F15433A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F3A4D-C600-47B3-A227-9CCE95148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82532-8867-4A98-AC97-FCC26CF37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98E60-A918-462D-9CFC-A0888FEBB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32A84D-FB8A-4F45-82C5-E68493446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A099B8-2DC7-4DA4-BAD7-8EE3363BC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F9DE8E-0442-4D68-8809-826B3359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FA9327-F4A5-4BD1-833D-658389C8B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FA2925-A0E1-4A2A-80C4-5F9380825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3D67-BE01-4190-8743-EE4B02278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7E891D-E954-4431-9519-27A183B35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BD4E52-AC31-4573-B09E-77BAB67E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E13A07-E3D6-4A72-9C80-FB008D44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B9CA2C-3764-40E9-8DBA-64C02A92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A787B9-EB45-4CAB-AAA9-651BC9ED0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5101D7-CCCD-4FE2-BFA2-34E274F97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DACD31-1B5E-4793-965A-7F377769E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190AD-98A8-4498-A652-DA3663F77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A194E-4937-42CE-8BBC-CCFD48F45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0D977-72AB-443E-B527-053DAE2C9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9570-D67C-4194-8482-8DE89E58E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3D460-2D74-4CC3-B7CA-AD012E4C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897ED-BD16-43FC-AE4F-38BCF8D90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84DE8-16AC-4C35-AD88-9D2CBFAB0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47C9A-D99F-4860-AB47-C3E0CFD7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984E3-DDCE-44B7-ADCF-CC40B045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7C5F8-17B7-4BF5-B8BA-70EC88F2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3F2FE-7D54-4081-A378-0A8185C7A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5F2A5-0B64-4491-91C4-2DD2D29B8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FDDAC-3847-4B5B-84BE-F297368DB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723A1F-F02F-45C2-A2B2-705FBC920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2C9D-CF9E-4439-A7EA-E74862931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6E1B24-5AF4-449B-A53D-C0FF39635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7F26D3-44F9-423A-8355-21AEA70C1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5BE84E-9626-4136-9C45-3CF59C6F8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BE4A31-D57B-476E-A803-D4E786527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794C07-77D6-493B-9C3A-5F03D1117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675B02-A4C3-4B52-BD30-45688126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8DEB3D-65AF-456D-8081-7968EAB7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34C98A-1706-4FC4-88C7-E78EADF0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8E960E-2C17-4577-83C7-108776C69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9B4EED-2A69-43CF-80A6-1ED22C168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989A-9D65-4C2F-9D20-7546997B8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7390B7-1629-4B88-807E-ACB9B64E7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917BC7-FAA2-45A9-A781-3F7575A80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FBECE4-0BA4-47B4-8301-2D46DE62C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5D1E13-76DB-4B5B-9A8E-64D5C4112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0CC689-1B36-4D4D-A2FE-DD73028AC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81539B-8DD7-4BE6-9191-B31501546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F0A0E3-9723-436C-92D9-C76D00D87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FD2146-503E-4BD8-8EF7-2B6DB254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74F84D-F31D-44BB-9A8F-AFD64F8C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AAD032-4400-4039-BB07-6FF80496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4ED4-9722-4F3B-BF6E-3D170C10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1A97A8-D443-495B-B48D-3B40BC644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52A175-B6EA-44A5-9BD7-DA414E92A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B28AE3-8A42-4A77-9BC2-3E1F9CBAB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19669A-3DE6-4828-8100-5DB3918F7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CE6F46-D0D8-4B82-9F76-60FC4E51D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BA6100-1B69-4FFC-91EE-D50C8EE4D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745556-FF62-44F5-959C-E98E035F5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C43FF6-9368-4642-9F98-7ACE675DC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B49FF7-F2DE-4431-AC9A-5BA49A42B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AB4E0F-313B-4131-A21C-F9A664B4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66FE-9C9B-4DB5-8BAE-5FAC8393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76C496-A3BA-49B2-9E30-EC274DE7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340DD8-CC76-4878-B2AA-C017EE0B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6FFDE9-4D49-4A3C-9385-1C0DE0192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3B72D0-0E7E-48C7-9AE2-06A451A67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B4AB5F-31E0-4192-83C1-152E7FB7C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439595-08CA-4125-93E6-FBBBA38A5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639880-9C6A-4C51-856A-A71D19ACF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6B7BEB-81A9-4793-915E-27A699EA1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6149C2-FAE1-4C8E-9FED-CD299DE79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84F02C-F790-4AA9-B740-E86DBF174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A68B-D21B-44EB-827F-92680DAE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6A40C3-CA4F-44E5-8E00-A8A506174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29D1E7-6715-4464-AFCD-62334BB8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852750-DB6E-4B70-A4DF-24F019DC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62BDCD-9206-4DFF-8631-3568F327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878923-DC66-46E0-B404-013DA73AD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5A8191-B6F4-4D35-B2D3-56C969DC4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3A4AFF-1C57-44DD-BCD5-AFC91B641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4BD19-8AC1-40EF-A396-B64F3590E07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6DFE6-C198-41F8-AB5D-BAEB7EA65FF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81F87-48ED-4777-A13C-93C0A350736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8C244-F0EA-410C-A436-059042EB307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32DAD-8FFF-491F-A348-43A67E5B5F3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CFAE5-C33E-4260-9449-F757815935D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842C9-DB28-4CDA-AA7B-72A57609531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01DE9-AA0E-46C1-B8D9-6ADF74D42AB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mezk.ru/forum/file/431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999720" y="785880"/>
            <a:ext cx="664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187280" indent="-18252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omic Sans MS"/>
              </a:rPr>
              <a:t>Деревянные рожки, железные ножки - шла, ковыляла, спину гнуть заставляла. 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7" descr="images"/>
          <p:cNvPicPr/>
          <p:nvPr/>
        </p:nvPicPr>
        <p:blipFill>
          <a:blip r:embed="rId1"/>
          <a:stretch/>
        </p:blipFill>
        <p:spPr>
          <a:xfrm>
            <a:off x="6300720" y="620640"/>
            <a:ext cx="2303640" cy="2160720"/>
          </a:xfrm>
          <a:prstGeom prst="rect">
            <a:avLst/>
          </a:prstGeom>
          <a:ln w="31680">
            <a:solidFill>
              <a:srgbClr val="00ff00"/>
            </a:solidFill>
            <a:miter/>
          </a:ln>
        </p:spPr>
      </p:pic>
      <p:sp>
        <p:nvSpPr>
          <p:cNvPr id="425" name="Text Box 8"/>
          <p:cNvSpPr/>
          <p:nvPr/>
        </p:nvSpPr>
        <p:spPr>
          <a:xfrm>
            <a:off x="4859280" y="29242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omic Sans MS"/>
              </a:rPr>
              <a:t>Древнерусский пл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9" descr="default"/>
          <p:cNvPicPr/>
          <p:nvPr/>
        </p:nvPicPr>
        <p:blipFill>
          <a:blip r:embed="rId2"/>
          <a:stretch/>
        </p:blipFill>
        <p:spPr>
          <a:xfrm>
            <a:off x="785880" y="571680"/>
            <a:ext cx="3311280" cy="2158920"/>
          </a:xfrm>
          <a:prstGeom prst="rect">
            <a:avLst/>
          </a:prstGeom>
          <a:ln w="31680">
            <a:solidFill>
              <a:srgbClr val="00ff00"/>
            </a:solidFill>
            <a:miter/>
          </a:ln>
        </p:spPr>
      </p:pic>
      <p:pic>
        <p:nvPicPr>
          <p:cNvPr id="427" name="Picture 10" descr="default"/>
          <p:cNvPicPr/>
          <p:nvPr/>
        </p:nvPicPr>
        <p:blipFill>
          <a:blip r:embed="rId3"/>
          <a:stretch/>
        </p:blipFill>
        <p:spPr>
          <a:xfrm>
            <a:off x="6357960" y="3786120"/>
            <a:ext cx="2309760" cy="2000160"/>
          </a:xfrm>
          <a:prstGeom prst="rect">
            <a:avLst/>
          </a:prstGeom>
          <a:ln w="31680">
            <a:solidFill>
              <a:srgbClr val="00ff00"/>
            </a:solidFill>
            <a:miter/>
          </a:ln>
        </p:spPr>
      </p:pic>
      <p:sp>
        <p:nvSpPr>
          <p:cNvPr id="428" name="Text Box 11"/>
          <p:cNvSpPr/>
          <p:nvPr/>
        </p:nvSpPr>
        <p:spPr>
          <a:xfrm>
            <a:off x="4859280" y="60213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omic Sans MS"/>
              </a:rPr>
              <a:t>Современный пл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12" descr="images"/>
          <p:cNvPicPr/>
          <p:nvPr/>
        </p:nvPicPr>
        <p:blipFill>
          <a:blip r:embed="rId4"/>
          <a:stretch/>
        </p:blipFill>
        <p:spPr>
          <a:xfrm>
            <a:off x="785880" y="3714840"/>
            <a:ext cx="3311280" cy="2017800"/>
          </a:xfrm>
          <a:prstGeom prst="rect">
            <a:avLst/>
          </a:prstGeom>
          <a:ln w="31680">
            <a:solidFill>
              <a:srgbClr val="00ff00"/>
            </a:solidFill>
            <a:miter/>
          </a:ln>
        </p:spPr>
      </p:pic>
      <p:sp>
        <p:nvSpPr>
          <p:cNvPr id="430" name="Line 13"/>
          <p:cNvSpPr/>
          <p:nvPr/>
        </p:nvSpPr>
        <p:spPr>
          <a:xfrm flipV="1">
            <a:off x="6948360" y="2923920"/>
            <a:ext cx="863640" cy="360360"/>
          </a:xfrm>
          <a:prstGeom prst="line">
            <a:avLst/>
          </a:prstGeom>
          <a:ln w="255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4"/>
          <p:cNvSpPr/>
          <p:nvPr/>
        </p:nvSpPr>
        <p:spPr>
          <a:xfrm flipH="1" flipV="1">
            <a:off x="3995640" y="5876640"/>
            <a:ext cx="1008000" cy="360360"/>
          </a:xfrm>
          <a:prstGeom prst="line">
            <a:avLst/>
          </a:prstGeom>
          <a:ln w="255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5"/>
          <p:cNvSpPr/>
          <p:nvPr/>
        </p:nvSpPr>
        <p:spPr>
          <a:xfrm flipH="1" flipV="1">
            <a:off x="3850920" y="2852280"/>
            <a:ext cx="1081080" cy="505080"/>
          </a:xfrm>
          <a:prstGeom prst="line">
            <a:avLst/>
          </a:prstGeom>
          <a:ln w="255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6"/>
          <p:cNvSpPr/>
          <p:nvPr/>
        </p:nvSpPr>
        <p:spPr>
          <a:xfrm flipV="1">
            <a:off x="6948360" y="5805000"/>
            <a:ext cx="863640" cy="360360"/>
          </a:xfrm>
          <a:prstGeom prst="line">
            <a:avLst/>
          </a:prstGeom>
          <a:ln w="255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/>
          </p:nvPr>
        </p:nvSpPr>
        <p:spPr>
          <a:xfrm>
            <a:off x="2928600" y="333360"/>
            <a:ext cx="560556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00000"/>
                </a:solidFill>
                <a:latin typeface="Century Schoolbook"/>
              </a:rPr>
              <a:t>    </a:t>
            </a:r>
            <a:r>
              <a:rPr b="1" lang="ru-RU" sz="2900" spc="-1" strike="noStrike">
                <a:solidFill>
                  <a:srgbClr val="c00000"/>
                </a:solidFill>
                <a:latin typeface="Comic Sans MS"/>
              </a:rPr>
              <a:t>Топо́р — инструмент, обычно с металлическим лезвием, жёстко закреплённым на рукоятке, обычно деревянной. Существует разновидность топора, называемая тесло, в которой лезвие повернуто перпендикулярно рукоятке. Топор обычно применяется в плотницком деле для разрубания или придания формы дереву, а также для сруба деревьев. </a:t>
            </a:r>
            <a:endParaRPr b="0" lang="en-US" sz="29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5" name="Picture 7" descr="топор лесоруба"/>
          <p:cNvPicPr/>
          <p:nvPr/>
        </p:nvPicPr>
        <p:blipFill>
          <a:blip r:embed="rId1"/>
          <a:stretch/>
        </p:blipFill>
        <p:spPr>
          <a:xfrm>
            <a:off x="142920" y="142920"/>
            <a:ext cx="1841400" cy="2749680"/>
          </a:xfrm>
          <a:prstGeom prst="rect">
            <a:avLst/>
          </a:prstGeom>
          <a:ln w="31680">
            <a:solidFill>
              <a:srgbClr val="00ff00"/>
            </a:solidFill>
            <a:miter/>
          </a:ln>
        </p:spPr>
      </p:pic>
      <p:pic>
        <p:nvPicPr>
          <p:cNvPr id="436" name="Picture 7" descr="плотницкий топор"/>
          <p:cNvPicPr/>
          <p:nvPr/>
        </p:nvPicPr>
        <p:blipFill>
          <a:blip r:embed="rId2"/>
          <a:stretch/>
        </p:blipFill>
        <p:spPr>
          <a:xfrm>
            <a:off x="214200" y="3500280"/>
            <a:ext cx="1838520" cy="2951280"/>
          </a:xfrm>
          <a:prstGeom prst="rect">
            <a:avLst/>
          </a:prstGeom>
          <a:ln w="31680">
            <a:solidFill>
              <a:srgbClr val="00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929120" y="928440"/>
            <a:ext cx="39290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mic Sans MS"/>
              </a:rPr>
              <a:t>В древности и в Средних веках топор являлся распространенным холодным оружием, как ручным, так и метательным</a:t>
            </a:r>
            <a:r>
              <a:rPr b="1" lang="ru-RU" sz="1100" spc="-1" strike="noStrike">
                <a:solidFill>
                  <a:srgbClr val="c00000"/>
                </a:solidFill>
                <a:latin typeface="Comic Sans MS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9" name="Picture 14" descr="боевой топор"/>
          <p:cNvPicPr/>
          <p:nvPr/>
        </p:nvPicPr>
        <p:blipFill>
          <a:blip r:embed="rId1"/>
          <a:stretch/>
        </p:blipFill>
        <p:spPr>
          <a:xfrm>
            <a:off x="214200" y="214200"/>
            <a:ext cx="4446720" cy="5929560"/>
          </a:xfrm>
          <a:prstGeom prst="rect">
            <a:avLst/>
          </a:prstGeom>
          <a:ln w="31680">
            <a:solidFill>
              <a:srgbClr val="00ff00"/>
            </a:solidFill>
            <a:miter/>
          </a:ln>
        </p:spPr>
      </p:pic>
      <p:pic>
        <p:nvPicPr>
          <p:cNvPr id="440" name="Picture 16" descr="боевые топоры"/>
          <p:cNvPicPr/>
          <p:nvPr/>
        </p:nvPicPr>
        <p:blipFill>
          <a:blip r:embed="rId2"/>
          <a:stretch/>
        </p:blipFill>
        <p:spPr>
          <a:xfrm>
            <a:off x="4143240" y="4143240"/>
            <a:ext cx="1989360" cy="2459160"/>
          </a:xfrm>
          <a:prstGeom prst="rect">
            <a:avLst/>
          </a:prstGeom>
          <a:ln w="31680">
            <a:solidFill>
              <a:srgbClr val="00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43" name="Picture 2" descr=""/>
          <p:cNvPicPr/>
          <p:nvPr/>
        </p:nvPicPr>
        <p:blipFill>
          <a:blip r:embed="rId1"/>
          <a:stretch/>
        </p:blipFill>
        <p:spPr>
          <a:xfrm>
            <a:off x="500040" y="1214280"/>
            <a:ext cx="8358120" cy="40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99680" y="1428840"/>
            <a:ext cx="7467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Для того, чтобы работа проходила успешно, необходимо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слушать друг друга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проявлять терпимость к иной точке зрения в ходе обсуждения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приходить к единому мнению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Правильно распределять время, выделенное на выполнение задания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доказательно представлять результаты работы классу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47" name="Picture 2" descr="C:\Documents and Settings\админ1\Рабочий стол\clip_image002.jpg"/>
          <p:cNvPicPr/>
          <p:nvPr/>
        </p:nvPicPr>
        <p:blipFill>
          <a:blip r:embed="rId1"/>
          <a:stretch/>
        </p:blipFill>
        <p:spPr>
          <a:xfrm>
            <a:off x="0" y="500040"/>
            <a:ext cx="897264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2" name="Прямоугольник 3"/>
          <p:cNvSpPr/>
          <p:nvPr/>
        </p:nvSpPr>
        <p:spPr>
          <a:xfrm>
            <a:off x="1285920" y="2071800"/>
            <a:ext cx="6572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omic Sans MS"/>
              </a:rPr>
              <a:t>Кочет голенаст, кланяться горазд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300" spc="-1" strike="noStrike">
                <a:solidFill>
                  <a:srgbClr val="9a3d01"/>
                </a:solidFill>
                <a:latin typeface="Century Schoolbook"/>
              </a:rPr>
              <a:t>«СОХА И ТОПОР КАК ЧУДЕСА РОССИИ»</a:t>
            </a:r>
            <a:br>
              <a:rPr sz="3200"/>
            </a:br>
            <a:endParaRPr b="0" lang="en-US" sz="53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6840" y="785880"/>
            <a:ext cx="746748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4"/>
          <p:cNvSpPr/>
          <p:nvPr/>
        </p:nvSpPr>
        <p:spPr>
          <a:xfrm>
            <a:off x="1042920" y="1844640"/>
            <a:ext cx="3889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omic Sans MS"/>
              </a:rPr>
              <a:t>Известно, что много столетий, вплоть до конца XIX века в лесной зоне России соха оставалась важнейшим и универсальным орудием для обработки почвы. Это было наиболее оригинальное восточноевропейское пахотное орудие существенно отличающееся от рала и плу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5" descr="soha_02"/>
          <p:cNvPicPr/>
          <p:nvPr/>
        </p:nvPicPr>
        <p:blipFill>
          <a:blip r:embed="rId1"/>
          <a:stretch/>
        </p:blipFill>
        <p:spPr>
          <a:xfrm>
            <a:off x="5003640" y="1268280"/>
            <a:ext cx="3889440" cy="4465800"/>
          </a:xfrm>
          <a:prstGeom prst="rect">
            <a:avLst/>
          </a:prstGeom>
          <a:ln w="31680">
            <a:solidFill>
              <a:srgbClr val="00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4572000" y="1214280"/>
            <a:ext cx="4280040" cy="42148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"/>
          <p:cNvPicPr/>
          <p:nvPr/>
        </p:nvPicPr>
        <p:blipFill>
          <a:blip r:embed="rId2"/>
          <a:srcRect l="0" t="12752" r="0" b="0"/>
          <a:stretch/>
        </p:blipFill>
        <p:spPr>
          <a:xfrm>
            <a:off x="357120" y="714240"/>
            <a:ext cx="465624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4572000" y="549360"/>
            <a:ext cx="43927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1700" spc="-1" strike="noStrike">
                <a:solidFill>
                  <a:srgbClr val="c00000"/>
                </a:solidFill>
                <a:latin typeface="Comic Sans MS"/>
              </a:rPr>
              <a:t>Соха́ — пахотное орудие типа рала у русских — с широкой рабочей частью (рассохой) из дерева, оснащённой двумя железными сошниками и железной лопаткой — полицей и соединённой в верхней части с оглоблями, в которые запрягали лошадь. Главное отличие от плуга в том, что соха не переворачивала пласт земли, а лишь отваливала его в сторону. По сравнению с плугом соха требовала при пахоте меньшего тягового усилия лошади, но больших физических усилий и мастерства от пахаря. Глубина обработки почвы сохой — до 12 сантиметров. Соха использовалась для пахоты подзолистых почв в зоне хвойных и смешанных лесов, толщина плодородного слоя которых в начале XX века редко достигала 15 см</a:t>
            </a:r>
            <a:r>
              <a:rPr b="1" lang="ru-RU" sz="2200" spc="-1" strike="noStrike">
                <a:solidFill>
                  <a:srgbClr val="c00000"/>
                </a:solidFill>
                <a:latin typeface="Century Schoolbook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2" name="Picture 6" descr="soha_01"/>
          <p:cNvPicPr/>
          <p:nvPr/>
        </p:nvPicPr>
        <p:blipFill>
          <a:blip r:embed="rId1"/>
          <a:stretch/>
        </p:blipFill>
        <p:spPr>
          <a:xfrm>
            <a:off x="900000" y="1700280"/>
            <a:ext cx="3311640" cy="3960720"/>
          </a:xfrm>
          <a:prstGeom prst="rect">
            <a:avLst/>
          </a:prstGeom>
          <a:ln w="31680">
            <a:solidFill>
              <a:srgbClr val="00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152352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10516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6" name="Picture 2" descr=""/>
          <p:cNvPicPr/>
          <p:nvPr/>
        </p:nvPicPr>
        <p:blipFill>
          <a:blip r:embed="rId1"/>
          <a:stretch/>
        </p:blipFill>
        <p:spPr>
          <a:xfrm>
            <a:off x="452520" y="500040"/>
            <a:ext cx="8138880" cy="57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9" name="Picture 6" descr="Картинка 2 из 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8200" y="455760"/>
            <a:ext cx="8067600" cy="59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10516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2" name="Picture 2" descr="Земледельнические орудия труда"/>
          <p:cNvPicPr/>
          <p:nvPr/>
        </p:nvPicPr>
        <p:blipFill>
          <a:blip r:embed="rId1"/>
          <a:stretch/>
        </p:blipFill>
        <p:spPr>
          <a:xfrm>
            <a:off x="571680" y="142920"/>
            <a:ext cx="7783200" cy="4348080"/>
          </a:xfrm>
          <a:prstGeom prst="rect">
            <a:avLst/>
          </a:prstGeom>
          <a:ln w="0">
            <a:noFill/>
          </a:ln>
        </p:spPr>
      </p:pic>
      <p:sp>
        <p:nvSpPr>
          <p:cNvPr id="423" name="Прямоугольник 6"/>
          <p:cNvSpPr/>
          <p:nvPr/>
        </p:nvSpPr>
        <p:spPr>
          <a:xfrm>
            <a:off x="142920" y="5429160"/>
            <a:ext cx="878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omic Sans MS"/>
              </a:rPr>
              <a:t>Земледельческие орудия труда: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omic Sans MS"/>
              </a:rPr>
              <a:t>1. Соха; 2. Цеп; 3. Рало; 4. Палка; 5. Серп; 6. Коса; 7. Борона-суковат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4T15:34:54Z</dcterms:created>
  <dc:creator>админ</dc:creator>
  <dc:description/>
  <dc:language>en-US</dc:language>
  <cp:lastModifiedBy>админ</cp:lastModifiedBy>
  <dcterms:modified xsi:type="dcterms:W3CDTF">2015-04-26T17:14:27Z</dcterms:modified>
  <cp:revision>34</cp:revision>
  <dc:subject/>
  <dc:title>Слайд 1</dc:title>
</cp:coreProperties>
</file>