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7780-B77C-4F1B-B68F-1E5796EA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C35D-FD1C-482B-856A-43BEAC7D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1D8C-A71E-472C-A43C-4C8ED1F66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9769-6C20-4544-B30B-501D6D626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172D-D4A9-4DEC-A56D-27CFEB498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F120-8461-4065-B2A8-25D61BEF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A72D-8E81-4BED-A6F8-96E8F7F0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93AE-9284-44F5-9FCE-AE4E7331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1C6C-9DA7-4D53-8A84-BD996404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5BBE-0C26-419C-8120-8E39C8B4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C9C6-5A9E-4C9E-9EDB-AA520CF7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CC9E-EA0E-41FA-9526-F0BC964B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2FE3-5282-4D80-A4E7-710FDC18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2FE1-419B-47CC-A2B2-39610B19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7766-B6F5-4E0F-B46E-444CA797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708A-3E88-4D23-B78C-D0441CA24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BFEA-BD04-4CCA-BA25-28685C89D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31A8C2-A6DE-4173-AD9E-F6892A306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2EBD66-B09E-4EA7-8546-0F9B8E7E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532AFC-21DE-4F76-9270-F3D80FA4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043210-C774-4FAD-84C5-E1A338E1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A5030C-9EA3-47DF-86DC-102FCFB9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BCFF-3D22-4DFA-ADC4-76BFDF41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DFB959-D010-4DC4-801D-5A8E1037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838284-9BC6-4750-8C6D-CE01F9AD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9989F0-0215-4DD7-B740-3CB19DE9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F6F31A-B86D-42B8-8E02-B08F1CCB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E57864-97EF-489B-BCF4-D870E982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0F705E-EBCC-4D94-846C-E00FFF50A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23ED38-9A76-48FF-8567-B2F689975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4C23C-502F-4F87-807C-71B96BBA5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83814-A879-4E68-97AC-E91C8D78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131A7-5DC1-4689-8252-60A8CF31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9993-0C56-4AF6-A03D-4D97E37F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75A50-A00C-40D4-A69F-4A225A38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E7DE1-41BC-4641-A76F-36C23BBF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AFCBA-C4EA-4511-AC4A-F7B5BB1C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7F0DB-FCF8-44DF-8A11-C1A71250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CD809-A71E-4CB5-AD5F-6C4F2DEB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CD6E0-9D30-4071-ADF0-3485E329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B1439-D684-43A9-AE40-DA8DF690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4F239-677B-44B0-B986-F38AFF966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DFF2A-BE60-459A-AC3A-A1E9F37DF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247BD5-F93A-48CE-9E96-B78567DA4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104D-5B43-43C1-A182-1739F57E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012DED-2460-4B9C-8CA2-F16541F1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6C5B9B-AD19-44CA-B1FE-C7D0002F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F1969A-9D29-477D-BFB1-6A8D2DAC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021BAC-18C2-408C-B5FD-E7E64016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7016F3-7EAA-4901-BBCA-B69B4BE4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4474E5-958D-44B4-9558-291BCA60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C264DC-2246-4DDE-A1AD-FDA91E1F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DCADE4-508E-4B37-B9E6-52C6DCDE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944A80-1604-4E54-9E19-67B04C75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42E575-105F-412B-9441-B4016506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4DB3-BFEB-491E-BA5A-6755C0B9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5542D6-4CF0-48B2-BC54-CA5F0CF5D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AF689E-CEC9-402A-BD10-051352940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D377BB-40CD-4D14-8C5C-1B982578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811639-BD20-45B2-AF5F-6231D0ED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DCD1E6-28D3-4330-80BC-07D3927B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1ECB04-6871-4E63-9331-DEEE4DF6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BDE824-94B9-4757-BA70-ABC49430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0D905B-1075-47E5-990D-0951E584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4DF35F-DBB5-4CBA-80BC-DCEE44C7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E1805D-0568-41FD-9375-A8C0E670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3330-C9FC-42DB-8505-15CFA167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0D63B4-8FF4-4B93-A292-3BE0D76B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C180BE-A1DC-4355-8101-CF1A026E9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69E468-DE14-424E-8DD5-2AC88D349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3BBDD6-4D53-44D9-908B-74D1D6C92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570864-472A-4816-8A7F-BF39ACC3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C6775D-02CC-4F85-A37D-987007FE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A46EAA-E31C-4F82-B732-A8D70D37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AA277D-4D65-44B0-9F72-D4E304D9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197351-00D4-4A01-9F70-3FC3E899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E0CC61-BE55-4391-B9A9-577859AD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B1AA-1BB2-487C-8B22-8BEBAD50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E36481-CD8C-4019-9679-8E5F2443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ECFB05-3AE7-4E83-828D-768FC2E7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4E4078-C623-4DAB-9999-28CF97E7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D3C7BC-AC17-45CC-BD03-2E09AD769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FF540E-AC06-4219-AC67-12BB99658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1D496-B55C-4739-8365-71B0F6CDE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FF061-5D42-4781-9C43-EBD399FE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FDA9D-582F-4DA3-9E59-985EFF22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12B4C-B714-42DD-8A09-A17A5367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E21AD-6364-43D9-A161-B1B84B39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89E4-A940-4EBB-8CA0-1FDC828C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D30FB-04EA-4FFB-9234-17F9C468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4A133-EFD3-486D-9645-1A940E64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6B372-AB5C-4EE9-B0AB-F152102C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1C989-8619-4C2A-8E88-0ABD74CD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3CC68-66DF-4A43-BFC6-CB089EB1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1B867-A991-46FF-B84C-44E62838F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B6119-71BD-47F6-AA89-292E20B67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E3D6-AAE2-458C-AF63-97B9D093C51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2D47-F3DE-4376-ACA5-3421BACAE17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89C5-A626-4DF4-91D1-8623EB2925E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AA9C-FE51-4961-A04B-6A60DD79890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6162-65AB-4B9B-B31C-171797B742D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B275-105F-4AD9-9C25-851F28D9685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A230-519A-41A8-B9D8-841685C97E2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3738-54E6-4846-8336-15785B793B7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mezk.ru/forum/file/431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999720" y="785880"/>
            <a:ext cx="664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187280" indent="-18252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omic Sans MS"/>
              </a:rPr>
              <a:t>Деревянные рожки, железные ножки - шла, ковыляла, спину гнуть заставляла.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7" descr="images"/>
          <p:cNvPicPr/>
          <p:nvPr/>
        </p:nvPicPr>
        <p:blipFill>
          <a:blip r:embed="rId1"/>
          <a:stretch/>
        </p:blipFill>
        <p:spPr>
          <a:xfrm>
            <a:off x="6300720" y="620640"/>
            <a:ext cx="2303640" cy="2160720"/>
          </a:xfrm>
          <a:prstGeom prst="rect">
            <a:avLst/>
          </a:prstGeom>
          <a:ln w="31680">
            <a:solidFill>
              <a:srgbClr val="00ff00"/>
            </a:solidFill>
            <a:miter/>
          </a:ln>
        </p:spPr>
      </p:pic>
      <p:sp>
        <p:nvSpPr>
          <p:cNvPr id="425" name="Text Box 8"/>
          <p:cNvSpPr/>
          <p:nvPr/>
        </p:nvSpPr>
        <p:spPr>
          <a:xfrm>
            <a:off x="4859280" y="292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Древнерусский пл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9" descr="default"/>
          <p:cNvPicPr/>
          <p:nvPr/>
        </p:nvPicPr>
        <p:blipFill>
          <a:blip r:embed="rId2"/>
          <a:stretch/>
        </p:blipFill>
        <p:spPr>
          <a:xfrm>
            <a:off x="785880" y="571680"/>
            <a:ext cx="3311280" cy="2158920"/>
          </a:xfrm>
          <a:prstGeom prst="rect">
            <a:avLst/>
          </a:prstGeom>
          <a:ln w="31680">
            <a:solidFill>
              <a:srgbClr val="00ff00"/>
            </a:solidFill>
            <a:miter/>
          </a:ln>
        </p:spPr>
      </p:pic>
      <p:pic>
        <p:nvPicPr>
          <p:cNvPr id="427" name="Picture 10" descr="default"/>
          <p:cNvPicPr/>
          <p:nvPr/>
        </p:nvPicPr>
        <p:blipFill>
          <a:blip r:embed="rId3"/>
          <a:stretch/>
        </p:blipFill>
        <p:spPr>
          <a:xfrm>
            <a:off x="6357960" y="3786120"/>
            <a:ext cx="2309760" cy="2000160"/>
          </a:xfrm>
          <a:prstGeom prst="rect">
            <a:avLst/>
          </a:prstGeom>
          <a:ln w="31680">
            <a:solidFill>
              <a:srgbClr val="00ff00"/>
            </a:solidFill>
            <a:miter/>
          </a:ln>
        </p:spPr>
      </p:pic>
      <p:sp>
        <p:nvSpPr>
          <p:cNvPr id="428" name="Text Box 11"/>
          <p:cNvSpPr/>
          <p:nvPr/>
        </p:nvSpPr>
        <p:spPr>
          <a:xfrm>
            <a:off x="4859280" y="6021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Современный пл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12" descr="images"/>
          <p:cNvPicPr/>
          <p:nvPr/>
        </p:nvPicPr>
        <p:blipFill>
          <a:blip r:embed="rId4"/>
          <a:stretch/>
        </p:blipFill>
        <p:spPr>
          <a:xfrm>
            <a:off x="785880" y="3714840"/>
            <a:ext cx="3311280" cy="2017800"/>
          </a:xfrm>
          <a:prstGeom prst="rect">
            <a:avLst/>
          </a:prstGeom>
          <a:ln w="31680">
            <a:solidFill>
              <a:srgbClr val="00ff00"/>
            </a:solidFill>
            <a:miter/>
          </a:ln>
        </p:spPr>
      </p:pic>
      <p:sp>
        <p:nvSpPr>
          <p:cNvPr id="430" name="Line 13"/>
          <p:cNvSpPr/>
          <p:nvPr/>
        </p:nvSpPr>
        <p:spPr>
          <a:xfrm flipV="1">
            <a:off x="6948360" y="2923920"/>
            <a:ext cx="863640" cy="36036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4"/>
          <p:cNvSpPr/>
          <p:nvPr/>
        </p:nvSpPr>
        <p:spPr>
          <a:xfrm flipH="1" flipV="1">
            <a:off x="3995640" y="5876640"/>
            <a:ext cx="1008000" cy="36036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5"/>
          <p:cNvSpPr/>
          <p:nvPr/>
        </p:nvSpPr>
        <p:spPr>
          <a:xfrm flipH="1" flipV="1">
            <a:off x="3850920" y="2852280"/>
            <a:ext cx="1081080" cy="50508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6"/>
          <p:cNvSpPr/>
          <p:nvPr/>
        </p:nvSpPr>
        <p:spPr>
          <a:xfrm flipV="1">
            <a:off x="6948360" y="5805000"/>
            <a:ext cx="863640" cy="36036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2928600" y="333360"/>
            <a:ext cx="56055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Century Schoolbook"/>
              </a:rPr>
              <a:t>    </a:t>
            </a:r>
            <a:r>
              <a:rPr b="1" lang="ru-RU" sz="2900" spc="-1" strike="noStrike">
                <a:solidFill>
                  <a:srgbClr val="c00000"/>
                </a:solidFill>
                <a:latin typeface="Comic Sans MS"/>
              </a:rPr>
              <a:t>Топо́р — инструмент, обычно с металлическим лезвием, жёстко закреплённым на рукоятке, обычно деревянной. Существует разновидность топора, называемая тесло, в которой лезвие повернуто перпендикулярно рукоятке. Топор обычно применяется в плотницком деле для разрубания или придания формы дереву, а также для сруба деревьев. </a:t>
            </a: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5" name="Picture 7" descr="топор лесоруба"/>
          <p:cNvPicPr/>
          <p:nvPr/>
        </p:nvPicPr>
        <p:blipFill>
          <a:blip r:embed="rId1"/>
          <a:stretch/>
        </p:blipFill>
        <p:spPr>
          <a:xfrm>
            <a:off x="142920" y="142920"/>
            <a:ext cx="1841400" cy="2749680"/>
          </a:xfrm>
          <a:prstGeom prst="rect">
            <a:avLst/>
          </a:prstGeom>
          <a:ln w="31680">
            <a:solidFill>
              <a:srgbClr val="00ff00"/>
            </a:solidFill>
            <a:miter/>
          </a:ln>
        </p:spPr>
      </p:pic>
      <p:pic>
        <p:nvPicPr>
          <p:cNvPr id="436" name="Picture 7" descr="плотницкий топор"/>
          <p:cNvPicPr/>
          <p:nvPr/>
        </p:nvPicPr>
        <p:blipFill>
          <a:blip r:embed="rId2"/>
          <a:stretch/>
        </p:blipFill>
        <p:spPr>
          <a:xfrm>
            <a:off x="214200" y="3500280"/>
            <a:ext cx="1838520" cy="2951280"/>
          </a:xfrm>
          <a:prstGeom prst="rect">
            <a:avLst/>
          </a:prstGeom>
          <a:ln w="3168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929120" y="928440"/>
            <a:ext cx="39290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В древности и в Средних веках топор являлся распространенным холодным оружием, как ручным, так и метательным</a:t>
            </a:r>
            <a:r>
              <a:rPr b="1" lang="ru-RU" sz="1100" spc="-1" strike="noStrike">
                <a:solidFill>
                  <a:srgbClr val="c00000"/>
                </a:solidFill>
                <a:latin typeface="Comic Sans MS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9" name="Picture 14" descr="боевой топор"/>
          <p:cNvPicPr/>
          <p:nvPr/>
        </p:nvPicPr>
        <p:blipFill>
          <a:blip r:embed="rId1"/>
          <a:stretch/>
        </p:blipFill>
        <p:spPr>
          <a:xfrm>
            <a:off x="214200" y="214200"/>
            <a:ext cx="4446720" cy="5929560"/>
          </a:xfrm>
          <a:prstGeom prst="rect">
            <a:avLst/>
          </a:prstGeom>
          <a:ln w="31680">
            <a:solidFill>
              <a:srgbClr val="00ff00"/>
            </a:solidFill>
            <a:miter/>
          </a:ln>
        </p:spPr>
      </p:pic>
      <p:pic>
        <p:nvPicPr>
          <p:cNvPr id="440" name="Picture 16" descr="боевые топоры"/>
          <p:cNvPicPr/>
          <p:nvPr/>
        </p:nvPicPr>
        <p:blipFill>
          <a:blip r:embed="rId2"/>
          <a:stretch/>
        </p:blipFill>
        <p:spPr>
          <a:xfrm>
            <a:off x="4143240" y="4143240"/>
            <a:ext cx="1989360" cy="2459160"/>
          </a:xfrm>
          <a:prstGeom prst="rect">
            <a:avLst/>
          </a:prstGeom>
          <a:ln w="3168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500040" y="1214280"/>
            <a:ext cx="8358120" cy="40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99680" y="1428840"/>
            <a:ext cx="7467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Для того, чтобы работа проходила успешно, необходимо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слушать друг друга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роявлять терпимость к иной точке зрения в ходе обсуждения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риходить к единому мнению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равильно распределять время, выделенное на выполнение задания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доказательно представлять результаты работы классу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7" name="Picture 2" descr="C:\Documents and Settings\админ1\Рабочий стол\clip_image002.jpg"/>
          <p:cNvPicPr/>
          <p:nvPr/>
        </p:nvPicPr>
        <p:blipFill>
          <a:blip r:embed="rId1"/>
          <a:stretch/>
        </p:blipFill>
        <p:spPr>
          <a:xfrm>
            <a:off x="0" y="500040"/>
            <a:ext cx="897264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Прямоугольник 3"/>
          <p:cNvSpPr/>
          <p:nvPr/>
        </p:nvSpPr>
        <p:spPr>
          <a:xfrm>
            <a:off x="1285920" y="2071800"/>
            <a:ext cx="657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omic Sans MS"/>
              </a:rPr>
              <a:t>Кочет голенаст, кланяться горазд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300" spc="-1" strike="noStrike">
                <a:solidFill>
                  <a:srgbClr val="9a3d01"/>
                </a:solidFill>
                <a:latin typeface="Century Schoolbook"/>
              </a:rPr>
              <a:t>«СОХА И ТОПОР КАК ЧУДЕСА РОССИИ»</a:t>
            </a:r>
            <a:br>
              <a:rPr sz="3200"/>
            </a:br>
            <a:endParaRPr b="0" lang="en-US" sz="5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785880"/>
            <a:ext cx="74674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4"/>
          <p:cNvSpPr/>
          <p:nvPr/>
        </p:nvSpPr>
        <p:spPr>
          <a:xfrm>
            <a:off x="1042920" y="1844640"/>
            <a:ext cx="3889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mic Sans MS"/>
              </a:rPr>
              <a:t>Известно, что много столетий, вплоть до конца XIX века в лесной зоне России соха оставалась важнейшим и универсальным орудием для обработки почвы. Это было наиболее оригинальное восточноевропейское пахотное орудие существенно отличающееся от рала и пл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5" descr="soha_02"/>
          <p:cNvPicPr/>
          <p:nvPr/>
        </p:nvPicPr>
        <p:blipFill>
          <a:blip r:embed="rId1"/>
          <a:stretch/>
        </p:blipFill>
        <p:spPr>
          <a:xfrm>
            <a:off x="5003640" y="1268280"/>
            <a:ext cx="3889440" cy="4465800"/>
          </a:xfrm>
          <a:prstGeom prst="rect">
            <a:avLst/>
          </a:prstGeom>
          <a:ln w="3168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4572000" y="1214280"/>
            <a:ext cx="4280040" cy="42148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"/>
          <p:cNvPicPr/>
          <p:nvPr/>
        </p:nvPicPr>
        <p:blipFill>
          <a:blip r:embed="rId2"/>
          <a:srcRect l="0" t="12752" r="0" b="0"/>
          <a:stretch/>
        </p:blipFill>
        <p:spPr>
          <a:xfrm>
            <a:off x="357120" y="714240"/>
            <a:ext cx="465624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4572000" y="549360"/>
            <a:ext cx="4392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1700" spc="-1" strike="noStrike">
                <a:solidFill>
                  <a:srgbClr val="c00000"/>
                </a:solidFill>
                <a:latin typeface="Comic Sans MS"/>
              </a:rPr>
              <a:t>Соха́ — пахотное орудие типа рала у русских — с широкой рабочей частью (рассохой) из дерева, оснащённой двумя железными сошниками и железной лопаткой — полицей и соединённой в верхней части с оглоблями, в которые запрягали лошадь. Главное отличие от плуга в том, что соха не переворачивала пласт земли, а лишь отваливала его в сторону. По сравнению с плугом соха требовала при пахоте меньшего тягового усилия лошади, но больших физических усилий и мастерства от пахаря. Глубина обработки почвы сохой — до 12 сантиметров. Соха использовалась для пахоты подзолистых почв в зоне хвойных и смешанных лесов, толщина плодородного слоя которых в начале XX века редко достигала 15 см</a:t>
            </a:r>
            <a:r>
              <a:rPr b="1" lang="ru-RU" sz="2200" spc="-1" strike="noStrike">
                <a:solidFill>
                  <a:srgbClr val="c0000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2" name="Picture 6" descr="soha_01"/>
          <p:cNvPicPr/>
          <p:nvPr/>
        </p:nvPicPr>
        <p:blipFill>
          <a:blip r:embed="rId1"/>
          <a:stretch/>
        </p:blipFill>
        <p:spPr>
          <a:xfrm>
            <a:off x="900000" y="1700280"/>
            <a:ext cx="3311640" cy="3960720"/>
          </a:xfrm>
          <a:prstGeom prst="rect">
            <a:avLst/>
          </a:prstGeom>
          <a:ln w="3168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5235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6" name="Picture 2" descr=""/>
          <p:cNvPicPr/>
          <p:nvPr/>
        </p:nvPicPr>
        <p:blipFill>
          <a:blip r:embed="rId1"/>
          <a:stretch/>
        </p:blipFill>
        <p:spPr>
          <a:xfrm>
            <a:off x="452520" y="500040"/>
            <a:ext cx="813888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9" name="Picture 6" descr="Картинка 2 из 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8200" y="455760"/>
            <a:ext cx="8067600" cy="59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2" name="Picture 2" descr="Земледельнические орудия труда"/>
          <p:cNvPicPr/>
          <p:nvPr/>
        </p:nvPicPr>
        <p:blipFill>
          <a:blip r:embed="rId1"/>
          <a:stretch/>
        </p:blipFill>
        <p:spPr>
          <a:xfrm>
            <a:off x="571680" y="142920"/>
            <a:ext cx="7783200" cy="4348080"/>
          </a:xfrm>
          <a:prstGeom prst="rect">
            <a:avLst/>
          </a:prstGeom>
          <a:ln w="0">
            <a:noFill/>
          </a:ln>
        </p:spPr>
      </p:pic>
      <p:sp>
        <p:nvSpPr>
          <p:cNvPr id="423" name="Прямоугольник 6"/>
          <p:cNvSpPr/>
          <p:nvPr/>
        </p:nvSpPr>
        <p:spPr>
          <a:xfrm>
            <a:off x="142920" y="5429160"/>
            <a:ext cx="878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Земледельческие орудия труда: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1. Соха; 2. Цеп; 3. Рало; 4. Палка; 5. Серп; 6. Коса; 7. Борона-сукова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4T15:34:54Z</dcterms:created>
  <dc:creator>админ</dc:creator>
  <dc:description/>
  <dc:language>en-US</dc:language>
  <cp:lastModifiedBy>админ</cp:lastModifiedBy>
  <dcterms:modified xsi:type="dcterms:W3CDTF">2015-04-26T17:14:27Z</dcterms:modified>
  <cp:revision>34</cp:revision>
  <dc:subject/>
  <dc:title>Слайд 1</dc:title>
</cp:coreProperties>
</file>