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6.wmf" ContentType="image/x-wmf"/>
  <Override PartName="/ppt/media/image46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5.jpeg" ContentType="image/jpeg"/>
  <Override PartName="/ppt/media/image10.png" ContentType="image/png"/>
  <Override PartName="/ppt/media/image13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comments/comment49.xml" ContentType="application/vnd.openxmlformats-officedocument.presentationml.comments+xml"/>
  <Override PartName="/ppt/comments/comment5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EVGENIY" initials="E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<Relationship Id="rId67" Type="http://schemas.openxmlformats.org/officeDocument/2006/relationships/commentAuthors" Target="commentAuthors.xml"/>
</Relationships>
</file>

<file path=ppt/comments/comment49.xml><?xml version="1.0" encoding="utf-8"?>
<p:cmLst xmlns:p="http://schemas.openxmlformats.org/presentationml/2006/main">
  <p:cm authorId="0" dt="2008-09-09T20:09:33.781000000" idx="1">
    <p:pos x="2963" y="24"/>
    <p:text/>
  </p:cm>
</p:cmLst>
</file>

<file path=ppt/comments/comment50.xml><?xml version="1.0" encoding="utf-8"?>
<p:cmLst xmlns:p="http://schemas.openxmlformats.org/presentationml/2006/main">
  <p:cm authorId="0" dt="2008-09-09T20:09:33.781000000" idx="2">
    <p:pos x="2963" y="2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5E9-EDF3-4527-B09F-C28D34AA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423-656A-4D33-A31F-6D3CB47F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AE6-5650-41C4-AB11-5E8EB37F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18C-57D9-4EA0-B84E-56B9CCFA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EF8-5619-4C7D-AC67-317128CE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C70-667E-4AAC-A502-18DCE27A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1C2-1A71-4464-B1BE-DFECA035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E3E-4B4A-491F-B15A-C738815A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F04-1BEE-4C45-AF46-810CFDEB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036-2B6A-42D6-B992-63257877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413-B248-4032-873B-9CEC0493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5A1-A74C-4D8E-AFCB-1FA17EB2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2D59-3532-47F8-B9A2-05E8A73EBA1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6.xml"/><Relationship Id="rId3" Type="http://schemas.openxmlformats.org/officeDocument/2006/relationships/slide" Target="slide28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" Target="slide28.xml"/><Relationship Id="rId9" Type="http://schemas.openxmlformats.org/officeDocument/2006/relationships/slide" Target="slide27.xml"/><Relationship Id="rId10" Type="http://schemas.openxmlformats.org/officeDocument/2006/relationships/slide" Target="slide28.xml"/><Relationship Id="rId11" Type="http://schemas.openxmlformats.org/officeDocument/2006/relationships/slide" Target="slide26.xml"/><Relationship Id="rId12" Type="http://schemas.openxmlformats.org/officeDocument/2006/relationships/slide" Target="slide27.xml"/><Relationship Id="rId13" Type="http://schemas.openxmlformats.org/officeDocument/2006/relationships/slide" Target="slide28.xml"/><Relationship Id="rId14" Type="http://schemas.openxmlformats.org/officeDocument/2006/relationships/slide" Target="slide28.xml"/><Relationship Id="rId15" Type="http://schemas.openxmlformats.org/officeDocument/2006/relationships/slide" Target="slide28.xml"/><Relationship Id="rId16" Type="http://schemas.openxmlformats.org/officeDocument/2006/relationships/slide" Target="slide28.xml"/><Relationship Id="rId17" Type="http://schemas.openxmlformats.org/officeDocument/2006/relationships/slide" Target="slide27.xml"/><Relationship Id="rId18" Type="http://schemas.openxmlformats.org/officeDocument/2006/relationships/slide" Target="slide28.xml"/><Relationship Id="rId19" Type="http://schemas.openxmlformats.org/officeDocument/2006/relationships/slide" Target="slide28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27.xml"/><Relationship Id="rId23" Type="http://schemas.openxmlformats.org/officeDocument/2006/relationships/slide" Target="slide28.xml"/><Relationship Id="rId2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slide" Target="slide9.xml"/><Relationship Id="rId18" Type="http://schemas.openxmlformats.org/officeDocument/2006/relationships/slide" Target="slide9.xml"/><Relationship Id="rId19" Type="http://schemas.openxmlformats.org/officeDocument/2006/relationships/slide" Target="slide10.xml"/><Relationship Id="rId20" Type="http://schemas.openxmlformats.org/officeDocument/2006/relationships/slide" Target="slide9.xml"/><Relationship Id="rId21" Type="http://schemas.openxmlformats.org/officeDocument/2006/relationships/slide" Target="slide10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Управляющая кнопка: назад 3">
            <a:hlinkClick r:id="rId2" action="ppaction://hlinksldjump"/>
          </p:cNvPr>
          <p:cNvSpPr/>
          <p:nvPr/>
        </p:nvSpPr>
        <p:spPr>
          <a:xfrm>
            <a:off x="137160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10800"/>
                </a:moveTo>
                <a:lnTo>
                  <a:pt x="18708" y="3794"/>
                </a:lnTo>
                <a:lnTo>
                  <a:pt x="18708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2fa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Fiona/love/cat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Ralf/get up/at 9o’clock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ave/play/basketbal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Kate/drink/te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Tara/drive/a big ca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She/watch/ TV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Jenny/live/in London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7010280" y="457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7162920" y="3808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7010280" y="1295280"/>
            <a:ext cx="76212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7238880" y="129528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7086600" y="1981080"/>
            <a:ext cx="685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7010280" y="2743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7086600" y="342900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7086600" y="419112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7010280" y="4952880"/>
            <a:ext cx="7621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2fa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Fiona love cats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Ralf/get up/at 9o’clock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ave/play/basketbal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Kate/drink/te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Tara/drive/a big ca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She/watch/ TV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Jenny/live/in London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7010280" y="457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7010280" y="1295280"/>
            <a:ext cx="76212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238880" y="129528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7086600" y="1981080"/>
            <a:ext cx="685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7010280" y="2743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9"/>
          <p:cNvSpPr/>
          <p:nvPr/>
        </p:nvSpPr>
        <p:spPr>
          <a:xfrm>
            <a:off x="7086600" y="342900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7086600" y="419112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1"/>
          <p:cNvSpPr/>
          <p:nvPr/>
        </p:nvSpPr>
        <p:spPr>
          <a:xfrm>
            <a:off x="7010280" y="4952880"/>
            <a:ext cx="7621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228600" y="59436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2fa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Fiona love cats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Ralf gets up at 9o’clock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ave/play/basketbal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Kate/drink/te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Tara/drive/a big ca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She/watch/ TV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Jenny/live/in London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7010280" y="457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7010280" y="1295280"/>
            <a:ext cx="76212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086600" y="1981080"/>
            <a:ext cx="685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8"/>
          <p:cNvSpPr/>
          <p:nvPr/>
        </p:nvSpPr>
        <p:spPr>
          <a:xfrm>
            <a:off x="7010280" y="2743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9"/>
          <p:cNvSpPr/>
          <p:nvPr/>
        </p:nvSpPr>
        <p:spPr>
          <a:xfrm>
            <a:off x="7086600" y="342900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7086600" y="419112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7010280" y="4952880"/>
            <a:ext cx="7621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22860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2fa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Fiona love cats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Ralf gets up at 9o’clock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Dave play basketball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Kate/drink/te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Tara/drive/a big ca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She/watch/ TV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Jenny/live/in London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7010280" y="457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7010280" y="1295280"/>
            <a:ext cx="76212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086600" y="1981080"/>
            <a:ext cx="685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7010280" y="2743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7086600" y="342900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0"/>
          <p:cNvSpPr/>
          <p:nvPr/>
        </p:nvSpPr>
        <p:spPr>
          <a:xfrm>
            <a:off x="7086600" y="419112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1"/>
          <p:cNvSpPr/>
          <p:nvPr/>
        </p:nvSpPr>
        <p:spPr>
          <a:xfrm>
            <a:off x="7010280" y="4952880"/>
            <a:ext cx="7621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304920" y="58672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6" h="21600">
                <a:moveTo>
                  <a:pt x="4772" y="10800"/>
                </a:moveTo>
                <a:lnTo>
                  <a:pt x="18785" y="3794"/>
                </a:lnTo>
                <a:lnTo>
                  <a:pt x="18785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2fa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Fiona love cats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Ralf gets up at 9o’clock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Dave play basketball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Kate doesn’t drink te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Tara/drive/a big ca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She/watch/ TV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Jenny/live/in London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7010280" y="457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7010280" y="1295280"/>
            <a:ext cx="76212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7086600" y="1981080"/>
            <a:ext cx="685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8"/>
          <p:cNvSpPr/>
          <p:nvPr/>
        </p:nvSpPr>
        <p:spPr>
          <a:xfrm>
            <a:off x="7010280" y="2743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7086600" y="342900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0"/>
          <p:cNvSpPr/>
          <p:nvPr/>
        </p:nvSpPr>
        <p:spPr>
          <a:xfrm>
            <a:off x="7086600" y="419112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7010280" y="4952880"/>
            <a:ext cx="7621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228600" y="594360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10800"/>
                </a:moveTo>
                <a:lnTo>
                  <a:pt x="19963" y="3794"/>
                </a:lnTo>
                <a:lnTo>
                  <a:pt x="19963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2fa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Fiona love cats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Ralf gets up at 9o’clock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Dave play basketball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Kate doesn’t drink te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Tara drives a big ca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She/watch/ TV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Jenny/live/in London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7010280" y="457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7010280" y="1295280"/>
            <a:ext cx="76212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7086600" y="1981080"/>
            <a:ext cx="685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7010280" y="2743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7086600" y="342900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7086600" y="419112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7010280" y="4952880"/>
            <a:ext cx="7621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152280" y="586728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1" h="21600">
                <a:moveTo>
                  <a:pt x="5754" y="10800"/>
                </a:moveTo>
                <a:lnTo>
                  <a:pt x="19767" y="3794"/>
                </a:lnTo>
                <a:lnTo>
                  <a:pt x="19767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2fa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Fiona love cats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Ralf gets up at 9o’clock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Dave play basketball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Kate doesn’t drink te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Tara drives a big ca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She doesn’t watch TV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Jenny/live/in London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7010280" y="457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7010280" y="1295280"/>
            <a:ext cx="76212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7086600" y="1981080"/>
            <a:ext cx="685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7010280" y="2743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7086600" y="342900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0"/>
          <p:cNvSpPr/>
          <p:nvPr/>
        </p:nvSpPr>
        <p:spPr>
          <a:xfrm>
            <a:off x="7086600" y="419112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1"/>
          <p:cNvSpPr/>
          <p:nvPr/>
        </p:nvSpPr>
        <p:spPr>
          <a:xfrm>
            <a:off x="7010280" y="4952880"/>
            <a:ext cx="7621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228600" y="586728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" w="21600" h="25532">
                <a:moveTo>
                  <a:pt x="3794" y="12766"/>
                </a:moveTo>
                <a:lnTo>
                  <a:pt x="17806" y="5760"/>
                </a:lnTo>
                <a:lnTo>
                  <a:pt x="17806" y="1977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2fa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Fiona love cats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Ralf gets up at 9o’clock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Dave play basketball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Kate doesn’t drink te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Tara drives a big ca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She doesn’t watch TV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oes Jenny live in London?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7010280" y="457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7010280" y="1295280"/>
            <a:ext cx="76212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7467480" y="1981080"/>
            <a:ext cx="6858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7010280" y="2743200"/>
            <a:ext cx="76212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7086600" y="342900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7086600" y="4191120"/>
            <a:ext cx="76212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1"/>
          <p:cNvSpPr/>
          <p:nvPr/>
        </p:nvSpPr>
        <p:spPr>
          <a:xfrm>
            <a:off x="7620120" y="5029200"/>
            <a:ext cx="83808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152280" y="60199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10800"/>
                </a:moveTo>
                <a:lnTo>
                  <a:pt x="21734" y="3794"/>
                </a:lnTo>
                <a:lnTo>
                  <a:pt x="21734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1944720" y="0"/>
          <a:ext cx="620856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0"/>
                    <a:ext cx="62085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1371600" y="228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6781680" y="457200"/>
            <a:ext cx="9144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3048120" y="914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600200" y="1600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6705720" y="1143000"/>
            <a:ext cx="9144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1981080" y="22860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6934320" y="1905120"/>
            <a:ext cx="5331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6781680" y="2590920"/>
            <a:ext cx="7621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58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304920"/>
          <a:ext cx="8686800" cy="63244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sent  Continu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sent  Si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N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Every  d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pl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is  play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 </a:t>
                      </a:r>
                      <a:r>
                        <a:rPr b="0" lang="en-US" sz="31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plays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wat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slee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e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g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 cl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58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304920"/>
          <a:ext cx="8686800" cy="63244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sent  Continu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sent  Si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N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Every  d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pl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is  play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 </a:t>
                      </a:r>
                      <a:r>
                        <a:rPr b="0" lang="en-US" sz="31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plays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wat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is watch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watch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slee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</a:t>
                      </a:r>
                      <a:r>
                        <a:rPr b="0" lang="en-US" sz="28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are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slee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sleep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e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is  ea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eat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g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is  go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go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 cl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are clos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 </a:t>
                      </a:r>
                      <a:r>
                        <a:rPr b="0" lang="en-US" sz="32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clo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 the  right  for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28600" y="762120"/>
          <a:ext cx="8686800" cy="5867280"/>
        </p:xfrm>
        <a:graphic>
          <a:graphicData uri="http://schemas.openxmlformats.org/drawingml/2006/table">
            <a:tbl>
              <a:tblPr/>
              <a:tblGrid>
                <a:gridCol w="5181480"/>
                <a:gridCol w="1143000"/>
                <a:gridCol w="1143000"/>
                <a:gridCol w="12193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 …  swimming  in  the  s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 …  playing   tenni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 …  writing  a  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a7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a7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a7a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a7a9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…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 eating   pizza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ea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ea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ea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eaa7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 …  running  f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d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d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d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d59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 …  sin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 …  watching 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a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1522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Управляющая кнопка: назад 4">
            <a:hlinkClick r:id="rId2" action="ppaction://hlinksldjump"/>
          </p:cNvPr>
          <p:cNvSpPr/>
          <p:nvPr/>
        </p:nvSpPr>
        <p:spPr>
          <a:xfrm>
            <a:off x="0" y="5715000"/>
            <a:ext cx="1066680" cy="966960"/>
          </a:xfrm>
          <a:custGeom>
            <a:avLst/>
            <a:gdLst>
              <a:gd name="textAreaLeft" fmla="*/ 62640 w 1066680"/>
              <a:gd name="textAreaRight" fmla="*/ 1004040 w 1066680"/>
              <a:gd name="textAreaTop" fmla="*/ 62640 h 966960"/>
              <a:gd name="textAreaBottom" fmla="*/ 904320 h 966960"/>
            </a:gdLst>
            <a:ahLst/>
            <a:rect l="textAreaLeft" t="textAreaTop" r="textAreaRight" b="textAreaBottom"/>
            <a:pathLst>
              <a:path w="23827" h="21600">
                <a:moveTo>
                  <a:pt x="0" y="0"/>
                </a:moveTo>
                <a:lnTo>
                  <a:pt x="23827" y="0"/>
                </a:lnTo>
                <a:lnTo>
                  <a:pt x="23827" y="21600"/>
                </a:lnTo>
                <a:lnTo>
                  <a:pt x="0" y="21600"/>
                </a:lnTo>
                <a:close/>
              </a:path>
              <a:path fill="lightenLess" w="23827" h="21600">
                <a:moveTo>
                  <a:pt x="0" y="0"/>
                </a:moveTo>
                <a:lnTo>
                  <a:pt x="23827" y="0"/>
                </a:lnTo>
                <a:lnTo>
                  <a:pt x="22427" y="1400"/>
                </a:lnTo>
                <a:lnTo>
                  <a:pt x="1400" y="1400"/>
                </a:lnTo>
                <a:close/>
              </a:path>
              <a:path fill="darken" w="23827" h="21600">
                <a:moveTo>
                  <a:pt x="23827" y="0"/>
                </a:moveTo>
                <a:lnTo>
                  <a:pt x="23827" y="21600"/>
                </a:lnTo>
                <a:lnTo>
                  <a:pt x="22427" y="20200"/>
                </a:lnTo>
                <a:lnTo>
                  <a:pt x="22427" y="1400"/>
                </a:lnTo>
                <a:close/>
              </a:path>
              <a:path fill="darkenLess" w="23827" h="21600">
                <a:moveTo>
                  <a:pt x="23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7" y="20200"/>
                </a:lnTo>
                <a:close/>
              </a:path>
              <a:path fill="lighten" w="23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7" h="21600">
                <a:moveTo>
                  <a:pt x="4907" y="10800"/>
                </a:moveTo>
                <a:lnTo>
                  <a:pt x="18920" y="3794"/>
                </a:lnTo>
                <a:lnTo>
                  <a:pt x="18920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 rot="10800000">
            <a:off x="457200" y="61261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-689040" y="-255600"/>
            <a:ext cx="90280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0" y="579132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  <a:path fill="darken" w="21600" h="28796">
                <a:moveTo>
                  <a:pt x="3794" y="14398"/>
                </a:moveTo>
                <a:lnTo>
                  <a:pt x="17806" y="7392"/>
                </a:lnTo>
                <a:lnTo>
                  <a:pt x="17806" y="21405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11876"/>
                </a:moveTo>
                <a:lnTo>
                  <a:pt x="17806" y="4869"/>
                </a:lnTo>
                <a:lnTo>
                  <a:pt x="17806" y="1888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11876"/>
                </a:moveTo>
                <a:lnTo>
                  <a:pt x="17806" y="4869"/>
                </a:lnTo>
                <a:lnTo>
                  <a:pt x="17806" y="1888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11876"/>
                </a:moveTo>
                <a:lnTo>
                  <a:pt x="17806" y="4869"/>
                </a:lnTo>
                <a:lnTo>
                  <a:pt x="17806" y="1888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11876"/>
                </a:moveTo>
                <a:lnTo>
                  <a:pt x="17806" y="4869"/>
                </a:lnTo>
                <a:lnTo>
                  <a:pt x="17806" y="1888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763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ay  and  write  what  the  Bells  did  last  wee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ay  and  write  what  the  Bells  did  last  wee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15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ay  and  write  what  the  Bells  did  last  wee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18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ay  and  write  what  the  Bells  did  last  wee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21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ay  and  write  what  the  Bells  did  last  wee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24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10800"/>
                </a:moveTo>
                <a:lnTo>
                  <a:pt x="19963" y="3794"/>
                </a:lnTo>
                <a:lnTo>
                  <a:pt x="19963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ay  and  write  what  the  Bells  did  last  wee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52280" y="727200"/>
          <a:ext cx="8839440" cy="6113160"/>
        </p:xfrm>
        <a:graphic>
          <a:graphicData uri="http://schemas.openxmlformats.org/drawingml/2006/table">
            <a:tbl>
              <a:tblPr/>
              <a:tblGrid>
                <a:gridCol w="4383360"/>
                <a:gridCol w="1484280"/>
                <a:gridCol w="1338120"/>
                <a:gridCol w="163368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 brother  always  … his  home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do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e  …  in  London  last 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liv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 friend  … English  last  Fr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f2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hav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f2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f2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f2fa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 …  to  the  Zoo  yester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 go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  …  at  9  o’cloc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getting 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t  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s  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3f1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 sister  …  chess  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f2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y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f2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y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f2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 play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f2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0" y="57913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6107" y="10800"/>
                </a:moveTo>
                <a:lnTo>
                  <a:pt x="20120" y="3794"/>
                </a:lnTo>
                <a:lnTo>
                  <a:pt x="20120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Управляющая кнопка: назад 5"/>
          <p:cNvSpPr/>
          <p:nvPr/>
        </p:nvSpPr>
        <p:spPr>
          <a:xfrm>
            <a:off x="0" y="5638680"/>
            <a:ext cx="1295280" cy="1219320"/>
          </a:xfrm>
          <a:custGeom>
            <a:avLst/>
            <a:gdLst>
              <a:gd name="textAreaLeft" fmla="*/ 78840 w 1295280"/>
              <a:gd name="textAreaRight" fmla="*/ 1216440 w 12952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2945" h="21600">
                <a:moveTo>
                  <a:pt x="0" y="0"/>
                </a:moveTo>
                <a:lnTo>
                  <a:pt x="22945" y="0"/>
                </a:lnTo>
                <a:lnTo>
                  <a:pt x="22945" y="21600"/>
                </a:lnTo>
                <a:lnTo>
                  <a:pt x="0" y="21600"/>
                </a:lnTo>
                <a:close/>
              </a:path>
              <a:path fill="lightenLess" w="22945" h="21600">
                <a:moveTo>
                  <a:pt x="0" y="0"/>
                </a:moveTo>
                <a:lnTo>
                  <a:pt x="22945" y="0"/>
                </a:lnTo>
                <a:lnTo>
                  <a:pt x="21545" y="1400"/>
                </a:lnTo>
                <a:lnTo>
                  <a:pt x="1400" y="1400"/>
                </a:lnTo>
                <a:close/>
              </a:path>
              <a:path fill="darken" w="22945" h="21600">
                <a:moveTo>
                  <a:pt x="22945" y="0"/>
                </a:moveTo>
                <a:lnTo>
                  <a:pt x="22945" y="21600"/>
                </a:lnTo>
                <a:lnTo>
                  <a:pt x="21545" y="20200"/>
                </a:lnTo>
                <a:lnTo>
                  <a:pt x="21545" y="1400"/>
                </a:lnTo>
                <a:close/>
              </a:path>
              <a:path fill="darkenLess" w="22945" h="21600">
                <a:moveTo>
                  <a:pt x="22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5" y="20200"/>
                </a:lnTo>
                <a:close/>
              </a:path>
              <a:path fill="lighten" w="22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5" h="21600">
                <a:moveTo>
                  <a:pt x="4466" y="10800"/>
                </a:moveTo>
                <a:lnTo>
                  <a:pt x="18479" y="3794"/>
                </a:lnTo>
                <a:lnTo>
                  <a:pt x="18479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 the verb and put it  in  the  right  form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8" descr="0000073898-preview"/>
          <p:cNvPicPr/>
          <p:nvPr/>
        </p:nvPicPr>
        <p:blipFill>
          <a:blip r:embed="rId1"/>
          <a:stretch/>
        </p:blipFill>
        <p:spPr>
          <a:xfrm>
            <a:off x="0" y="4648320"/>
            <a:ext cx="2971800" cy="220968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10"/>
          <p:cNvSpPr/>
          <p:nvPr/>
        </p:nvSpPr>
        <p:spPr>
          <a:xfrm>
            <a:off x="1143000" y="685800"/>
            <a:ext cx="5029200" cy="4343400"/>
          </a:xfrm>
          <a:prstGeom prst="wedgeRoundRectCallout">
            <a:avLst>
              <a:gd name="adj1" fmla="val -39078"/>
              <a:gd name="adj2" fmla="val 80462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828800" y="7621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1981080" y="8380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698480" y="838080"/>
            <a:ext cx="20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1371600" y="685800"/>
            <a:ext cx="45720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 Kell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...  a  birthday yesterda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 and  Jenny  ...  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 ...  and  we  ...  . Peter  ...  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colate  cakes  and  ...  f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sses  of  Cola.  We  all  …  .  I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ny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 …  you  do  yester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7467480" y="1066680"/>
            <a:ext cx="10670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 the verb and put it  in  the  right  form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8" descr="0000073898-preview"/>
          <p:cNvPicPr/>
          <p:nvPr/>
        </p:nvPicPr>
        <p:blipFill>
          <a:blip r:embed="rId1"/>
          <a:stretch/>
        </p:blipFill>
        <p:spPr>
          <a:xfrm>
            <a:off x="0" y="4648320"/>
            <a:ext cx="2971800" cy="22096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0"/>
          <p:cNvSpPr/>
          <p:nvPr/>
        </p:nvSpPr>
        <p:spPr>
          <a:xfrm>
            <a:off x="1143000" y="685800"/>
            <a:ext cx="5029200" cy="4267080"/>
          </a:xfrm>
          <a:prstGeom prst="wedgeRoundRectCallout">
            <a:avLst>
              <a:gd name="adj1" fmla="val -39078"/>
              <a:gd name="adj2" fmla="val 80462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1828800" y="7621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1981080" y="8380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1698480" y="838080"/>
            <a:ext cx="20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1219320" y="685800"/>
            <a:ext cx="480060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 Kell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 birthday yesterda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 and  Jenny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 w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laye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 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colate  cakes  and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ra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sses  of  Cola.  We  al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laughe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ny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you  do  yester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297180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24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58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58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1436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58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 the  right  form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914400"/>
          <a:ext cx="8686800" cy="5715000"/>
        </p:xfrm>
        <a:graphic>
          <a:graphicData uri="http://schemas.openxmlformats.org/drawingml/2006/table">
            <a:tbl>
              <a:tblPr/>
              <a:tblGrid>
                <a:gridCol w="4724280"/>
                <a:gridCol w="1295640"/>
                <a:gridCol w="1295280"/>
                <a:gridCol w="137160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y like ice-cream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do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do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… love footba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doe</a:t>
                      </a: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 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do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… go  to  schoo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doesn</a:t>
                      </a: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do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 speak English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do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do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… write  son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do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do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doesn’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… eats  fi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___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do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doesn’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e  help  her  mother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do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doesn’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Управляющая кнопка: назад 3">
            <a:hlinkClick r:id="rId2" action="ppaction://hlinksldjump"/>
          </p:cNvPr>
          <p:cNvSpPr/>
          <p:nvPr/>
        </p:nvSpPr>
        <p:spPr>
          <a:xfrm>
            <a:off x="1371600" y="586728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1" h="21600">
                <a:moveTo>
                  <a:pt x="5754" y="10800"/>
                </a:moveTo>
                <a:lnTo>
                  <a:pt x="19767" y="3794"/>
                </a:lnTo>
                <a:lnTo>
                  <a:pt x="19767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льцова Галина Валентиновна</cp:lastModifiedBy>
  <dcterms:modified xsi:type="dcterms:W3CDTF">2008-11-23T20:23:49Z</dcterms:modified>
  <cp:revision>1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