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comments/comment49.xml" ContentType="application/vnd.openxmlformats-officedocument.presentationml.comments+xml"/>
  <Override PartName="/ppt/comments/comment5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EVGENIY" initials="E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<Relationship Id="rId67" Type="http://schemas.openxmlformats.org/officeDocument/2006/relationships/commentAuthors" Target="commentAuthors.xml"/>
</Relationships>
</file>

<file path=ppt/comments/comment49.xml><?xml version="1.0" encoding="utf-8"?>
<p:cmLst xmlns:p="http://schemas.openxmlformats.org/presentationml/2006/main">
  <p:cm authorId="0" dt="2008-09-09T20:09:33.781000000" idx="1">
    <p:pos x="2963" y="24"/>
    <p:text/>
  </p:cm>
</p:cmLst>
</file>

<file path=ppt/comments/comment50.xml><?xml version="1.0" encoding="utf-8"?>
<p:cmLst xmlns:p="http://schemas.openxmlformats.org/presentationml/2006/main">
  <p:cm authorId="0" dt="2008-09-09T20:09:33.781000000" idx="2">
    <p:pos x="2963" y="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328-F0FD-4527-8D17-3B1A164C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039-0F4F-4B52-A3CB-8BCA13D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FD3-9093-48B9-BAF2-7F7F7C8F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632-F552-4A99-81FE-39EBC8C3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53D-9F67-4983-9347-AC0045E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4B7-CE50-44F4-ADB6-5131E5F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D43-6CAC-472B-938E-3C840F5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64D-3982-479A-A03E-11A9A89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03B-93D2-46FC-B76B-8CC773B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9B9-4984-411D-8344-4CDC804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6CE-E3E1-4B8E-87D0-A0D8240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A01-0EE0-4F0E-AABD-FE3FC79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FD5-4438-46E3-8969-980AB484EE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8.xml"/><Relationship Id="rId15" Type="http://schemas.openxmlformats.org/officeDocument/2006/relationships/slide" Target="slide28.xml"/><Relationship Id="rId16" Type="http://schemas.openxmlformats.org/officeDocument/2006/relationships/slide" Target="slide28.xml"/><Relationship Id="rId17" Type="http://schemas.openxmlformats.org/officeDocument/2006/relationships/slide" Target="slide27.xml"/><Relationship Id="rId18" Type="http://schemas.openxmlformats.org/officeDocument/2006/relationships/slide" Target="slide28.xml"/><Relationship Id="rId19" Type="http://schemas.openxmlformats.org/officeDocument/2006/relationships/slide" Target="slide28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9.xml"/><Relationship Id="rId21" Type="http://schemas.openxmlformats.org/officeDocument/2006/relationships/slide" Target="slide10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3">
            <a:hlinkClick r:id="rId2" action="ppaction://hlinksldjump"/>
          </p:cNvPr>
          <p:cNvSpPr/>
          <p:nvPr/>
        </p:nvSpPr>
        <p:spPr>
          <a:xfrm>
            <a:off x="137160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ona/love/ca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/get up/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7162920" y="3808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238880" y="12952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/get up/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238880" y="12952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5943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30492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10800"/>
                </a:moveTo>
                <a:lnTo>
                  <a:pt x="18785" y="3794"/>
                </a:lnTo>
                <a:lnTo>
                  <a:pt x="18785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228600" y="59436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52280" y="58672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5754" y="10800"/>
                </a:moveTo>
                <a:lnTo>
                  <a:pt x="19767" y="3794"/>
                </a:lnTo>
                <a:lnTo>
                  <a:pt x="19767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 doesn’t watch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3794" y="12766"/>
                </a:moveTo>
                <a:lnTo>
                  <a:pt x="17806" y="5760"/>
                </a:lnTo>
                <a:lnTo>
                  <a:pt x="17806" y="1977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 doesn’t watch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Jenny live in London?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746748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7620120" y="5029200"/>
            <a:ext cx="83808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5228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944720" y="0"/>
          <a:ext cx="62085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0"/>
                    <a:ext cx="6208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37160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781680" y="457200"/>
            <a:ext cx="9144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048120" y="914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60020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705720" y="1143000"/>
            <a:ext cx="9144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1981080" y="2286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934320" y="1905120"/>
            <a:ext cx="5331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6781680" y="2590920"/>
            <a:ext cx="762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Continu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very  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1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play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w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sl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c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Continu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very  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1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play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w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watch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watch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sl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are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slee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sleep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ea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at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go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g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c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are clos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clo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 the  right  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762120"/>
          <a:ext cx="8686800" cy="5867280"/>
        </p:xfrm>
        <a:graphic>
          <a:graphicData uri="http://schemas.openxmlformats.org/drawingml/2006/table">
            <a:tbl>
              <a:tblPr/>
              <a:tblGrid>
                <a:gridCol w="5181480"/>
                <a:gridCol w="1143000"/>
                <a:gridCol w="1143000"/>
                <a:gridCol w="1219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 …  swimming  in  the  s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playing   tenn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 …  writing  a  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eating   pizz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 …  running  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…  sin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watching 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1522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4">
            <a:hlinkClick r:id="rId2" action="ppaction://hlinksldjump"/>
          </p:cNvPr>
          <p:cNvSpPr/>
          <p:nvPr/>
        </p:nvSpPr>
        <p:spPr>
          <a:xfrm>
            <a:off x="0" y="5715000"/>
            <a:ext cx="1066680" cy="966960"/>
          </a:xfrm>
          <a:custGeom>
            <a:avLst/>
            <a:gdLst>
              <a:gd name="textAreaLeft" fmla="*/ 62640 w 1066680"/>
              <a:gd name="textAreaRight" fmla="*/ 1004040 w 1066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23827" h="21600">
                <a:moveTo>
                  <a:pt x="0" y="0"/>
                </a:moveTo>
                <a:lnTo>
                  <a:pt x="23827" y="0"/>
                </a:lnTo>
                <a:lnTo>
                  <a:pt x="23827" y="21600"/>
                </a:lnTo>
                <a:lnTo>
                  <a:pt x="0" y="21600"/>
                </a:lnTo>
                <a:close/>
              </a:path>
              <a:path fill="lightenLess" w="23827" h="21600">
                <a:moveTo>
                  <a:pt x="0" y="0"/>
                </a:moveTo>
                <a:lnTo>
                  <a:pt x="23827" y="0"/>
                </a:lnTo>
                <a:lnTo>
                  <a:pt x="22427" y="1400"/>
                </a:lnTo>
                <a:lnTo>
                  <a:pt x="1400" y="1400"/>
                </a:lnTo>
                <a:close/>
              </a:path>
              <a:path fill="darken" w="23827" h="21600">
                <a:moveTo>
                  <a:pt x="23827" y="0"/>
                </a:moveTo>
                <a:lnTo>
                  <a:pt x="23827" y="21600"/>
                </a:lnTo>
                <a:lnTo>
                  <a:pt x="22427" y="20200"/>
                </a:lnTo>
                <a:lnTo>
                  <a:pt x="22427" y="1400"/>
                </a:lnTo>
                <a:close/>
              </a:path>
              <a:path fill="darkenLess" w="23827" h="21600">
                <a:moveTo>
                  <a:pt x="2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7" y="20200"/>
                </a:lnTo>
                <a:close/>
              </a:path>
              <a:path fill="lighten" w="2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7" h="21600">
                <a:moveTo>
                  <a:pt x="4907" y="10800"/>
                </a:moveTo>
                <a:lnTo>
                  <a:pt x="18920" y="3794"/>
                </a:lnTo>
                <a:lnTo>
                  <a:pt x="189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457200" y="61261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689040" y="-255600"/>
            <a:ext cx="9028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57913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3794" y="14398"/>
                </a:moveTo>
                <a:lnTo>
                  <a:pt x="17806" y="7392"/>
                </a:lnTo>
                <a:lnTo>
                  <a:pt x="17806" y="2140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15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18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2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280" y="727200"/>
          <a:ext cx="8839440" cy="6113160"/>
        </p:xfrm>
        <a:graphic>
          <a:graphicData uri="http://schemas.openxmlformats.org/drawingml/2006/table">
            <a:tbl>
              <a:tblPr/>
              <a:tblGrid>
                <a:gridCol w="4383360"/>
                <a:gridCol w="1484280"/>
                <a:gridCol w="1338120"/>
                <a:gridCol w="163368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brother  always  … his 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do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  …  in  London  last 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liv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friend  … English  last  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hav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to  the  Zoo  yeste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 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  …  at  9  o’clo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getting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t  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s  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sister  …  chess  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pla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57913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назад 5"/>
          <p:cNvSpPr/>
          <p:nvPr/>
        </p:nvSpPr>
        <p:spPr>
          <a:xfrm>
            <a:off x="0" y="563868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5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 the verb and put it  in  the  right  for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8" descr="0000073898-preview"/>
          <p:cNvPicPr/>
          <p:nvPr/>
        </p:nvPicPr>
        <p:blipFill>
          <a:blip r:embed="rId1"/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0"/>
          <p:cNvSpPr/>
          <p:nvPr/>
        </p:nvSpPr>
        <p:spPr>
          <a:xfrm>
            <a:off x="1143000" y="685800"/>
            <a:ext cx="5029200" cy="4343400"/>
          </a:xfrm>
          <a:prstGeom prst="wedgeRoundRectCallout">
            <a:avLst>
              <a:gd name="adj1" fmla="val -39078"/>
              <a:gd name="adj2" fmla="val 80462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828800" y="762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981080" y="838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698480" y="838080"/>
            <a:ext cx="2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1371600" y="685800"/>
            <a:ext cx="4572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 K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...  a  birthday yesterda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nd  Jenny  ... 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 ...  and  we  ...  . Peter  ... 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 cakes  and  ...  f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ses  of  Cola.  We  all  …  .  I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n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 …  you  do  yeste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7467480" y="1066680"/>
            <a:ext cx="1067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 the verb and put it  in  the  right  for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0000073898-preview"/>
          <p:cNvPicPr/>
          <p:nvPr/>
        </p:nvPicPr>
        <p:blipFill>
          <a:blip r:embed="rId1"/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1143000" y="685800"/>
            <a:ext cx="5029200" cy="4267080"/>
          </a:xfrm>
          <a:prstGeom prst="wedgeRoundRectCallout">
            <a:avLst>
              <a:gd name="adj1" fmla="val -39078"/>
              <a:gd name="adj2" fmla="val 80462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1828800" y="762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1981080" y="838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698480" y="838080"/>
            <a:ext cx="2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219320" y="685800"/>
            <a:ext cx="480060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 K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 birthday yesterda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nd  Jenny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 w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e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 cakes  and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ses  of  Cola.  We  al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laughe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n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you  do  yeste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297180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436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 the  right  form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914400"/>
          <a:ext cx="8686800" cy="5715000"/>
        </p:xfrm>
        <a:graphic>
          <a:graphicData uri="http://schemas.openxmlformats.org/drawingml/2006/table">
            <a:tbl>
              <a:tblPr/>
              <a:tblGrid>
                <a:gridCol w="4724280"/>
                <a:gridCol w="1295640"/>
                <a:gridCol w="1295280"/>
                <a:gridCol w="137160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y like ice-cream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… love foo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doe</a:t>
                      </a: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 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… go  to  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doesn</a:t>
                      </a: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 speak English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… write  so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… eats  fi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__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  help  her  mother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Управляющая кнопка: назад 3">
            <a:hlinkClick r:id="rId2" action="ppaction://hlinksldjump"/>
          </p:cNvPr>
          <p:cNvSpPr/>
          <p:nvPr/>
        </p:nvSpPr>
        <p:spPr>
          <a:xfrm>
            <a:off x="1371600" y="58672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5754" y="10800"/>
                </a:moveTo>
                <a:lnTo>
                  <a:pt x="19767" y="3794"/>
                </a:lnTo>
                <a:lnTo>
                  <a:pt x="19767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ьцова Галина Валентиновна</cp:lastModifiedBy>
  <dcterms:modified xsi:type="dcterms:W3CDTF">2008-11-23T20:23:49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