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E337-2275-465A-A24A-CA756340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6DFA-1F1A-4C3E-9577-ADE809E0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F657-7CD6-416F-94D0-0E1EFF83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F1C2-6353-49B4-B80C-4EEEC19B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6E6C-EA84-4B92-8DED-9BAA593A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8CB8-EE22-417F-97FD-C43597DC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B9D1-46F3-44F4-ACDC-B604C8EA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0AA6-7A9B-4002-B1EA-9AA26B71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398C-75B2-439F-A377-F0A76DEE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F4D5-C437-4A09-B061-EBF67E16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ECA5-F944-41A1-B5EA-F391B999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E5CF-DD66-42D0-AC2D-9FD0D1ED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3DE0-1409-4D41-90E8-C7F138A1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3234-16C2-4770-B610-8D349384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E07A-99EA-40ED-BB4A-71440954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97F6-C925-4FF3-9BC5-3E72696E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90E3-042A-4BC9-B7F2-9919B0E2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920B-C700-4A62-BBC4-FB04D6E5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FEE8-9F04-4A68-A5E3-0F1FC552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E6C5-2447-40D9-8B1D-A15C1A65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008F-B073-4A2A-9C31-9725AB54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CBCD-3F53-4A90-8CCD-3509EBF5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221-55B9-460E-967A-3B9E971C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29CA-E4D7-4768-B0E4-8A6B78E3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BFC8-29FA-43C4-A628-8D80FAC960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F027-134A-4FEB-BC93-037187A6EABF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99"/>
                </a:solidFill>
                <a:latin typeface="Tahoma"/>
              </a:rPr>
              <a:t>Царь-колокол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600" y="4648320"/>
            <a:ext cx="50292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еник 5 клас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еонтьев Н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итель Куракина И.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5" descr="i?id=20829569-13-72&amp;n=21"/>
          <p:cNvPicPr/>
          <p:nvPr/>
        </p:nvPicPr>
        <p:blipFill>
          <a:blip r:embed="rId1"/>
          <a:stretch/>
        </p:blipFill>
        <p:spPr>
          <a:xfrm>
            <a:off x="685800" y="3352680"/>
            <a:ext cx="205740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з истор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666120" cy="31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Царь-колокол – Памятник  русского литейного искусства 18 века. Отлит русскими мастерами братьями Маториными на Пушечном дворе по указу императрицы Анны Иоанновны. Высота колокола с ушками составляет 6,24 м, диаметр — 6,6 м, масса около 200 тонн</a:t>
            </a:r>
            <a:r>
              <a:rPr b="0" lang="ru-RU" sz="2800" spc="-1" strike="noStrike">
                <a:solidFill>
                  <a:srgbClr val="cc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10" descr="i?id=294580662-63-72&amp;n=21"/>
          <p:cNvPicPr/>
          <p:nvPr/>
        </p:nvPicPr>
        <p:blipFill>
          <a:blip r:embed="rId1"/>
          <a:stretch/>
        </p:blipFill>
        <p:spPr>
          <a:xfrm>
            <a:off x="7400880" y="4343400"/>
            <a:ext cx="174312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294920" y="990720"/>
            <a:ext cx="4876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ahoma"/>
              </a:rPr>
              <a:t>Отлили этот колокол наши русские мастера - Иван Федорович Моторин и его сын Михаил. Однако этому колоколу не суждено было звонить. Потому что когда Царь-колокол находился в литейной яме, деревянный сарай над ямой загорелся во время пожара. Народ сбежался спасать колокол. Боясь, чтобы он не расплавился, стали заливать колокол водой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11" descr="i?id=393066252-34-72&amp;n=21"/>
          <p:cNvPicPr/>
          <p:nvPr/>
        </p:nvPicPr>
        <p:blipFill>
          <a:blip r:embed="rId1"/>
          <a:stretch/>
        </p:blipFill>
        <p:spPr>
          <a:xfrm>
            <a:off x="6095880" y="2057400"/>
            <a:ext cx="2819520" cy="2249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9144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Tahoma"/>
              </a:rPr>
              <a:t>Колокол был спасен, но у него откололся край. Пробыв в земле 103 года, его подняли на поверхность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Tahoma"/>
              </a:rPr>
              <a:t>И теперь "Царь-колокол" находится в Кремле - никогда не звонивший памятник колокольного искусства. Вес его 204 тонны, высота 6 метров. В центре его мы видим изображение мужчины и женщины. Над ними лица "святых"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7" descr="i?id=73255992-06-72&amp;n=21"/>
          <p:cNvPicPr/>
          <p:nvPr/>
        </p:nvPicPr>
        <p:blipFill>
          <a:blip r:embed="rId1"/>
          <a:stretch/>
        </p:blipFill>
        <p:spPr>
          <a:xfrm>
            <a:off x="6172200" y="462924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юбопытные фак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) Царь-колокол изображен на тысячерублевых белогвардейских купюрах, выпускавшихся генералом Деникиным в Крыму во время Гражданской войны. Деньги, которые обесценились почти мгновенно и не имевшие практически никакой покупательной способности, в народе прозвали "колокольчиками"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. Большой Успенский колокол не звонил и не будет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сколько раз поднимался вопрос о том, чтобы спаять Царь-колокол и использовать его по прямому назначению. Однако эксперты утверждают, что получить чистое звучание после спайки не получится. Кстати, для Царь-колокола не изготавливали язык, а тот, что лежит на постаменте, взяли от другого, неизвестного колокол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09320" y="2133360"/>
            <a:ext cx="6172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14" name="Picture 7" descr="i?id=427780768-21-72&amp;n=21"/>
          <p:cNvPicPr/>
          <p:nvPr/>
        </p:nvPicPr>
        <p:blipFill>
          <a:blip r:embed="rId1"/>
          <a:stretch/>
        </p:blipFill>
        <p:spPr>
          <a:xfrm>
            <a:off x="304920" y="1219320"/>
            <a:ext cx="2928960" cy="2361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i?id=262377482-48-72&amp;n=21"/>
          <p:cNvPicPr/>
          <p:nvPr/>
        </p:nvPicPr>
        <p:blipFill>
          <a:blip r:embed="rId2"/>
          <a:stretch/>
        </p:blipFill>
        <p:spPr>
          <a:xfrm>
            <a:off x="3505320" y="533520"/>
            <a:ext cx="2336760" cy="3504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i?id=393066252-34-72&amp;n=21"/>
          <p:cNvPicPr/>
          <p:nvPr/>
        </p:nvPicPr>
        <p:blipFill>
          <a:blip r:embed="rId3"/>
          <a:stretch/>
        </p:blipFill>
        <p:spPr>
          <a:xfrm>
            <a:off x="1371600" y="4114800"/>
            <a:ext cx="2819520" cy="2249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i?id=60173085-21-72&amp;n=21"/>
          <p:cNvPicPr/>
          <p:nvPr/>
        </p:nvPicPr>
        <p:blipFill>
          <a:blip r:embed="rId4"/>
          <a:stretch/>
        </p:blipFill>
        <p:spPr>
          <a:xfrm>
            <a:off x="5791320" y="3808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i?id=153195163-41-72&amp;n=21"/>
          <p:cNvPicPr/>
          <p:nvPr/>
        </p:nvPicPr>
        <p:blipFill>
          <a:blip r:embed="rId5"/>
          <a:stretch/>
        </p:blipFill>
        <p:spPr>
          <a:xfrm>
            <a:off x="5105520" y="4114800"/>
            <a:ext cx="3771720" cy="2481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762120" y="2362320"/>
            <a:ext cx="754380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6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838080" y="5334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.S.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сточник:  http://www.nat-geo.ru/article/4119-kolokola-10-interesnyih-faktov/#ixzz3WGYIGz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7T17:45:45Z</dcterms:created>
  <dc:creator>ирина</dc:creator>
  <dc:description/>
  <dc:language>en-US</dc:language>
  <cp:lastModifiedBy>Egor</cp:lastModifiedBy>
  <dcterms:modified xsi:type="dcterms:W3CDTF">2015-04-08T13:26:4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