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B1E-6CBA-4B4D-8EC1-7D30AA53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D03-0159-49C5-A698-B53A0A06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4CC-1FE3-4654-A433-AE5C1185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839-6F26-4C7A-9587-C3BD8A09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E2C9-35AD-4EAE-A317-F84207F8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07C9-6010-442F-98F1-B6157BA5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995C-EE45-4C66-AD80-2132CED6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2DF3-89B9-4536-9BD2-46520850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C2EF-B2A7-4E94-9B3D-7B00EA71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8422-49ED-4696-91FE-6F78DFFB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CA96-4BA3-4D82-97CE-448F457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5AA-3AAA-44BC-9948-3BED7774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E3A0-1D26-455C-B6B9-5ED003B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86CA-6AFB-43C9-9648-65D7D996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9CEC-0D8C-41C1-B69E-D64EE60D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5B07-07E9-44FD-A110-5F029687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3677-5621-48FC-B52D-FCC4C2DA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EC11-1D0F-438D-A7A1-98ECF898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579-BC57-4192-B818-38DDFD37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C37-F94B-4E89-BA4F-68D5A0F5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B6C-BB33-4BD2-837C-C8B78120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A84-A8D3-4BD9-BFCC-26544B2A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2FF-9A41-4624-8128-81DF4579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2F1-3CB0-4E8F-9394-1166A44C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C898-3FA8-457F-9B91-5C8374F7E6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EA46-C608-4754-A1C7-8AE9987404E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Tahoma"/>
              </a:rPr>
              <a:t>Царь-колокол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600" y="4648320"/>
            <a:ext cx="5029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еник 5 кла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онтьев 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Куракина И.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i?id=20829569-13-72&amp;n=21"/>
          <p:cNvPicPr/>
          <p:nvPr/>
        </p:nvPicPr>
        <p:blipFill>
          <a:blip r:embed="rId1"/>
          <a:stretch/>
        </p:blipFill>
        <p:spPr>
          <a:xfrm>
            <a:off x="685800" y="3352680"/>
            <a:ext cx="20574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 истор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666120" cy="31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Царь-колокол – Памятник  русского литейного искусства 18 века. Отлит русскими мастерами братьями Маториными на Пушечном дворе по указу императрицы Анны Иоанновны. Высота колокола с ушками составляет 6,24 м, диаметр — 6,6 м, масса около 200 тонн</a:t>
            </a:r>
            <a:r>
              <a:rPr b="0" lang="ru-RU" sz="28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10" descr="i?id=294580662-63-72&amp;n=21"/>
          <p:cNvPicPr/>
          <p:nvPr/>
        </p:nvPicPr>
        <p:blipFill>
          <a:blip r:embed="rId1"/>
          <a:stretch/>
        </p:blipFill>
        <p:spPr>
          <a:xfrm>
            <a:off x="7400880" y="4343400"/>
            <a:ext cx="174312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94920" y="9907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</a:rPr>
              <a:t>Отлили этот колокол наши русские мастера - Иван Федорович Моторин и его сын Михаил. Однако этому колоколу не суждено было звонить. Потому что когда Царь-колокол находился в литейной яме, деревянный сарай над ямой загорелся во время пожара. Народ сбежался спасать колокол. Боясь, чтобы он не расплавился, стали заливать колокол водо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11" descr="i?id=393066252-34-72&amp;n=21"/>
          <p:cNvPicPr/>
          <p:nvPr/>
        </p:nvPicPr>
        <p:blipFill>
          <a:blip r:embed="rId1"/>
          <a:stretch/>
        </p:blipFill>
        <p:spPr>
          <a:xfrm>
            <a:off x="6095880" y="2057400"/>
            <a:ext cx="2819520" cy="2249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914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Tahoma"/>
              </a:rPr>
              <a:t>Колокол был спасен, но у него откололся край. Пробыв в земле 103 года, его подняли на поверхност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Tahoma"/>
              </a:rPr>
              <a:t>И теперь "Царь-колокол" находится в Кремле - никогда не звонивший памятник колокольного искусства. Вес его 204 тонны, высота 6 метров. В центре его мы видим изображение мужчины и женщины. Над ними лица "святых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i?id=73255992-06-72&amp;n=21"/>
          <p:cNvPicPr/>
          <p:nvPr/>
        </p:nvPicPr>
        <p:blipFill>
          <a:blip r:embed="rId1"/>
          <a:stretch/>
        </p:blipFill>
        <p:spPr>
          <a:xfrm>
            <a:off x="6172200" y="46292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юбопытные ф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Царь-колокол изображен на тысячерублевых белогвардейских купюрах, выпускавшихся генералом Деникиным в Крыму во время Гражданской войны. Деньги, которые обесценились почти мгновенно и не имевшие практически никакой покупательной способности, в народе прозвали "колокольчиками"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. Большой Успенский колокол не звонил и не будет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сколько раз поднимался вопрос о том, чтобы спаять Царь-колокол и использовать его по прямому назначению. Однако эксперты утверждают, что получить чистое звучание после спайки не получится. Кстати, для Царь-колокола не изготавливали язык, а тот, что лежит на постаменте, взяли от другого, неизвестного колокол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09320" y="21333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14" name="Picture 7" descr="i?id=427780768-21-72&amp;n=21"/>
          <p:cNvPicPr/>
          <p:nvPr/>
        </p:nvPicPr>
        <p:blipFill>
          <a:blip r:embed="rId1"/>
          <a:stretch/>
        </p:blipFill>
        <p:spPr>
          <a:xfrm>
            <a:off x="304920" y="1219320"/>
            <a:ext cx="2928960" cy="2361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i?id=262377482-48-72&amp;n=21"/>
          <p:cNvPicPr/>
          <p:nvPr/>
        </p:nvPicPr>
        <p:blipFill>
          <a:blip r:embed="rId2"/>
          <a:stretch/>
        </p:blipFill>
        <p:spPr>
          <a:xfrm>
            <a:off x="3505320" y="533520"/>
            <a:ext cx="2336760" cy="3504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i?id=393066252-34-72&amp;n=21"/>
          <p:cNvPicPr/>
          <p:nvPr/>
        </p:nvPicPr>
        <p:blipFill>
          <a:blip r:embed="rId3"/>
          <a:stretch/>
        </p:blipFill>
        <p:spPr>
          <a:xfrm>
            <a:off x="1371600" y="4114800"/>
            <a:ext cx="2819520" cy="224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i?id=60173085-21-72&amp;n=21"/>
          <p:cNvPicPr/>
          <p:nvPr/>
        </p:nvPicPr>
        <p:blipFill>
          <a:blip r:embed="rId4"/>
          <a:stretch/>
        </p:blipFill>
        <p:spPr>
          <a:xfrm>
            <a:off x="5791320" y="380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i?id=153195163-41-72&amp;n=21"/>
          <p:cNvPicPr/>
          <p:nvPr/>
        </p:nvPicPr>
        <p:blipFill>
          <a:blip r:embed="rId5"/>
          <a:stretch/>
        </p:blipFill>
        <p:spPr>
          <a:xfrm>
            <a:off x="5105520" y="4114800"/>
            <a:ext cx="377172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762120" y="2362320"/>
            <a:ext cx="754380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83808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.S.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точник:  http://www.nat-geo.ru/article/4119-kolokola-10-interesnyih-faktov/#ixzz3WGYIGz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7T17:45:45Z</dcterms:created>
  <dc:creator>ирина</dc:creator>
  <dc:description/>
  <dc:language>en-US</dc:language>
  <cp:lastModifiedBy>Egor</cp:lastModifiedBy>
  <dcterms:modified xsi:type="dcterms:W3CDTF">2015-04-08T13:26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