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6F0F-2402-424F-B8F3-971D02A7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7D97-4955-4649-B783-DA1DC8CE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ED4F1E-BE08-4EB5-BF9B-DC1E581E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4E4971-FBEF-42E9-B893-D81EACF7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B0F7BD-C66F-4844-9258-043697D3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DF3FDF-89A2-43E9-A8F0-C34A4477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A430EF-2E50-482D-A283-72773534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CD4361-ED14-4012-A92F-B6FAE843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74BA7E-2DB2-435B-B02E-3A7F4AA7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D74B5F-56C6-4C1A-A15C-48120233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175DE8-ABB6-4EA6-815F-F4A8163B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BE9F9E-FAAC-49A4-A646-DA93DCE1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7C41-AC58-4F7F-B7B0-377A4032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E22ABA-EC8F-4DE5-8469-6BFFE112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429875-A58F-4319-9F4B-7C8740D2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E6DD02-589B-4E5A-B348-D7BC7A80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D0C0F2-5B79-4264-A328-1A6C48D1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AB7A55-2B49-4EFC-9F39-0B1AFBE9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8CC99E-036B-4BE5-81D3-9F52A555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FAF5F4-2571-403F-B5AB-0562F97A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E00384-E370-43C8-9A03-605FFFC9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A6085F-1DF5-4BEE-A782-E09698D9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129461-E88A-405F-9DAD-C92BF07D9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C72-85EA-44E3-BB99-A83F0CBA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209141-0B4A-4D67-8B84-D28D449C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4904C-5BED-4AF5-B105-73637EDD10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77FFA-3640-4739-92D5-458607339F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3F621-B46E-4828-9BCB-25434350B7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BAD66-3C77-4C46-97AF-D80D807F16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14342-6332-414E-A566-BF5CA8DF1E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1A887-4C32-44FF-9D68-DBD626C1AD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C409E-AEA3-4234-9C13-FA794C275C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2AE5-9835-4742-8659-8D3701EB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DC61D-1328-4E57-AE67-22F18E9258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AC434-9A4C-4241-AF47-8F84F78D97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F209A-1473-4B84-9BDA-DC79CB3E0F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AF829-1D20-49A3-848B-3890D218DF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F39DC-EE97-42CF-91B7-DA9F36A98C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DF7FD-4A18-41CE-BD4D-39442AAF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8BF36-4DBA-47F5-AE25-3212A4CE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B77BB-24ED-4D57-A6F5-4AE51884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335E9-9935-490E-B769-5BBD73AD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F945F-2655-4D29-969F-FCCC754E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5CFA-723F-456C-B784-594B1094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029645-CDE0-4C23-8490-2F01E70B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C7C8EA-B5DF-4FFF-B611-431E8C26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E5FE7C-7693-4CCF-A9D9-1E3CF406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5A64D-A211-4ADA-8B7D-308193E7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2F3D3-3F87-4777-B058-D5E68036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38A7AA-3B02-475F-95EF-1E4DB411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A15AC-A207-4A5D-B81E-9C553422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94F31C-A71B-47D0-934D-25FD5BB9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14FAEB-E817-453D-ABE1-623EFF73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B8AD63-AF05-4F5E-A8E2-EADA3CAD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1B15-5011-4E2C-AE3A-9C8872F1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FA8433-139D-4850-BD7D-65101518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4DBF7C-20B2-4161-B4A9-8383040C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0D3A65-5324-4E50-B574-9064D001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ABB1DA-90CA-4EC3-8971-B7749CF6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88C65D-0236-4219-B5EB-E85C3B5E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BC38C7-711D-4B31-96AF-AE26E918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E7AE6B-B97C-4A01-A8CA-2E1F6DCB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13CD70-BEB8-48B6-B730-16182FDC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05034A-992D-43A2-B494-BFBBE570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0B0A80-10B5-4118-8565-8265AE7B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8C1F-FD2E-4B3A-A8E3-00065AC9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2C4FFD-CC10-415F-9E99-6F6CC187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A0D5C3-2584-4611-9519-F816A84F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F8B094-9302-4F97-BBB4-327991AE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81C323-29B2-4DD2-A93B-48145978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BE9880-7B8B-45F2-A3EC-C7D98C9C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56FB3D-A8A3-4B71-A556-896C5F17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97F2E2-C6F4-4D85-A113-1C133F9F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09D09A-26C7-4B07-9E85-457144E8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A71FB4-F8B8-4ACD-B12F-55BE4CCA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4833A5-5A11-4863-9A59-120D4A27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3194-42AA-4217-B913-A132392C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DE3935-8538-411D-92EF-05A67D7A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8E7DC0-8DAE-4AB1-AC0A-FC995A43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21F9EC-AE94-418B-980D-20979107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34A495-CEA8-47E0-8BF0-F7BD0940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269DCA-20D9-42EC-BB6A-E9E74DF0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AA4616-00F0-43CD-A79E-85EB8CC3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0937B4-D548-4D3B-8477-D08BA36C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124821-115A-4253-907B-F785759E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F905AA-AEA1-4848-9127-1AA35B70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52E427-023F-4ED6-A496-B6D802D5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35E-E58F-4EB5-8755-4C474ED3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E5E756-F40F-4815-B194-62F086BE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9A57D8-1E5B-43E0-9CE5-C485D612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2AD45E-5A48-46B2-96CC-51533BFC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5937CC-DF7D-4BFA-AC62-6ACB49D7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71033C-5475-4461-8F47-DE81B89D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23C50C-DB1D-453E-98A2-CE953C4A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3DE1F7-E5F2-4FCF-8E45-56FB0E02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20F407-FE74-4029-B4F0-B472F0B4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2F9AAE-9615-4BF5-ABA5-E24EB273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B332A7-A83C-4BCC-A4D7-F40C6C60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F4C-B781-42F5-8F4D-BE181A5D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3D2FF8-5924-4B00-958D-3415997B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E1301D-7C72-4AFA-9973-6567ADB1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7A0DFD-2352-4CFE-861A-407CA9C9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B9BBDE-7C25-41DC-A140-74B67ED7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E18738-A13E-4208-A2F3-042054BF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D5C99A-FCC3-4453-A744-402E34F1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E23CDA-0E6B-40F0-97E6-65C397AB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F553F4-F471-4A06-9C8D-C64FE173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127BF1-9B27-44A4-9F34-A0C98B27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E56581-B9A6-4C2C-8068-769D4123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F0B0-B2F5-4E3F-930E-BEDA725F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6BB00E-38B2-481A-BE6E-3EBF8783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11C3B0-AFAF-4F2D-A3A7-A00D78A2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9DD9C7-8D2A-497C-8B3D-C94DA346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D5465D-1BB0-4E2E-AC60-648B42E4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BF855B-71AA-42E3-9601-A3B368F3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65E68D-E65F-44FD-98E2-C9B027AD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1BBF72-95AD-4B2C-A918-85EBB935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704160-8158-4885-934D-2FB8B951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F18B76-F912-4C61-BD8B-CBC9E239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729D01-79E2-4C67-A0AB-69E81B77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EA62-AE32-469C-9506-987DD48A92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C:\Documents and Settings\Admin\Рабочий стол\для шаблонов\прозр2.gif"/>
          <p:cNvPicPr/>
          <p:nvPr/>
        </p:nvPicPr>
        <p:blipFill>
          <a:blip r:embed="rId5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A9D3-0286-4A46-A362-416FEB8633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Admin\Рабочий стол\для шаблонов\ввсс.gif"/>
          <p:cNvPicPr/>
          <p:nvPr/>
        </p:nvPicPr>
        <p:blipFill>
          <a:blip r:embed="rId5"/>
          <a:stretch/>
        </p:blipFill>
        <p:spPr>
          <a:xfrm>
            <a:off x="857160" y="1357200"/>
            <a:ext cx="7400880" cy="3892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Documents and Settings\Admin\Рабочий стол\угадай\Зелёный.gif"/>
          <p:cNvPicPr/>
          <p:nvPr/>
        </p:nvPicPr>
        <p:blipFill>
          <a:blip r:embed="rId6"/>
          <a:stretch/>
        </p:blipFill>
        <p:spPr>
          <a:xfrm>
            <a:off x="357120" y="6630840"/>
            <a:ext cx="1067040" cy="22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Admin\Рабочий стол\для шаблонов\Копия прозр.gif"/>
          <p:cNvPicPr/>
          <p:nvPr/>
        </p:nvPicPr>
        <p:blipFill>
          <a:blip r:embed="rId9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Admin\Рабочий стол\для шаблонов\прозр2.gif"/>
          <p:cNvPicPr/>
          <p:nvPr/>
        </p:nvPicPr>
        <p:blipFill>
          <a:blip r:embed="rId10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DEFA-E50D-45FB-89E2-80F6B2DF0B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Documents and Settings\Admin\Рабочий стол\для шаблонов\прозр2.gif"/>
          <p:cNvPicPr/>
          <p:nvPr/>
        </p:nvPicPr>
        <p:blipFill>
          <a:blip r:embed="rId7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6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5F28-C5F8-4607-97E7-2C2006E885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9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4226-0509-4FFD-9AEF-C5396E375A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2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6E10-FA36-4A80-8217-CEFED3A09B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5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A192-3F0B-48A8-9B7E-618B231569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E1A9-7438-4E18-95DA-35369B3AF0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D537-8B97-45FA-8387-5622865E88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4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E310-6B36-4733-AF6B-97AE075CF9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55640" y="2491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есенний перезв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5229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МБДОУ детский сад № 21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пакова Тамара Геннадь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Bookman Old Style"/>
              </a:rPr>
              <a:t>Вот и пришла весн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520200" y="1492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урчат ручьи, звенит капель, распускаются первоцветы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асота! Природа ожив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т и птичьи трели говорят нам о приходе весн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7" descr=""/>
          <p:cNvPicPr/>
          <p:nvPr/>
        </p:nvPicPr>
        <p:blipFill>
          <a:blip r:embed="rId1"/>
          <a:stretch/>
        </p:blipFill>
        <p:spPr>
          <a:xfrm>
            <a:off x="533520" y="1484280"/>
            <a:ext cx="3414600" cy="24494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9" descr="Московский район г.Чебоксары &quot; Новости &quot; В АУ &quot;Центр внешкольной работы &quot;Эткер&quot; подведены итоги конкурса &quot;Пришла весна, прилетел"/>
          <p:cNvPicPr/>
          <p:nvPr/>
        </p:nvPicPr>
        <p:blipFill>
          <a:blip r:embed="rId2"/>
          <a:stretch/>
        </p:blipFill>
        <p:spPr>
          <a:xfrm>
            <a:off x="1762200" y="4151160"/>
            <a:ext cx="3193920" cy="23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вайте познакомимся с птицами, которые улетают на зиму в тёплые края. Весной они вновь возвращаются к нам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перелётны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птицы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4" descr="Картинка 208 из 20067"/>
          <p:cNvPicPr/>
          <p:nvPr/>
        </p:nvPicPr>
        <p:blipFill>
          <a:blip r:embed="rId1"/>
          <a:stretch/>
        </p:blipFill>
        <p:spPr>
          <a:xfrm rot="19691400">
            <a:off x="324000" y="3141720"/>
            <a:ext cx="2519280" cy="13683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Картинка 215 из 1305"/>
          <p:cNvPicPr/>
          <p:nvPr/>
        </p:nvPicPr>
        <p:blipFill>
          <a:blip r:embed="rId2"/>
          <a:stretch/>
        </p:blipFill>
        <p:spPr>
          <a:xfrm>
            <a:off x="2916360" y="3933720"/>
            <a:ext cx="3025800" cy="24210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Картинка 9 из 467"/>
          <p:cNvPicPr/>
          <p:nvPr/>
        </p:nvPicPr>
        <p:blipFill>
          <a:blip r:embed="rId3"/>
          <a:stretch/>
        </p:blipFill>
        <p:spPr>
          <a:xfrm>
            <a:off x="6156360" y="2276640"/>
            <a:ext cx="2754360" cy="3671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Картинка 369 из 15863"/>
          <p:cNvPicPr/>
          <p:nvPr/>
        </p:nvPicPr>
        <p:blipFill>
          <a:blip r:embed="rId4">
            <a:lum contrast="30000"/>
          </a:blip>
          <a:stretch/>
        </p:blipFill>
        <p:spPr>
          <a:xfrm rot="20234400">
            <a:off x="3059280" y="1196640"/>
            <a:ext cx="2579400" cy="26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Сквор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Picture 2" descr="Картинка 2 из 5396"/>
          <p:cNvPicPr/>
          <p:nvPr/>
        </p:nvPicPr>
        <p:blipFill>
          <a:blip r:embed="rId1"/>
          <a:stretch/>
        </p:blipFill>
        <p:spPr>
          <a:xfrm>
            <a:off x="684360" y="227664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00360" y="233208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кворец за морем жил зимо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еперь вернулся он дом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 рано утром в тиш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ет о солнце, о вес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Солов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ловья прекрасно пень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этом равных ему н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 давних пор его умень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ражает белый св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сни звук его прекрас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арит летом радость на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очью звездной, в вечер ясны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 на зорьке по утра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ловей коль разойдется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унять ничем певц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сня звонко его льетс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ам, где в роще деревца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Рисунок 18" descr="http://www.greenmama.ru/dn_images/01/59/48/37/1273036350solovei.jpg"/>
          <p:cNvPicPr/>
          <p:nvPr/>
        </p:nvPicPr>
        <p:blipFill>
          <a:blip r:embed="rId1"/>
          <a:stretch/>
        </p:blipFill>
        <p:spPr>
          <a:xfrm>
            <a:off x="4932360" y="1700280"/>
            <a:ext cx="3414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Жаворо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69920" y="2332080"/>
            <a:ext cx="447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Над родимою сторонко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Ярко вспыхнул краснотал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В небе жаворонок звонки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Зазвенел, затрепетал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Прилетает он в апрел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Из далёких жарких стран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И разбрызгивает трел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В синем небе, как фонтан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Picture 2" descr="Картинка 21 из 4874"/>
          <p:cNvPicPr/>
          <p:nvPr/>
        </p:nvPicPr>
        <p:blipFill>
          <a:blip r:embed="rId1"/>
          <a:stretch/>
        </p:blipFill>
        <p:spPr>
          <a:xfrm>
            <a:off x="684360" y="22050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Ласто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игревает жарко солнц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 дворе журчат ручь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 у нашего оконц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айка ласточек кричи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длетели… Тише, тише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 криком вьются у крыльц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ласточки под крыше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оят гнёздышки птенца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коро пёстрые яич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удут в гнёздышках лежа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гревать их станут птич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алых деток поджидать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4" descr="Картинка 19 из 15703"/>
          <p:cNvPicPr/>
          <p:nvPr/>
        </p:nvPicPr>
        <p:blipFill>
          <a:blip r:embed="rId1"/>
          <a:stretch/>
        </p:blipFill>
        <p:spPr>
          <a:xfrm>
            <a:off x="4716360" y="2133720"/>
            <a:ext cx="3888000" cy="28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Зябл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284720" y="2133720"/>
            <a:ext cx="4680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шь утро в саду настаё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Ещё не проснувшись, я слышу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Hа ветке, то громче, то тиш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ез удержу зяблик поё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Kупается в алом рассвет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ищёлкивает язычко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Kак будто бы лучшим на свет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завтракал о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рвячком!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Picture 2" descr="Картинка 9 из 1248"/>
          <p:cNvPicPr/>
          <p:nvPr/>
        </p:nvPicPr>
        <p:blipFill>
          <a:blip r:embed="rId1"/>
          <a:stretch/>
        </p:blipFill>
        <p:spPr>
          <a:xfrm>
            <a:off x="468360" y="1916280"/>
            <a:ext cx="3960720" cy="33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Журав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780000" y="256536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учейки бегут с холма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о свидания, зима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Слышишь чей-то клич вдали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К нам вернулись журавл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Рисунок 12" descr="http://lit.convdocs.org/tw_files2/urls_1/280/d-279659/279659_html_m6fec06f9.jpg"/>
          <p:cNvPicPr/>
          <p:nvPr/>
        </p:nvPicPr>
        <p:blipFill>
          <a:blip r:embed="rId1"/>
          <a:stretch/>
        </p:blipFill>
        <p:spPr>
          <a:xfrm>
            <a:off x="539640" y="2276640"/>
            <a:ext cx="4103640" cy="287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19:15:17Z</dcterms:created>
  <dc:creator>Невай</dc:creator>
  <dc:description/>
  <dc:language>en-US</dc:language>
  <cp:lastModifiedBy>Саныч</cp:lastModifiedBy>
  <dcterms:modified xsi:type="dcterms:W3CDTF">2015-04-25T22:36:48Z</dcterms:modified>
  <cp:revision>3</cp:revision>
  <dc:subject/>
  <dc:title>Презентация PowerPoint</dc:title>
</cp:coreProperties>
</file>