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231-5C08-407D-B312-06E86CC3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4D2-E80F-47B3-89C5-8E64847C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D5D55-891E-42AE-AA5A-4F826B6F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E99D0-8A57-45A9-B3B2-08E6842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6E674-18DD-4C84-BDC3-DEBFEB2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2F401-8692-4D66-AE06-8736AEF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8AD74-838D-4AB4-B8F1-85C0110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BBD1E-F6A1-4E3C-A4F7-2D22428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B4BC2E-D1ED-4A89-AA41-2FBF1336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1C812-E287-4C8F-A8A5-523E30F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843AA-2E0F-48FE-ACB9-5ECFB291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1818FB-AEB2-4653-8152-BED4C91F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950-6606-4374-86F2-9ABB8638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FAA3B4-7C92-4055-803A-913811E8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EC36B4-7BE2-4323-8614-48FC9EBA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9B280-C7FA-4E78-955F-93D29CA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4EAB3-1EFA-4E12-BEF2-D225DED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CA1FB-8BB7-43B5-8B31-CBB03C12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FB08A-EE96-489E-8CE6-15F36D1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2E20AE-3F98-4603-B048-E4F521E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57F59C-331E-40E5-B208-5B77E2F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3500E-4D28-4DAB-9850-EA87112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2C01FD-BF60-49FA-87E3-241567C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C08-13C0-4506-9598-DB4037A7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149A8-1561-4398-BC1C-48B96E1E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6620B-F2A1-4A9F-817C-1F5EF36EA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FFE2E-DFE0-49A6-9464-11E4FD6FF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BD46-D576-4B51-95CA-5E4C45EE3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A1E6A-D30E-493F-84CC-D72F14E5ED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FE4C2-C3E1-4C53-A462-A1960EE1A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64009-D831-4374-AD38-EEC526015E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B5F6-F292-4C9C-923C-7A96520DC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9F8-1CF5-48F9-B436-BEB65F13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BC884-F651-4FBC-AF0B-AE52F4760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105F6-74ED-4F4B-B8F5-018326E48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4370D-2F25-46C3-A24D-FA614251B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A36A-1C25-43C5-A0C9-D7A963DB9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18D82-8179-4613-B5E9-7FFCCBC506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DE606-2763-460C-97B7-3558C8A0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4E745-14F6-4D41-B9C1-1AFE5A0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C3223-6A68-42AA-8011-EDAF78A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D8167-E667-477B-B9ED-7AF830B6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498C6-2C0E-41D7-AD5E-E90B972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459-B40D-4176-A9B6-7C437FF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0AAB9-371A-4791-B9CA-41F78470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95EA1-FED0-44C2-9F8F-DB33000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50D25-F7BE-4F0B-AD77-DBA813D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C7C05-C5E7-493F-BE7A-40A169E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F9936-AC67-43C4-AE10-118FF358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10991-E673-4983-B0F3-B3DF2CE9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6652-AAD7-46DC-B540-EDBF8897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E0559-0C78-4264-945C-4CB1B29E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1AA7E-6B74-4D52-A1CB-E558D601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8CB80-E33E-46A4-93A2-27C4B5EE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FF6-BA34-4772-B4D5-EB8C5FE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EB14D-C0CB-4D3E-88EB-6E4F7A6D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D2A65-E5CD-4356-B98B-34A7001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7DD52-F0EE-40DA-BD64-4EBE441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C8E93-FC91-4C2F-8972-CF84B35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0325A-BCB0-4134-A15E-487EF12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3D6C7-1246-4A7F-9761-87337FC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DC0F2-C4E3-433C-8A98-99F8365B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DFBDF-D33C-48AA-974B-B3723BFD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40102-5C23-44D3-A4E0-A9D24ACB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66813-DF39-45D5-BFCC-A379A6F7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0D1-7662-4710-9F32-5145277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D4717-5933-433B-BE2C-655F701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8A2A9-669D-4E1A-BE6C-8C49D831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9A2ED-8F96-4166-B7CD-6D8D9BE3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F54C8-8794-4078-96A5-540D048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59807-A651-4D47-B962-52207D1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6EA93-8712-4F7D-AEEB-72C2F71C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94544-03BF-47FA-B673-340BFC8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D524A-1461-4C3B-B764-3D4A8B7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D7A6E-7361-4954-89F3-ECD7229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C79D85-CD00-49E0-B38A-8D8F112D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899-6539-422C-9D8A-2A04D18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D4266-38EF-44CD-9335-F7C46238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73DCF-4493-4705-9B8A-CB28E52A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1C293-6213-41F0-9275-1BC6197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03773-CB16-4F36-B94B-F3C352C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BC635-72D8-4A68-9A7C-E7174EF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D08BA-9DD7-403E-8D5E-CF84891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F91E8-CC8E-4D42-ACBA-78353882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40462-E132-4F4A-B8E5-C25679A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E0836-D7EF-4D2A-8A93-A7AA5E5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35751-F4F1-4F36-B8EE-20CA547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09A-1B47-4B9E-A9DC-FDA89A1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7D1DF-6634-46A4-9C89-E3F5E97F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2F13A-4735-4C1E-A3D5-C20C529E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C47D1-B1C0-41CF-94F3-F2721D53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FE533-2FB1-4F9E-B0E3-DFBD690E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7FA6E-5FAB-4B02-AB58-D464417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8A282-2CE3-43D3-A7A3-AB2F171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4FA40-C2CA-42F9-B479-B2CDB8CC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3D7A8-4C16-460D-BF39-92D9555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7D37-49DF-47AD-A41E-9962AF6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8B26B-799A-4EBA-B0DA-5CDE037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3FE-6812-4BC9-BDF9-7B25F14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07F99-E921-4EBC-9625-3D9CDF87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91FB8-EE1D-4957-8B41-9D487B2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1DE3C-2511-4D11-87CB-A751268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21CC7-27E9-4630-93A0-4513D13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38819-53C0-4F34-830E-CF000C12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51E28-983B-4A74-A4F1-32027118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07A67-8FD0-4D92-9CEF-CDD4F2C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1E68A-4A7E-4DC3-ADE6-F43D8050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2CBE6-720A-48D6-820F-E1C00E8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00D20-DB7E-4797-8EB3-F7F096A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60B-7A8C-47BB-8AB2-044D9DB4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3EA4D-3CB7-4A4F-84D2-ABC1902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5D18C6-59DC-4117-94E1-DE303DF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8B24B0-9D67-476E-A094-2B70756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86987D-4539-4DDF-B0DC-01069C1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0D0EDF-F936-45CE-B6F6-04906F36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A3D47-6F8B-408A-979F-45F8DB2A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E6F013-028D-4D38-BB58-ECB4061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7C5A8-61F7-4AB9-964F-05B4CC6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75D62-2A6D-44C5-AF8A-24E60FB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87743-29D3-4960-83D7-CA579C4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B6BD-B572-433E-9D29-451FE995F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039-CD25-4C76-937B-BB8099DA9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8AD-81D6-4C61-B393-3A5258F59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814-6F92-413C-B9FC-5AE1643A0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EC5-E79E-486F-96B3-7308A872E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A77-8F2D-4D27-971A-824E27CC1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B2E1-0704-431C-BC7C-31B751F8D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E02-C208-40CB-8AB8-3B8B1A83D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847-6F1E-4485-BFD6-8F09D46E3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9FF-0907-47E7-BF08-CE4EECA61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есенний перезв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детский сад № 2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акова Тамара Геннад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Вот и пришла весн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20200" y="1492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рчат ручьи, звенит капель, распускаются первоцвет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ота! Природа ожив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и птичьи трели говорят нам о приходе вес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"/>
          <a:stretch/>
        </p:blipFill>
        <p:spPr>
          <a:xfrm>
            <a:off x="533520" y="1484280"/>
            <a:ext cx="3414600" cy="244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Московский район г.Чебоксары &quot; Новости &quot; В АУ &quot;Центр внешкольной работы &quot;Эткер&quot; подведены итоги конкурса &quot;Пришла весна, прилетел"/>
          <p:cNvPicPr/>
          <p:nvPr/>
        </p:nvPicPr>
        <p:blipFill>
          <a:blip r:embed="rId2"/>
          <a:stretch/>
        </p:blipFill>
        <p:spPr>
          <a:xfrm>
            <a:off x="1762200" y="4151160"/>
            <a:ext cx="319392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вайте познакомимся с птицами, которые улетают на зиму в тёплые края. Весной они вновь возвращаются к на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ерелётны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тицы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4" descr="Картинка 208 из 20067"/>
          <p:cNvPicPr/>
          <p:nvPr/>
        </p:nvPicPr>
        <p:blipFill>
          <a:blip r:embed="rId1"/>
          <a:stretch/>
        </p:blipFill>
        <p:spPr>
          <a:xfrm rot="19691400">
            <a:off x="324000" y="314172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Картинка 215 из 1305"/>
          <p:cNvPicPr/>
          <p:nvPr/>
        </p:nvPicPr>
        <p:blipFill>
          <a:blip r:embed="rId2"/>
          <a:stretch/>
        </p:blipFill>
        <p:spPr>
          <a:xfrm>
            <a:off x="2916360" y="3933720"/>
            <a:ext cx="3025800" cy="2421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Картинка 9 из 467"/>
          <p:cNvPicPr/>
          <p:nvPr/>
        </p:nvPicPr>
        <p:blipFill>
          <a:blip r:embed="rId3"/>
          <a:stretch/>
        </p:blipFill>
        <p:spPr>
          <a:xfrm>
            <a:off x="6156360" y="2276640"/>
            <a:ext cx="2754360" cy="3671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Картинка 369 из 15863"/>
          <p:cNvPicPr/>
          <p:nvPr/>
        </p:nvPicPr>
        <p:blipFill>
          <a:blip r:embed="rId4">
            <a:lum contrast="30000"/>
          </a:blip>
          <a:stretch/>
        </p:blipFill>
        <p:spPr>
          <a:xfrm rot="20234400">
            <a:off x="3059280" y="1196640"/>
            <a:ext cx="25794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Картинка 2 из 5396"/>
          <p:cNvPicPr/>
          <p:nvPr/>
        </p:nvPicPr>
        <p:blipFill>
          <a:blip r:embed="rId1"/>
          <a:stretch/>
        </p:blipFill>
        <p:spPr>
          <a:xfrm>
            <a:off x="684360" y="227664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00360" y="233208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ворец за морем жил зим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перь вернулся он до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рано утром в тиш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ет о солнце, о вес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ловья прекрасно пень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этом равных ему н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давних пор его ум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ражает белый св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сни звук его прекрас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арит летом радость на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ю звездной, в вечер яс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на зорьке по утра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ловей коль разойдется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унять ничем певц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сня звонко его льет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ам, где в роще деревца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18" descr="http://www.greenmama.ru/dn_images/01/59/48/37/1273036350solovei.jpg"/>
          <p:cNvPicPr/>
          <p:nvPr/>
        </p:nvPicPr>
        <p:blipFill>
          <a:blip r:embed="rId1"/>
          <a:stretch/>
        </p:blipFill>
        <p:spPr>
          <a:xfrm>
            <a:off x="4932360" y="1700280"/>
            <a:ext cx="3414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Жаворо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9920" y="23320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д родимою сторонк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Ярко вспыхнул краснота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ебе жаворонок звонки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Зазвенел, затрепета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летает он в апрел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з далёких жарких стран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 разбрызгивает трел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синем небе, как фонта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" descr="Картинка 21 из 4874"/>
          <p:cNvPicPr/>
          <p:nvPr/>
        </p:nvPicPr>
        <p:blipFill>
          <a:blip r:embed="rId1"/>
          <a:stretch/>
        </p:blipFill>
        <p:spPr>
          <a:xfrm>
            <a:off x="684360" y="2205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гревает жарко солнц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дворе журчат ручь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у нашего окон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айка ласточек крич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летели… Тише, тише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криком вьются у крыльц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ласточки под крыш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оят гнёздышки птенц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оро пёстрые яич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удут в гнёздышках леж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ревать их станут птич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ых деток поджид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4" descr="Картинка 19 из 15703"/>
          <p:cNvPicPr/>
          <p:nvPr/>
        </p:nvPicPr>
        <p:blipFill>
          <a:blip r:embed="rId1"/>
          <a:stretch/>
        </p:blipFill>
        <p:spPr>
          <a:xfrm>
            <a:off x="4716360" y="2133720"/>
            <a:ext cx="38880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84720" y="2133720"/>
            <a:ext cx="468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шь утро в саду настаё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щё не проснувшись, я слыш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Hа ветке, то громче, то тиш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з удержу зяблик поё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Kупается в алом рассвет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щёлкивает язычк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Kак будто бы лучшим на све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завтракал 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вячком!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2" descr="Картинка 9 из 1248"/>
          <p:cNvPicPr/>
          <p:nvPr/>
        </p:nvPicPr>
        <p:blipFill>
          <a:blip r:embed="rId1"/>
          <a:stretch/>
        </p:blipFill>
        <p:spPr>
          <a:xfrm>
            <a:off x="468360" y="1916280"/>
            <a:ext cx="39607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780000" y="2565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ейки бегут с холм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 свидания, зим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Слышишь чей-то клич вдали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К нам вернулись журавл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Рисунок 12" descr="http://lit.convdocs.org/tw_files2/urls_1/280/d-279659/279659_html_m6fec06f9.jpg"/>
          <p:cNvPicPr/>
          <p:nvPr/>
        </p:nvPicPr>
        <p:blipFill>
          <a:blip r:embed="rId1"/>
          <a:stretch/>
        </p:blipFill>
        <p:spPr>
          <a:xfrm>
            <a:off x="539640" y="2276640"/>
            <a:ext cx="4103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9:15:17Z</dcterms:created>
  <dc:creator>Невай</dc:creator>
  <dc:description/>
  <dc:language>en-US</dc:language>
  <cp:lastModifiedBy>Саныч</cp:lastModifiedBy>
  <dcterms:modified xsi:type="dcterms:W3CDTF">2015-04-25T22:36:48Z</dcterms:modified>
  <cp:revision>3</cp:revision>
  <dc:subject/>
  <dc:title>Презентация PowerPoint</dc:title>
</cp:coreProperties>
</file>