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13.png" ContentType="image/pn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22.jpeg" ContentType="image/jpeg"/>
  <Override PartName="/ppt/media/image9.png" ContentType="image/png"/>
  <Override PartName="/ppt/media/image31.gif" ContentType="image/gif"/>
  <Override PartName="/ppt/media/image32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E77-7589-432D-8C3D-28359925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7AD-FC53-4E37-9D1D-AC73BCA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420-AFAF-4662-8C68-F9B9C8C0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36A-BA21-4F8A-9BB2-0F0D0AF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50F-FE7D-4D3B-BC81-9F908786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FEB-158E-4FAE-88A0-96D54088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E34-9A0E-4C52-BA7C-2C453D98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4AC-4379-4C85-A4B4-483DE3D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CE9-04F8-423B-AB46-1AB8958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AA9-16F6-4B8B-B902-EE56105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A30-482A-41A5-8E97-8BA70B7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5C0-2246-4C0A-ABE0-6063DCC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6E5C-A0E6-46C3-AF48-51749E149A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2920" y="149976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Тема урока: «Влияние алкоголя и курения на органы пищеварения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урока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BD05969_"/>
          <p:cNvPicPr/>
          <p:nvPr/>
        </p:nvPicPr>
        <p:blipFill>
          <a:blip r:embed="rId1"/>
          <a:stretch/>
        </p:blipFill>
        <p:spPr>
          <a:xfrm>
            <a:off x="7508880" y="0"/>
            <a:ext cx="16351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став табачного ды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рный г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овые осн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ую кис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ирные мас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чный дего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5170320" y="142920"/>
            <a:ext cx="3759480" cy="30002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5214960" y="328608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42960" y="142560"/>
            <a:ext cx="7858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такое алкогол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Алкоголь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нутриклеточный яд, разрушающе действующий на все системы и органы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057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дыхание дыма тлеющего табака убив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овые рецепторы и вкусовые ощу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а меня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употреблении больш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 алкоголя притуп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няние и легкие запахи 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вливаются, это приводит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ю вкусовых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нятельных ощу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4" descr="CAW5U34P"/>
          <p:cNvPicPr/>
          <p:nvPr/>
        </p:nvPicPr>
        <p:blipFill>
          <a:blip r:embed="rId1"/>
          <a:stretch/>
        </p:blipFill>
        <p:spPr>
          <a:xfrm>
            <a:off x="7643880" y="142920"/>
            <a:ext cx="12859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tretch/>
        </p:blipFill>
        <p:spPr>
          <a:xfrm>
            <a:off x="4714920" y="178596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"/>
          <p:cNvPicPr/>
          <p:nvPr/>
        </p:nvPicPr>
        <p:blipFill>
          <a:blip r:embed="rId3"/>
          <a:stretch/>
        </p:blipFill>
        <p:spPr>
          <a:xfrm>
            <a:off x="2428920" y="857160"/>
            <a:ext cx="228600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1928880" cy="221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123\Desktop\ОБЖ\images.jpg"/>
          <p:cNvPicPr/>
          <p:nvPr/>
        </p:nvPicPr>
        <p:blipFill>
          <a:blip r:embed="rId5"/>
          <a:stretch/>
        </p:blipFill>
        <p:spPr>
          <a:xfrm>
            <a:off x="5929200" y="142920"/>
            <a:ext cx="150048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такое пищеваре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вокупность процессов, обеспечивающих физическое изменение и химическое расщепление пищевых веществ на простые составные водорастворимые соединения, способные легко всасываться в кровь и участвовать в жизненно важных функциях организма человека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1727280"/>
                <a:gridCol w="1695240"/>
                <a:gridCol w="1793880"/>
                <a:gridCol w="1963800"/>
                <a:gridCol w="19638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курение та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ассивное ку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табачного ды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 алко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ищева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вредная привычка, заключающаяся во вдыхании дыма  тлеющего таб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вдыхание задымленного табачного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иновые 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льную кисл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ирные ма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ачный дего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клеточный яд, разрушающе действующий на все системы и орган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процессов, обеспечивающих физическое изменение и химическое расщепление пищевых веществ на простые составные водорастворимые соединения, способные легко всасываться в кровь и участвовать в жизненно важных функциях организма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405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5800" y="1356840"/>
            <a:ext cx="4643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4786200" y="214200"/>
            <a:ext cx="3857760" cy="6429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214200"/>
            <a:ext cx="3900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аритель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58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4800" y="1534680"/>
            <a:ext cx="1428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999720"/>
            <a:ext cx="3571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143920" y="1534680"/>
            <a:ext cx="54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1640" y="12859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3143160" y="3071880"/>
            <a:ext cx="2857680" cy="13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здействия курения и алкоголя на органы пищев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142920" y="2928960"/>
            <a:ext cx="1214280" cy="1857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оболочки тонк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тонк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7786800" y="214200"/>
            <a:ext cx="121428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"/>
          <p:cNvSpPr/>
          <p:nvPr/>
        </p:nvSpPr>
        <p:spPr>
          <a:xfrm>
            <a:off x="5072040" y="2000160"/>
            <a:ext cx="121464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>
            <a:off x="142920" y="214200"/>
            <a:ext cx="1214280" cy="178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оболочки толст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толстого кишеч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3429000" y="214200"/>
            <a:ext cx="250020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е зубов (периодонт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вкусовых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ых обол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гу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гл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6072120" y="214200"/>
            <a:ext cx="1500120" cy="12146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 оболочки пище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ище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6357960" y="2000160"/>
            <a:ext cx="114300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7"/>
          <p:cNvSpPr/>
          <p:nvPr/>
        </p:nvSpPr>
        <p:spPr>
          <a:xfrm>
            <a:off x="3929040" y="2000160"/>
            <a:ext cx="10717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ов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2786040" y="4714920"/>
            <a:ext cx="185724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4929120" y="4714920"/>
            <a:ext cx="257184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иперстная 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5929200" y="5786280"/>
            <a:ext cx="3071880" cy="9288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слизистой обол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ва двенадцатиперстн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двенадцатиперстн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1"/>
          <p:cNvSpPr/>
          <p:nvPr/>
        </p:nvSpPr>
        <p:spPr>
          <a:xfrm>
            <a:off x="1500120" y="4714920"/>
            <a:ext cx="107172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2"/>
          <p:cNvSpPr/>
          <p:nvPr/>
        </p:nvSpPr>
        <p:spPr>
          <a:xfrm>
            <a:off x="6286680" y="3429000"/>
            <a:ext cx="121428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чный пуз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3"/>
          <p:cNvSpPr/>
          <p:nvPr/>
        </p:nvSpPr>
        <p:spPr>
          <a:xfrm>
            <a:off x="2928960" y="5786280"/>
            <a:ext cx="2643120" cy="9288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а поджелудочной желе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оджелудочной желе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4"/>
          <p:cNvSpPr/>
          <p:nvPr/>
        </p:nvSpPr>
        <p:spPr>
          <a:xfrm>
            <a:off x="214200" y="5786280"/>
            <a:ext cx="2428920" cy="9144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бмена вещ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роз печ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ный гепа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5"/>
          <p:cNvSpPr/>
          <p:nvPr/>
        </p:nvSpPr>
        <p:spPr>
          <a:xfrm>
            <a:off x="1428840" y="2000160"/>
            <a:ext cx="12859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ый 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>
            <a:off x="1500120" y="3429000"/>
            <a:ext cx="128592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кише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7"/>
          <p:cNvSpPr/>
          <p:nvPr/>
        </p:nvSpPr>
        <p:spPr>
          <a:xfrm>
            <a:off x="7929720" y="2857680"/>
            <a:ext cx="1071360" cy="17143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ни в желчном пузы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желчного пузы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8"/>
          <p:cNvSpPr/>
          <p:nvPr/>
        </p:nvSpPr>
        <p:spPr>
          <a:xfrm>
            <a:off x="2786040" y="2000160"/>
            <a:ext cx="1071720" cy="7146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к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9"/>
          <p:cNvSpPr/>
          <p:nvPr/>
        </p:nvSpPr>
        <p:spPr>
          <a:xfrm>
            <a:off x="1571760" y="214200"/>
            <a:ext cx="1643040" cy="120024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аление оболочки прямой ки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прямой киш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4"/>
          <p:cNvSpPr/>
          <p:nvPr/>
        </p:nvSpPr>
        <p:spPr>
          <a:xfrm rot="10800000">
            <a:off x="3286080" y="27147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95"/>
          <p:cNvSpPr/>
          <p:nvPr/>
        </p:nvSpPr>
        <p:spPr>
          <a:xfrm rot="10800000">
            <a:off x="4286160" y="271476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96"/>
          <p:cNvSpPr/>
          <p:nvPr/>
        </p:nvSpPr>
        <p:spPr>
          <a:xfrm rot="10800000">
            <a:off x="5286240" y="271476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97"/>
          <p:cNvSpPr/>
          <p:nvPr/>
        </p:nvSpPr>
        <p:spPr>
          <a:xfrm>
            <a:off x="3929040" y="53578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99"/>
          <p:cNvSpPr/>
          <p:nvPr/>
        </p:nvSpPr>
        <p:spPr>
          <a:xfrm>
            <a:off x="392904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06"/>
          <p:cNvSpPr/>
          <p:nvPr/>
        </p:nvSpPr>
        <p:spPr>
          <a:xfrm rot="10800000">
            <a:off x="4428720" y="142848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07"/>
          <p:cNvSpPr/>
          <p:nvPr/>
        </p:nvSpPr>
        <p:spPr>
          <a:xfrm rot="16200000">
            <a:off x="7561080" y="3439800"/>
            <a:ext cx="285840" cy="4064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108"/>
          <p:cNvSpPr/>
          <p:nvPr/>
        </p:nvSpPr>
        <p:spPr>
          <a:xfrm rot="16200000">
            <a:off x="6000840" y="35719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09"/>
          <p:cNvSpPr/>
          <p:nvPr/>
        </p:nvSpPr>
        <p:spPr>
          <a:xfrm rot="10800000">
            <a:off x="6072120" y="1428840"/>
            <a:ext cx="214560" cy="560160"/>
          </a:xfrm>
          <a:prstGeom prst="down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10"/>
          <p:cNvSpPr/>
          <p:nvPr/>
        </p:nvSpPr>
        <p:spPr>
          <a:xfrm rot="10641600">
            <a:off x="2916360" y="1430280"/>
            <a:ext cx="226800" cy="5652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12"/>
          <p:cNvSpPr/>
          <p:nvPr/>
        </p:nvSpPr>
        <p:spPr>
          <a:xfrm flipH="1" rot="5400000">
            <a:off x="1320480" y="3821760"/>
            <a:ext cx="21456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13"/>
          <p:cNvSpPr/>
          <p:nvPr/>
        </p:nvSpPr>
        <p:spPr>
          <a:xfrm rot="5400000">
            <a:off x="2810160" y="3547080"/>
            <a:ext cx="285840" cy="3351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углом вверх 114"/>
          <p:cNvSpPr/>
          <p:nvPr/>
        </p:nvSpPr>
        <p:spPr>
          <a:xfrm>
            <a:off x="7500960" y="1428840"/>
            <a:ext cx="642960" cy="1000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углом вверх 115"/>
          <p:cNvSpPr/>
          <p:nvPr/>
        </p:nvSpPr>
        <p:spPr>
          <a:xfrm flipH="1">
            <a:off x="642240" y="2000160"/>
            <a:ext cx="785880" cy="446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углом вверх 116"/>
          <p:cNvSpPr/>
          <p:nvPr/>
        </p:nvSpPr>
        <p:spPr>
          <a:xfrm rot="10800000">
            <a:off x="928440" y="5000760"/>
            <a:ext cx="571320" cy="785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углом вверх 117"/>
          <p:cNvSpPr/>
          <p:nvPr/>
        </p:nvSpPr>
        <p:spPr>
          <a:xfrm flipV="1">
            <a:off x="7500960" y="4928400"/>
            <a:ext cx="64296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углом вверх 118"/>
          <p:cNvSpPr/>
          <p:nvPr/>
        </p:nvSpPr>
        <p:spPr>
          <a:xfrm flipH="1">
            <a:off x="2143080" y="2714760"/>
            <a:ext cx="100008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углом вверх 119"/>
          <p:cNvSpPr/>
          <p:nvPr/>
        </p:nvSpPr>
        <p:spPr>
          <a:xfrm>
            <a:off x="6000840" y="2714760"/>
            <a:ext cx="7142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углом вверх 120"/>
          <p:cNvSpPr/>
          <p:nvPr/>
        </p:nvSpPr>
        <p:spPr>
          <a:xfrm flipH="1" flipV="1">
            <a:off x="2285280" y="4214160"/>
            <a:ext cx="85716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углом вверх 121"/>
          <p:cNvSpPr/>
          <p:nvPr/>
        </p:nvSpPr>
        <p:spPr>
          <a:xfrm flipV="1">
            <a:off x="6000840" y="4214160"/>
            <a:ext cx="7142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214200" y="4929120"/>
            <a:ext cx="2401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480" y="1285560"/>
            <a:ext cx="8429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Times New Roman"/>
              </a:rPr>
              <a:t>Систематизировать и обобщить знания обучающихся о вреде алкоголя и курения на органы пищеварени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1. Закрепить умение обучающихся объяснять отрицательное воздействие алкоголя и курения на органы пищеварени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2. Формировать убежденность в ценности здорового образа жизн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3. Продолжить формирование бережного отношения к своему здоровью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передний начальный отдел пищеварительного аппарата. С помощью зубов, языка и мышц щек пища подвергается первоначальной механической переработке, а с помощью слюны — химичес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142920" y="4857840"/>
            <a:ext cx="2401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978600"/>
        </p:xfrm>
        <a:graphic>
          <a:graphicData uri="http://schemas.openxmlformats.org/drawingml/2006/table">
            <a:tbl>
              <a:tblPr/>
              <a:tblGrid>
                <a:gridCol w="2714760"/>
                <a:gridCol w="3071520"/>
                <a:gridCol w="3357720"/>
              </a:tblGrid>
              <a:tr h="21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овая по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передний начальный отдел пищеварительного аппарата. С помощью зубов, языка и мышц щек пища подвергается первоначальной механической переработке, а с помощью слюны — химичес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зубов (периодонт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я вкусовых ощу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ых обол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гу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гл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Рисунок 3" descr="https://encrypted-tbn2.gstatic.com/images?q=tbn:ANd9GcTk-KF5dCQHcyZ0eORKEh-y4Al25A2Vv8QNaP1sGNYiVZQY_UY4"/>
          <p:cNvPicPr/>
          <p:nvPr/>
        </p:nvPicPr>
        <p:blipFill>
          <a:blip r:embed="rId1"/>
          <a:stretch/>
        </p:blipFill>
        <p:spPr>
          <a:xfrm>
            <a:off x="142920" y="478620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5929200" y="4786200"/>
            <a:ext cx="30816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Рисунок 3" descr="https://encrypted-tbn1.gstatic.com/images?q=tbn:ANd9GcQKsXlDqCGshX6BsWdiy9n_q5RGgMH3jul-1OffHE2oGKo_7MDE"/>
          <p:cNvPicPr/>
          <p:nvPr/>
        </p:nvPicPr>
        <p:blipFill>
          <a:blip r:embed="rId1"/>
          <a:srcRect l="33619" t="0" r="33619" b="13897"/>
          <a:stretch/>
        </p:blipFill>
        <p:spPr>
          <a:xfrm>
            <a:off x="142920" y="4071960"/>
            <a:ext cx="2486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ая трубка длиной 25—30 см, по которой благодаря сокращению мускулатуры пищевой комок передвигается к желудку за 1 -9 с в зависимости от консистенции пищ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 пищево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ищево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Рисунок 2" descr="https://encrypted-tbn1.gstatic.com/images?q=tbn:ANd9GcQKsXlDqCGshX6BsWdiy9n_q5RGgMH3jul-1OffHE2oGKo_7MDE"/>
          <p:cNvPicPr/>
          <p:nvPr/>
        </p:nvPicPr>
        <p:blipFill>
          <a:blip r:embed="rId1"/>
          <a:srcRect l="33619" t="0" r="33619" b="13897"/>
          <a:stretch/>
        </p:blipFill>
        <p:spPr>
          <a:xfrm>
            <a:off x="142920" y="4000680"/>
            <a:ext cx="2486160" cy="2571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http://pancreatit.info/wp-content/uploads/2013/12/%D1%80%D0%B0%D0%BA-%D0%BF%D0%B8%D1%89%D0%B5%D0%B2%D0%BE%D0%B4%D0%B0.jpg"/>
          <p:cNvPicPr/>
          <p:nvPr/>
        </p:nvPicPr>
        <p:blipFill>
          <a:blip r:embed="rId2"/>
          <a:stretch/>
        </p:blipFill>
        <p:spPr>
          <a:xfrm>
            <a:off x="6286680" y="3929040"/>
            <a:ext cx="2663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Рисунок 2" descr="Картинки по запросу фото желудка человека"/>
          <p:cNvPicPr/>
          <p:nvPr/>
        </p:nvPicPr>
        <p:blipFill>
          <a:blip r:embed="rId1"/>
          <a:srcRect l="50932" t="0" r="1340" b="10616"/>
          <a:stretch/>
        </p:blipFill>
        <p:spPr>
          <a:xfrm>
            <a:off x="142920" y="3857760"/>
            <a:ext cx="23572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83560"/>
        </p:xfrm>
        <a:graphic>
          <a:graphicData uri="http://schemas.openxmlformats.org/drawingml/2006/table">
            <a:tbl>
              <a:tblPr/>
              <a:tblGrid>
                <a:gridCol w="2500200"/>
                <a:gridCol w="360540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 широкая часть пищеварительного тракта — представляет собой полый орган, состоящий из входа, дна, тела и выхода. Входное и выходное отверстия закрываются мышечным валиком (жомом). Объем желудка взрослого человека составляет около 2 л, но может увеличиваться до 5 л. Внутренняя слизистая оболочка желудка собрана в складки, что увеличивает ее поверхность. В толще слизистой оболочки размещено до 25000000 желез, вырабатывающих желудочный сок и слиз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Рисунок 2" descr="Картинки по запросу фото желудка человека"/>
          <p:cNvPicPr/>
          <p:nvPr/>
        </p:nvPicPr>
        <p:blipFill>
          <a:blip r:embed="rId1"/>
          <a:srcRect l="0" t="0" r="52272" b="10616"/>
          <a:stretch/>
        </p:blipFill>
        <p:spPr>
          <a:xfrm>
            <a:off x="6286680" y="392904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Картинки по запросу фото желудка человека"/>
          <p:cNvPicPr/>
          <p:nvPr/>
        </p:nvPicPr>
        <p:blipFill>
          <a:blip r:embed="rId2"/>
          <a:srcRect l="50932" t="0" r="1340" b="10616"/>
          <a:stretch/>
        </p:blipFill>
        <p:spPr>
          <a:xfrm>
            <a:off x="142920" y="3857760"/>
            <a:ext cx="23572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ный пузы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Рисунок 3" descr="https://encrypted-tbn2.gstatic.com/images?q=tbn:ANd9GcQ7Oc--l2PDHwJxuzW_wIKyM1RPmWVHzkiItMzCxzKM7cF3eDEAww"/>
          <p:cNvPicPr/>
          <p:nvPr/>
        </p:nvPicPr>
        <p:blipFill>
          <a:blip r:embed="rId1"/>
          <a:srcRect l="34359" t="19989" r="14056" b="9086"/>
          <a:stretch/>
        </p:blipFill>
        <p:spPr>
          <a:xfrm>
            <a:off x="214200" y="3643200"/>
            <a:ext cx="2286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чный пузы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ни в желчном пузы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желчного пузы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Рисунок 4" descr="Картинки по запросу фото желчного пузыря человека"/>
          <p:cNvPicPr/>
          <p:nvPr/>
        </p:nvPicPr>
        <p:blipFill>
          <a:blip r:embed="rId1"/>
          <a:stretch/>
        </p:blipFill>
        <p:spPr>
          <a:xfrm>
            <a:off x="6286680" y="3786120"/>
            <a:ext cx="264312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https://encrypted-tbn2.gstatic.com/images?q=tbn:ANd9GcQ7Oc--l2PDHwJxuzW_wIKyM1RPmWVHzkiItMzCxzKM7cF3eDEAww"/>
          <p:cNvPicPr/>
          <p:nvPr/>
        </p:nvPicPr>
        <p:blipFill>
          <a:blip r:embed="rId2"/>
          <a:srcRect l="34359" t="19989" r="14056" b="9086"/>
          <a:stretch/>
        </p:blipFill>
        <p:spPr>
          <a:xfrm>
            <a:off x="357120" y="371484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надцатиперстн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Рисунок 2" descr="https://im0-tub-ru.yandex.net/i?id=8c519b34dc88bec8e8c38c8637e6c278&amp;n=21"/>
          <p:cNvPicPr/>
          <p:nvPr/>
        </p:nvPicPr>
        <p:blipFill>
          <a:blip r:embed="rId1"/>
          <a:stretch/>
        </p:blipFill>
        <p:spPr>
          <a:xfrm>
            <a:off x="214200" y="3857760"/>
            <a:ext cx="22860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928960"/>
                <a:gridCol w="3143160"/>
                <a:gridCol w="307188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надцатиперстн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й отдел тонкого кишечник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пищевая масса подвергается активному воздействию пищеварительных соков поджелудочной железы, печени и слизистой оболочки са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ва двенадцатиперстной ки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двенадцатиперстной ки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Рисунок 2" descr="http://cancermed.ru/images/stories/lechenie-raka-dvenadcatiperstnoy-kishki-v-izraile.jpg"/>
          <p:cNvPicPr/>
          <p:nvPr/>
        </p:nvPicPr>
        <p:blipFill>
          <a:blip r:embed="rId1"/>
          <a:stretch/>
        </p:blipFill>
        <p:spPr>
          <a:xfrm>
            <a:off x="6215040" y="4071960"/>
            <a:ext cx="2714760" cy="26431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https://im0-tub-ru.yandex.net/i?id=8c519b34dc88bec8e8c38c8637e6c278&amp;n=21"/>
          <p:cNvPicPr/>
          <p:nvPr/>
        </p:nvPicPr>
        <p:blipFill>
          <a:blip r:embed="rId2"/>
          <a:stretch/>
        </p:blipFill>
        <p:spPr>
          <a:xfrm>
            <a:off x="214200" y="4143240"/>
            <a:ext cx="26434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57120" y="1213920"/>
            <a:ext cx="8429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курение табака, пассивное кур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Состав табачного дым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алкогол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Определение: пищевар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Схема пищеварительного аппарат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Times New Roman"/>
              </a:rPr>
              <a:t>Действие алкоголя и курения на органы пищеваре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500200" y="500040"/>
            <a:ext cx="24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Рисунок 2" descr="Картинки по запросу фото поджелудочная железа"/>
          <p:cNvPicPr/>
          <p:nvPr/>
        </p:nvPicPr>
        <p:blipFill>
          <a:blip r:embed="rId1"/>
          <a:stretch/>
        </p:blipFill>
        <p:spPr>
          <a:xfrm>
            <a:off x="214200" y="4572000"/>
            <a:ext cx="2357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80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арительный орган, состоит из клеток, образующих дольки, которые имеют выводные протоки, соединяющиеся в общий прото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та поджелудочной желе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оджелудочной желе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Рисунок 2" descr="http://otvet-zdes.ru/wp-content/uploads/2013/04/kista.jpg"/>
          <p:cNvPicPr/>
          <p:nvPr/>
        </p:nvPicPr>
        <p:blipFill>
          <a:blip r:embed="rId1"/>
          <a:stretch/>
        </p:blipFill>
        <p:spPr>
          <a:xfrm>
            <a:off x="6315120" y="4572000"/>
            <a:ext cx="261468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Картинки по запросу фото поджелудочная железа"/>
          <p:cNvPicPr/>
          <p:nvPr/>
        </p:nvPicPr>
        <p:blipFill>
          <a:blip r:embed="rId2"/>
          <a:stretch/>
        </p:blipFill>
        <p:spPr>
          <a:xfrm>
            <a:off x="214200" y="4572000"/>
            <a:ext cx="2357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3" descr="C:\Users\123\Desktop\ОБЖ\alkogolnyy-gepatit-2.jpg"/>
          <p:cNvPicPr/>
          <p:nvPr/>
        </p:nvPicPr>
        <p:blipFill>
          <a:blip r:embed="rId1"/>
          <a:srcRect l="0" t="44633" r="0" b="0"/>
          <a:stretch/>
        </p:blipFill>
        <p:spPr>
          <a:xfrm>
            <a:off x="142920" y="2786040"/>
            <a:ext cx="24289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ая железа массой до 1,5—2 кг, состоящая из клеток, вырабатывающих желчь до 1 л в сут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бмена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рроз печ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ый гепат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3" descr="C:\Users\123\Desktop\ОБЖ\alkogolnyy-gepatit-2.jpg"/>
          <p:cNvPicPr/>
          <p:nvPr/>
        </p:nvPicPr>
        <p:blipFill>
          <a:blip r:embed="rId1"/>
          <a:srcRect l="0" t="0" r="0" b="53999"/>
          <a:stretch/>
        </p:blipFill>
        <p:spPr>
          <a:xfrm>
            <a:off x="6215040" y="435780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123\Desktop\ОБЖ\alkogolnyy-gepatit-2.jpg"/>
          <p:cNvPicPr/>
          <p:nvPr/>
        </p:nvPicPr>
        <p:blipFill>
          <a:blip r:embed="rId2"/>
          <a:srcRect l="0" t="44633" r="0" b="0"/>
          <a:stretch/>
        </p:blipFill>
        <p:spPr>
          <a:xfrm>
            <a:off x="142920" y="4286160"/>
            <a:ext cx="2286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на органы пищева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Рисунок 2" descr="Тонкий кишечник"/>
          <p:cNvPicPr/>
          <p:nvPr/>
        </p:nvPicPr>
        <p:blipFill>
          <a:blip r:embed="rId1"/>
          <a:srcRect l="2008" t="0" r="471" b="37"/>
          <a:stretch/>
        </p:blipFill>
        <p:spPr>
          <a:xfrm>
            <a:off x="21420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тонкого кишечника составляет 5—6 м. В нем завершается процесс пищеварения благодаря соку поджелудочной железы, желчи и кишечному соку, выделяемому железами слизистой оболочки кишечника (до 2 л в сутки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слизистой оболочки тонк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тонк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Рисунок 2" descr="Тонкий кишечник"/>
          <p:cNvPicPr/>
          <p:nvPr/>
        </p:nvPicPr>
        <p:blipFill>
          <a:blip r:embed="rId1"/>
          <a:srcRect l="2008" t="0" r="471" b="37"/>
          <a:stretch/>
        </p:blipFill>
        <p:spPr>
          <a:xfrm>
            <a:off x="214200" y="428616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https://im2-tub-ru.yandex.net/i?id=9385dc737d1d2c3f6210d771e206b918&amp;n=21"/>
          <p:cNvPicPr/>
          <p:nvPr/>
        </p:nvPicPr>
        <p:blipFill>
          <a:blip r:embed="rId2"/>
          <a:stretch/>
        </p:blipFill>
        <p:spPr>
          <a:xfrm>
            <a:off x="6286680" y="4214880"/>
            <a:ext cx="2571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Рисунок 2" descr="Физиология пищеварения"/>
          <p:cNvPicPr/>
          <p:nvPr/>
        </p:nvPicPr>
        <p:blipFill>
          <a:blip r:embed="rId1"/>
          <a:stretch/>
        </p:blipFill>
        <p:spPr>
          <a:xfrm>
            <a:off x="0" y="4071960"/>
            <a:ext cx="24447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 кише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лстый кишечник поступают непереваренные остатки пищи. Незначительное количество желез толстого кишечника выделяет малоактивный пищеварительный сок, который частично продолжает переваривание пищевых веществ. В толстых кишках содержится большое количество бактерий, вызывающих 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жение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углеводов, 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иение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ков белка и частичное расщепление клетчатки. При этом образуется ряд вредных для организма ядовитых веществ (индол, скатол, фенол, крезол), которые всасываются в кровь, а затем обезвреживаются в печен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оболочки толст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толстого кишечни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Рисунок 2" descr="Физиология пищеварения"/>
          <p:cNvPicPr/>
          <p:nvPr/>
        </p:nvPicPr>
        <p:blipFill>
          <a:blip r:embed="rId1"/>
          <a:stretch/>
        </p:blipFill>
        <p:spPr>
          <a:xfrm>
            <a:off x="0" y="4143240"/>
            <a:ext cx="2444760" cy="2392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Картинки по запросу толстый и тонкий кишечник фото"/>
          <p:cNvPicPr/>
          <p:nvPr/>
        </p:nvPicPr>
        <p:blipFill>
          <a:blip r:embed="rId2"/>
          <a:stretch/>
        </p:blipFill>
        <p:spPr>
          <a:xfrm>
            <a:off x="6286680" y="4071960"/>
            <a:ext cx="26431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Рисунок 2" descr="https://im2-tub-ru.yandex.net/i?id=17f3fcf99064717c8c264d8a537acd56&amp;n=21"/>
          <p:cNvPicPr/>
          <p:nvPr/>
        </p:nvPicPr>
        <p:blipFill>
          <a:blip r:embed="rId1"/>
          <a:stretch/>
        </p:blipFill>
        <p:spPr>
          <a:xfrm>
            <a:off x="285840" y="37148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14760"/>
                <a:gridCol w="3390840"/>
                <a:gridCol w="303840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в пищеварительном трак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ствия воздействия алкоголя и курения на органы пищев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каловых м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ение оболочки пря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прямой ки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Рисунок 2" descr="https://im0-tub-ru.yandex.net/i?id=7e7bb7546ddc3e0892bae19820f0cd18&amp;n=21"/>
          <p:cNvPicPr/>
          <p:nvPr/>
        </p:nvPicPr>
        <p:blipFill>
          <a:blip r:embed="rId1"/>
          <a:stretch/>
        </p:blipFill>
        <p:spPr>
          <a:xfrm>
            <a:off x="6286680" y="3643200"/>
            <a:ext cx="2643120" cy="27860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https://im2-tub-ru.yandex.net/i?id=17f3fcf99064717c8c264d8a537acd56&amp;n=21"/>
          <p:cNvPicPr/>
          <p:nvPr/>
        </p:nvPicPr>
        <p:blipFill>
          <a:blip r:embed="rId2"/>
          <a:stretch/>
        </p:blipFill>
        <p:spPr>
          <a:xfrm>
            <a:off x="285840" y="3714840"/>
            <a:ext cx="214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5808600"/>
        </p:xfrm>
        <a:graphic>
          <a:graphicData uri="http://schemas.openxmlformats.org/drawingml/2006/table">
            <a:tbl>
              <a:tblPr/>
              <a:tblGrid>
                <a:gridCol w="1928880"/>
                <a:gridCol w="1857240"/>
                <a:gridCol w="1666800"/>
                <a:gridCol w="1844640"/>
                <a:gridCol w="184644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курение таба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пассивное ку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табачного ды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  алкого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просы для закреп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5840" y="121392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рение таба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ассивное ку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состав табачного ды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действие оказывает курение и алкоголь на  организм пова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ищевар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органы пищеварительного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органов в пищеварительном тракте. Последствия алкоголя и курения на органы пищева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d17226_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453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692360" y="12682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Домашнее задание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00040" y="2421000"/>
            <a:ext cx="685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Times New Roman"/>
              </a:rPr>
              <a:t>Нарисовать рисун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Times New Roman"/>
              </a:rPr>
              <a:t>о вреде курения, алкоголя на органы пищева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ag00343_"/>
          <p:cNvPicPr/>
          <p:nvPr/>
        </p:nvPicPr>
        <p:blipFill>
          <a:blip r:embed="rId2"/>
          <a:stretch/>
        </p:blipFill>
        <p:spPr>
          <a:xfrm>
            <a:off x="826920" y="1413000"/>
            <a:ext cx="685800" cy="65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Admin\Мои документы\Мои рисунки\лог.jpg"/>
          <p:cNvPicPr/>
          <p:nvPr/>
        </p:nvPicPr>
        <p:blipFill>
          <a:blip r:embed="rId3"/>
          <a:stretch/>
        </p:blipFill>
        <p:spPr>
          <a:xfrm>
            <a:off x="4429080" y="4786200"/>
            <a:ext cx="1785960" cy="14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123\Desktop\ОБЖ\images (6).jpg"/>
          <p:cNvPicPr/>
          <p:nvPr/>
        </p:nvPicPr>
        <p:blipFill>
          <a:blip r:embed="rId4"/>
          <a:stretch/>
        </p:blipFill>
        <p:spPr>
          <a:xfrm>
            <a:off x="1714680" y="4857840"/>
            <a:ext cx="23382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Что такое курение табака?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урение табака (никотинизм)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редная привычка, заключающаяся во вдыхании дыма  тлеющего таб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7f7f7f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2"/>
          <a:srcRect l="0" t="0" r="0" b="6299"/>
          <a:stretch/>
        </p:blipFill>
        <p:spPr>
          <a:xfrm>
            <a:off x="2786040" y="285840"/>
            <a:ext cx="6143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Определение: </a:t>
            </a:r>
            <a:r>
              <a:rPr b="1" lang="ru-RU" sz="4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Пассивное курение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то вдыхание задымленного табачного воздух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42960" y="142560"/>
            <a:ext cx="7858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Что входит в состав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абачного дым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59:20Z</dcterms:created>
  <dc:creator>boss</dc:creator>
  <dc:description/>
  <dc:language>en-US</dc:language>
  <cp:lastModifiedBy>марина владимировна</cp:lastModifiedBy>
  <dcterms:modified xsi:type="dcterms:W3CDTF">2015-04-07T11:29:42Z</dcterms:modified>
  <cp:revision>182</cp:revision>
  <dc:subject/>
  <dc:title>Тема: Понятие о клинической смерти и реанимации. Возможные причины клинической смерти  </dc:title>
</cp:coreProperties>
</file>