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4.jpeg" ContentType="image/jpeg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C4A8-F8E8-4F2C-BAFD-5E89B34E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C7213-8E19-4AD6-B130-4BCDB80A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DD228-5CBF-464A-9BCD-0DF4F901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951F7-7F30-4982-82A5-5EB3BCDE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3BC2-920F-4667-92C5-401DA13F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F70F-F664-4881-9C4E-9B7AAB86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2ADB-76E5-4506-9111-0F3B720E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A91A-BAD0-45AE-AC10-17A5E64C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35D0-2E07-4A2A-BDC3-75E0F46A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F231-21F6-4A92-A81E-EF9DDBDA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0D79-97A3-4691-AAA4-386B3344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55214-A733-4427-A525-BC93940E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612E-DA81-4AC8-A255-88BDC77D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09A5-814D-4CF4-835E-0827DFF5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55D3-8B71-498D-9B7C-EA0D12E3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333A-D824-4F92-B2E5-23D3DFA1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FDCF-62AE-45FE-9BE6-F0E838FB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B1A36-B19B-42DD-B9C7-0D483B4F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0855-A5F8-488A-AEC4-32C00A72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82C5C-6B32-4575-9036-DDC805A7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8F94C-57B4-4539-B548-FFC70E05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B3D9E-0111-41FB-9A2F-E00129D8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F50B4-F7F9-4868-ADC0-2355B29F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2B600-41E4-4236-8817-F1C7B7FA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B130-C472-49DA-A39C-016FE2C2FC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C2AD-2FA8-4D6C-816F-EFB3E6A201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ааааааааааааа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36560" y="330120"/>
            <a:ext cx="767088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87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340000" y="4653000"/>
            <a:ext cx="1523880" cy="2019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372360" y="476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262560" y="2852640"/>
            <a:ext cx="2881440" cy="288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738036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84360" y="765000"/>
            <a:ext cx="1831680" cy="3835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0" y="4581360"/>
            <a:ext cx="2181240" cy="2276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3851280" y="4724280"/>
            <a:ext cx="2095560" cy="2133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2987640" y="14842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976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059280" y="476280"/>
            <a:ext cx="1985760" cy="2592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59636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84360" y="3213000"/>
            <a:ext cx="1896840" cy="2853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2627280" y="3645000"/>
            <a:ext cx="3240000" cy="2155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5940360" y="3662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5364000" y="836640"/>
            <a:ext cx="331344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6629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51672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380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971800" y="1600200"/>
            <a:ext cx="3200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993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433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5256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5557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95672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23600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443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3024360" y="836640"/>
            <a:ext cx="33969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57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246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9769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23600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104472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19127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24" dur="2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5" dur="2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" dur="2500" autoRev="1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451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885080" y="6308640"/>
            <a:ext cx="304920" cy="29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35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900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473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446040"/>
            <a:ext cx="3960720" cy="2962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3672000" cy="2936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4032360" cy="2691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859280" y="3860640"/>
            <a:ext cx="36655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74072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2773440" cy="3168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012000" y="836640"/>
            <a:ext cx="2552400" cy="3408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276720" y="3068640"/>
            <a:ext cx="28573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904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68360" y="88200"/>
            <a:ext cx="4824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71640" y="1557000"/>
            <a:ext cx="6120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16436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10108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143160" y="1733400"/>
            <a:ext cx="285768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7969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767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885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5880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0" y="5968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8249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6405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95672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5968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7169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17236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09308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0" y="479520"/>
            <a:ext cx="91440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6053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9069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08000" y="1865160"/>
            <a:ext cx="475164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09:19:40Z</dcterms:created>
  <dc:creator>admin</dc:creator>
  <dc:description/>
  <dc:language>en-US</dc:language>
  <cp:lastModifiedBy>user</cp:lastModifiedBy>
  <dcterms:modified xsi:type="dcterms:W3CDTF">2015-04-26T11:28:48Z</dcterms:modified>
  <cp:revision>15</cp:revision>
  <dc:subject/>
  <dc:title>Слайд 1</dc:title>
</cp:coreProperties>
</file>