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664E-6C44-48F2-903C-EE56CB21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7D9A-9484-46D0-B248-9F9DC297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4465-03CD-4156-BF80-4D4B620D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B880-9AC2-409A-B69F-78AF9305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FAAB-15FC-4DE1-841C-A7F0A93C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0135-1D14-44E6-A1D8-9873371B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BB04-F7F7-4550-85DF-33BBE5B4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8119-C258-4998-BC73-ADBD2246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0772-C396-428B-B0D9-A4F568FF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D428-AD98-4A5F-B724-8E601EEE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4050-C925-43FD-8492-5D70C57B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EC35-7920-4557-8372-7E0C2531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37E0-8F9A-4375-8C91-E7B523E4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287D-29E6-4CA7-A65B-8941F543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32BF-532D-463C-8F5F-9F4795EF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5AB3-C5D2-479C-B340-5BE1B5CD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74DB-01D4-4C49-8BD4-55E4CF84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2086-8D81-4573-9348-5107852D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1441-2F45-490D-BA0C-2A8832FF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DDC3-7956-48B6-947E-8FDDD1F0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BE50-8776-4627-BB36-44CC22B2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F62D-6B19-440B-AC1A-2DC6A9CE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E00D-7FA8-4325-8901-03FEE75D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1D5F-9F68-49DA-83B9-F0A256B6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3EDC-F119-45D9-96B0-70DEF1AB0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8733-1665-4FE2-BC2A-EC70883B5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ааааааааааааа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6560" y="330120"/>
            <a:ext cx="767088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87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40000" y="4653000"/>
            <a:ext cx="1523880" cy="2019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372360" y="47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262560" y="2852640"/>
            <a:ext cx="2881440" cy="288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38036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84360" y="765000"/>
            <a:ext cx="1831680" cy="3835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4581360"/>
            <a:ext cx="2181240" cy="2276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3851280" y="4724280"/>
            <a:ext cx="2095560" cy="2133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2987640" y="1484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976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059280" y="476280"/>
            <a:ext cx="1985760" cy="2592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59636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84360" y="3213000"/>
            <a:ext cx="1896840" cy="2853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2627280" y="3645000"/>
            <a:ext cx="3240000" cy="2155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5940360" y="3662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5364000" y="836640"/>
            <a:ext cx="33134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662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516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380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971800" y="160020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993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433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5256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557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9567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23600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443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024360" y="836640"/>
            <a:ext cx="3396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57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246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9769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23600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104472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19127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4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5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51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885080" y="6308640"/>
            <a:ext cx="3049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35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900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473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446040"/>
            <a:ext cx="3960720" cy="2962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672000" cy="293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32360" cy="2691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859280" y="3860640"/>
            <a:ext cx="3665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7407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2773440" cy="3168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12000" y="836640"/>
            <a:ext cx="2552400" cy="3408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276720" y="3068640"/>
            <a:ext cx="28573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04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68360" y="88200"/>
            <a:ext cx="4824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71640" y="1557000"/>
            <a:ext cx="6120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16436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143160" y="1733400"/>
            <a:ext cx="28576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796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767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885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5880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5968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24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640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9567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5968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7169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172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930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479520"/>
            <a:ext cx="9144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605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9069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1865160"/>
            <a:ext cx="4751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9:19:40Z</dcterms:created>
  <dc:creator>admin</dc:creator>
  <dc:description/>
  <dc:language>en-US</dc:language>
  <cp:lastModifiedBy>user</cp:lastModifiedBy>
  <dcterms:modified xsi:type="dcterms:W3CDTF">2015-04-26T11:28:48Z</dcterms:modified>
  <cp:revision>15</cp:revision>
  <dc:subject/>
  <dc:title>Слайд 1</dc:title>
</cp:coreProperties>
</file>