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962-B5C9-4D17-9C30-40580A39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EB8-C5E9-40F4-82CE-22F6A329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5ED-034A-4A8F-BAC0-40A9E200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4A1-181A-4D41-9543-C7F3A0E2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338-D496-46DE-9D48-16B2D867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181-92F9-400E-9106-3CD80EA2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5C9-40A9-4FF7-9B43-2EE8326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B98-3C54-4F24-9FE1-44C03134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E12-6DCF-4898-A7A2-0BE0F9C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F4E-9F86-4F7C-BAD8-4FB1323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C33-E1FE-45DC-8B52-DB807A1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086-8911-46A7-B185-1BB5D1A8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FC32-675A-4027-AF45-0AD4CC52E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etert.ru/rossiya/kalmykiya/sights/61-manich-gudilo.ph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vetert.ru/rossiya/kalmykiya/sights/61-manich-gudilo.php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иосферный заповедник «Черные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и ученицы 8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КОУ «Молодежне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омедова Аминат и Денисенко 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тицы, обитающие на озере Маныч - Гуд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его островах  гнездятся редчайшие виды птиц, занесенные в Красную книгу России: розовый и кудрявый пеликаны, черноголовый хохотун, колпица и дру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Птицы, озеро Маныч-Гудило"/>
          <p:cNvPicPr/>
          <p:nvPr/>
        </p:nvPicPr>
        <p:blipFill>
          <a:blip r:embed="rId1"/>
          <a:stretch/>
        </p:blipFill>
        <p:spPr>
          <a:xfrm>
            <a:off x="5257800" y="3733920"/>
            <a:ext cx="388620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4343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йг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айг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- некрупная антилопа, высоконогая, легкая и подвижная. Ни с кем не спутаешь сайгака благодаря крупной голове с вздутой горбатой мордой, оканчивающейся как бы небольшим хоботком. У самцов - небольшие полупрозрачные светлые рога с темными кончиками, самки безроги. Самые крупные взрослые животные не превышают 60 кг, в среднем самцы бывают порядка 45 кг, а самки - 30-3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487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грации сайг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грации тысячных стад сайгаков - удивительный природный феномен. Осенью, с наступлением зимы, и особенно - с выпадением снега - сайгаки постепенно перемещаются из степей на юг - где снега нет, или - по крайней мере - его значительно меньше. Летом, когда на юге травы выгорают и пересыхают водоемы, сайгаки двигаются на север. В мигрирующих стадах могут собираться тысячи, десятки тысяч животных, двигающихся сплошным потоком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114800" cy="2819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ной ор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 из самых крупных пернатых хищников нашей фауны с размахом крыльев до 3 метров. Длина тела до 85 см, вес 2,7–4,8 кг. Окраска взрослых особей темно-бурая, часто с рыжеватым пятном на затылке, с черно-бурыми первостепенными маховыми, где на основании внутренних опахал имеются серо-бурые пестрины. Рулевые перья темно-бурые с серыми поперечными полосами. Загнутый вниз клюв темно-серый, у основания желтый. Когти черные, восковица и ноги желт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962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76520" y="1828800"/>
            <a:ext cx="561024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оведник образован 11 июня 1990 года. Его площадь составляет  121,9 тыс. га. «Черные земли» занимают две различные друг от друга территории. Основной участок заповедника «Черные земли» расположен в Прикаспийской низменности, между низовьями рек Кума и Волга, на территории Яшкульского и Черноземельского районов Калмыкии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запове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этом участке осуществляется охрана и восстановление популяции сайгака, а на втором участке, расположенном на озере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ныч-Гудило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гнездятся  и зимуют редкие виды водоплавающих и околоводных птиц (лебедь-шипун, серый гусь, краснозобая казарка, розовый и кудрявый пеликаны, дрофа, журавль-красавка и друг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19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тория названия «Черные Зем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вание «Черных земель» появилось в связи с тем, что зимой степь здесь не покрывается снегом и земля остается черной. С древности  эта территория использовалась для  зимнего выпаса скота: «Всякое, более или менее крупное скотоводческое хозяйство степей с востока от берегов Волги, с северо-востока Эргенских гор, стягивается к зиме на так называемые «Черные земли», где сгруппируется со всех концов степи огромное количество скота со всеми пастушескими хотонами, а на лето весь этот скот расходится по разным углам степи» (И.А.Житецкий, XIX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вол запове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 заповедника – антилопа-сайгак, один из редчайших видов антилоп в России. Его численность в 80-х резко снизилась из-за браконьерства, но потомс, благодаря созданию организаций (заповедник «Черные земли», заказники «Сарпинский», «Харбинский» и «Меклетинский») по охране и восстановлению популяции сайгаков, его численность восстановилась и составляла около 150 тыс. особей. Однако в настоящее время по расчетам сотрудников заповедника «Черные земли» численность сайгаков очень низкая и составляет около 13-15 тыся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уна «Черных земель» состоит из типично степных и полупустынных видов. Фоновыми из рептилий являются разноцветная и быстрая ящурки, круглоголовки ушастая и вертихвостка, песчаный удавчик, желтопузик, ящеричная змея, степная гадюка. Из млекопитающих обычны сайгак, корсак, заяц-русак, ушастый еж, малый суслик, большой, малый и мохноногий тушкан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2819520"/>
            <a:ext cx="480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тюльпан Шренка, заповедник Черные земл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л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стительный покров заповедника представлен пустынными степями из ковыля-волосатика, полыней черной и Лерха, полынка, прутняка простертого, ромашника. Для песков в стадии зарастания характерны колосняк, верблюжья колючка, солянка калийная, полыни песчаная и веничная. Встречаются сообщества остепненных лугов, солончаки. На островах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аныч-Гудило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 распространены степи с ковылем Лессинга, синузией эфемеров. Из редких растений в заповеднике «Черные земли» встречаются василек Талиева, ковыли красивейший и Залесского, тюльпан Шр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зеро Маныч - Гуд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05:25:16Z</dcterms:created>
  <dc:creator>Администратор</dc:creator>
  <dc:description/>
  <dc:language>en-US</dc:language>
  <cp:lastModifiedBy>XTreme.ws</cp:lastModifiedBy>
  <dcterms:modified xsi:type="dcterms:W3CDTF">2014-05-07T05:51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