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932C-D3E3-43DB-B4F9-5F2DE5587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CD33-107C-40C5-A0D6-F8C492B7B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8011-853C-4F7E-8E57-B039C5DC9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0E30-029D-43AB-9E58-8AD1E958B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35A3-E030-4F86-852F-4621822EE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9CF9-DE92-46DD-8DEF-243B4A3C5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519B-3BFF-4F68-9ECB-881DD91BC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C4D3-A160-4C13-A868-CF76C6BE7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CF42-CBC7-4AEE-9809-E27BA08BF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D5A2-B07A-4B54-A54C-63759366F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5FB2-8E75-44EF-AB26-4CA552223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E730-7D81-4C2E-92BD-80F7C85C8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F99D8-7717-4706-BA6E-FC01494F87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vetert.ru/rossiya/kalmykiya/sights/61-manich-gudilo.php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vetert.ru/rossiya/kalmykiya/sights/61-manich-gudilo.php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иосферный заповедник «Черные Земл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готовили ученицы 8 клас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КОУ «Молодежненская СОШ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агомедова Аминат и Денисенко Дар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тицы, обитающие на озере Маныч - Гудил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его островах  гнездятся редчайшие виды птиц, занесенные в Красную книгу России: розовый и кудрявый пеликаны, черноголовый хохотун, колпица и друг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Птицы, озеро Маныч-Гудило"/>
          <p:cNvPicPr/>
          <p:nvPr/>
        </p:nvPicPr>
        <p:blipFill>
          <a:blip r:embed="rId1"/>
          <a:stretch/>
        </p:blipFill>
        <p:spPr>
          <a:xfrm>
            <a:off x="5257800" y="3733920"/>
            <a:ext cx="3886200" cy="31240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791320" y="1447920"/>
            <a:ext cx="3352680" cy="2286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762120" y="4724280"/>
            <a:ext cx="43434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айга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айга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- некрупная антилопа, высоконогая, легкая и подвижная. Ни с кем не спутаешь сайгака благодаря крупной голове с вздутой горбатой мордой, оканчивающейся как бы небольшим хоботком. У самцов - небольшие полупрозрачные светлые рога с темными кончиками, самки безроги. Самые крупные взрослые животные не превышают 60 кг, в среднем самцы бывают порядка 45 кг, а самки - 30-35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828800" y="3733920"/>
            <a:ext cx="48769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играции сайга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играции тысячных стад сайгаков - удивительный природный феномен. Осенью, с наступлением зимы, и особенно - с выпадением снега - сайгаки постепенно перемещаются из степей на юг - где снега нет, или - по крайней мере - его значительно меньше. Летом, когда на юге травы выгорают и пересыхают водоемы, сайгаки двигаются на север. В мигрирующих стадах могут собираться тысячи, десятки тысяч животных, двигающихся сплошным потоком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572000" y="1219320"/>
            <a:ext cx="4114800" cy="2819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572000" y="4038480"/>
            <a:ext cx="41148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тепной оре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дин из самых крупных пернатых хищников нашей фауны с размахом крыльев до 3 метров. Длина тела до 85 см, вес 2,7–4,8 кг. Окраска взрослых особей темно-бурая, часто с рыжеватым пятном на затылке, с черно-бурыми первостепенными маховыми, где на основании внутренних опахал имеются серо-бурые пестрины. Рулевые перья темно-бурые с серыми поперечными полосами. Загнутый вниз клюв темно-серый, у основания желтый. Когти черные, восковица и ноги желты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800600" y="1752480"/>
            <a:ext cx="39625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676520" y="1828800"/>
            <a:ext cx="5610240" cy="3200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поведник образован 11 июня 1990 года. Его площадь составляет  121,9 тыс. га. «Черные земли» занимают две различные друг от друга территории. Основной участок заповедника «Черные земли» расположен в Прикаспийской низменности, между низовьями рек Кума и Волга, на территории Яшкульского и Черноземельского районов Калмыкии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дачи заповед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 этом участке осуществляется охрана и восстановление популяции сайгака, а на втором участке, расположенном на озере 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Маныч-Гудило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, гнездятся  и зимуют редкие виды водоплавающих и околоводных птиц (лебедь-шипун, серый гусь, краснозобая казарка, розовый и кудрявый пеликаны, дрофа, журавль-красавка и другие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419720" y="1219320"/>
            <a:ext cx="44193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История названия «Черные Земл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звание «Черных земель» появилось в связи с тем, что зимой степь здесь не покрывается снегом и земля остается черной. С древности  эта территория использовалась для  зимнего выпаса скота: «Всякое, более или менее крупное скотоводческое хозяйство степей с востока от берегов Волги, с северо-востока Эргенских гор, стягивается к зиме на так называемые «Черные земли», где сгруппируется со всех концов степи огромное количество скота со всеми пастушескими хотонами, а на лето весь этот скот расходится по разным углам степи» (И.А.Житецкий, XIX в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имвол заповед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419360" y="1980720"/>
            <a:ext cx="4343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мвол заповедника – антилопа-сайгак, один из редчайших видов антилоп в России. Его численность в 80-х резко снизилась из-за браконьерства, но потомс, благодаря созданию организаций (заповедник «Черные земли», заказники «Сарпинский», «Харбинский» и «Меклетинский») по охране и восстановлению популяции сайгаков, его численность восстановилась и составляла около 150 тыс. особей. Однако в настоящее время по расчетам сотрудников заповедника «Черные земли» численность сайгаков очень низкая и составляет около 13-15 тысяч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09480" y="2362320"/>
            <a:ext cx="35053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ау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ауна «Черных земель» состоит из типично степных и полупустынных видов. Фоновыми из рептилий являются разноцветная и быстрая ящурки, круглоголовки ушастая и вертихвостка, песчаный удавчик, желтопузик, ящеричная змея, степная гадюка. Из млекопитающих обычны сайгак, корсак, заяц-русак, ушастый еж, малый суслик, большой, малый и мохноногий тушканч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24280" cy="28195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724280" y="2743200"/>
            <a:ext cx="4419720" cy="41148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4724280" y="0"/>
            <a:ext cx="4419720" cy="28195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0" y="2819520"/>
            <a:ext cx="48006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тюльпан Шренка, заповедник Черные земл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ло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Растительный покров заповедника представлен пустынными степями из ковыля-волосатика, полыней черной и Лерха, полынка, прутняка простертого, ромашника. Для песков в стадии зарастания характерны колосняк, верблюжья колючка, солянка калийная, полыни песчаная и веничная. Встречаются сообщества остепненных лугов, солончаки. На островах 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Маныч-Гудило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 распространены степи с ковылем Лессинга, синузией эфемеров. Из редких растений в заповеднике «Черные земли» встречаются василек Талиева, ковыли красивейший и Залесского, тюльпан Шрен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зеро Маныч - Гудил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30T05:25:16Z</dcterms:created>
  <dc:creator>Администратор</dc:creator>
  <dc:description/>
  <dc:language>en-US</dc:language>
  <cp:lastModifiedBy>XTreme.ws</cp:lastModifiedBy>
  <dcterms:modified xsi:type="dcterms:W3CDTF">2014-05-07T05:51:46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