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13F2-88F0-44E4-BABC-3DA992AA83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EA8C-36E6-474D-BA68-E450BE7BD0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D9A1-15C6-4F5E-A902-FB508197AF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7E8-8A86-4DF7-A463-4BD0CE5B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9CD-6B47-4B3F-96E0-E524DD2A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499-CD8E-4E53-A1AE-32B344CD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E04-49EB-4568-AEC3-D5B1B394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F839-3477-4569-9978-7387A960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D39A-7DAB-4D14-924B-7D0D7E15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96F2-426B-4A5D-BE26-6FD7B85B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9729-5E77-4BB2-9DD1-7B497DED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259F-348B-4E5D-9F90-D501EB2C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BBE6-8EE0-4392-8D91-901794AB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80B4-6A08-42AE-A52D-5A02C68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C9C-D48E-4D18-8C4F-7952185A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866D-5B2D-48EB-8C2E-FC3C9AB8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CEDD-4D5D-49A4-86FC-941F9744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D741-B72C-458D-85FA-BE8B3A7C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5B77-8C81-4E9D-85BF-C5CD2EF0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A0DC-9655-4D0B-AF11-28A950E0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9A0-4476-484C-8A0C-8E8F0ADD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712-08A2-41BD-B27E-CC0415DF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C15-30A2-41B0-A7BD-EF137E28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F0E-450F-4F2F-9DF5-AAD610E9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FB6-BC7E-42D4-8566-4FB1CC5B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91D-6516-4573-9DFE-B51020A7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72E-9061-47EF-BD67-89007EC4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6A22-89EE-4487-8730-1B27E8E754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680E-1AAA-4F2C-8819-DA4F54E17B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1332000" y="1484280"/>
            <a:ext cx="734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Эпоха дворцовых переворот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57280" y="150012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61- 1762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14880" y="1628280"/>
            <a:ext cx="49291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3816360" cy="43196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2995560" y="357120"/>
            <a:ext cx="3248640" cy="1099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Петр </a:t>
            </a: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II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Profile portrait of Catherine II by Fedor Rokotov (1763, Tretyakov gallery).jpg"/>
          <p:cNvPicPr/>
          <p:nvPr/>
        </p:nvPicPr>
        <p:blipFill>
          <a:blip r:embed="rId1"/>
          <a:stretch/>
        </p:blipFill>
        <p:spPr>
          <a:xfrm>
            <a:off x="714240" y="2071800"/>
            <a:ext cx="3357720" cy="38052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2"/>
          <p:cNvSpPr/>
          <p:nvPr/>
        </p:nvSpPr>
        <p:spPr>
          <a:xfrm>
            <a:off x="2357280" y="318960"/>
            <a:ext cx="475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Екатерина </a:t>
            </a: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I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3412440" y="1341360"/>
            <a:ext cx="24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8" descr="http://3.avatars.yandex.net/get-entity_search/aHR0cDovL3VwbG9hZC53aWtpbWVkaWEub3JnL3dpa2lwZWRpYS9jb21tb25zL2YvZjIvT3Jsb3YtQ2hlc21lbnNraXkuanBn/S70x98Face"/>
          <p:cNvPicPr/>
          <p:nvPr/>
        </p:nvPicPr>
        <p:blipFill>
          <a:blip r:embed="rId2"/>
          <a:stretch/>
        </p:blipFill>
        <p:spPr>
          <a:xfrm>
            <a:off x="4427640" y="2565360"/>
            <a:ext cx="2023920" cy="287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3.avatars.yandex.net/get-entity_search/aHR0cDovL3VwbG9hZC53aWtpbWVkaWEub3JnL3dpa2lwZWRpYS9jb21tb25zLzEvMWMvUHJpbmNlcG90ZW1raW4uanBn/S70x98Face"/>
          <p:cNvPicPr/>
          <p:nvPr/>
        </p:nvPicPr>
        <p:blipFill>
          <a:blip r:embed="rId3"/>
          <a:stretch/>
        </p:blipFill>
        <p:spPr>
          <a:xfrm>
            <a:off x="6875640" y="2602080"/>
            <a:ext cx="1896840" cy="28796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3"/>
          <p:cNvSpPr/>
          <p:nvPr/>
        </p:nvSpPr>
        <p:spPr>
          <a:xfrm>
            <a:off x="6567120" y="5692680"/>
            <a:ext cx="25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ёмкин Г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4460040" y="566100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л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Paul i russia.jpg"/>
          <p:cNvPicPr/>
          <p:nvPr/>
        </p:nvPicPr>
        <p:blipFill>
          <a:blip r:embed="rId1"/>
          <a:stretch/>
        </p:blipFill>
        <p:spPr>
          <a:xfrm>
            <a:off x="2840040" y="2349360"/>
            <a:ext cx="3085920" cy="3888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2511000" y="404640"/>
            <a:ext cx="342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4a"/>
                </a:solidFill>
                <a:latin typeface="Monotype Corsiva"/>
              </a:rPr>
              <a:t>Павел</a:t>
            </a:r>
            <a:r>
              <a:rPr b="0" lang="en-US" sz="6600" spc="-1" strike="noStrike">
                <a:solidFill>
                  <a:srgbClr val="ffff4a"/>
                </a:solidFill>
                <a:latin typeface="Monotype Corsiva"/>
              </a:rPr>
              <a:t> I</a:t>
            </a:r>
            <a:r>
              <a:rPr b="0" lang="ru-RU" sz="6600" spc="-1" strike="noStrike">
                <a:solidFill>
                  <a:srgbClr val="ffff4a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987280" y="1413000"/>
            <a:ext cx="23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80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Alexander I of Russia by G.Dawe (1826, Peterhof).jpg"/>
          <p:cNvPicPr/>
          <p:nvPr/>
        </p:nvPicPr>
        <p:blipFill>
          <a:blip r:embed="rId1"/>
          <a:stretch/>
        </p:blipFill>
        <p:spPr>
          <a:xfrm>
            <a:off x="1258920" y="1989000"/>
            <a:ext cx="2666880" cy="44388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3041640" y="133992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01-182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1813680" y="230040"/>
            <a:ext cx="524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Monotype Corsiva"/>
              </a:rPr>
              <a:t>Александр </a:t>
            </a:r>
            <a:r>
              <a:rPr b="0" lang="en-US" sz="6600" spc="-1" strike="noStrike">
                <a:solidFill>
                  <a:srgbClr val="ffffb7"/>
                </a:solidFill>
                <a:latin typeface="Monotype Corsiva"/>
              </a:rPr>
              <a:t>I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http://0.avatars.yandex.net/get-entity_search/aHR0cDovL3VwbG9hZC53aWtpbWVkaWEub3JnL3dpa2lwZWRpYS9jb21tb25zLzAvMGUvJUQwJTlGJUQwJUJFJUQxJTgwJUQxJTgyJUQxJTgwJUQwJUI1JUQxJTgyXyVEMCVBMSVEMCVCRiVEMCVCNSVEMSU4MCVEMCVCMCVEMCVCRCVEMSU4MSVEMCVCQSVEMCVCRSVEMCVCMyVEMCVCRV8lRDAlOUMlRDAlQjglRDElODUlRDAlQjAlRDAlQjglRDAlQkIlRDAlQjBfJUQwJTlDJUQwJUI4JUQxJTg1JUQwJUIwJUQwJUI5JUQwJUJCJUQwJUJFJUQwJUIyJUQwJUI4JUQxJTg3JUQwJUIwLmpwZw--/S120xU"/>
          <p:cNvPicPr/>
          <p:nvPr/>
        </p:nvPicPr>
        <p:blipFill>
          <a:blip r:embed="rId2"/>
          <a:stretch/>
        </p:blipFill>
        <p:spPr>
          <a:xfrm>
            <a:off x="4191120" y="2165400"/>
            <a:ext cx="2125440" cy="2589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3915000" y="48690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еранский М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6" descr="http://3.avatars.yandex.net/get-entity_search/aHR0cDovL3VwbG9hZC53aWtpbWVkaWEub3JnL3dpa2lwZWRpYS9jb21tb25zLzcvNzcvQXJha2NoZWV2X0FsZXhleV9BbmRyZWV2aWNoLmpwZw--/S70x98Face"/>
          <p:cNvPicPr/>
          <p:nvPr/>
        </p:nvPicPr>
        <p:blipFill>
          <a:blip r:embed="rId3"/>
          <a:stretch/>
        </p:blipFill>
        <p:spPr>
          <a:xfrm>
            <a:off x="6659640" y="2133720"/>
            <a:ext cx="1903320" cy="25891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4"/>
          <p:cNvSpPr/>
          <p:nvPr/>
        </p:nvSpPr>
        <p:spPr>
          <a:xfrm>
            <a:off x="6524280" y="488952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кчеев А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2143080" y="857160"/>
            <a:ext cx="47149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Monotype Corsiva"/>
              </a:rPr>
              <a:t>Дворцовые перевороты 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– это смена правителей на троне, которая совершалась дворянскими группировками при поддержке гвардейских пол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практ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раздаточным материа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6800" y="244080"/>
            <a:ext cx="798516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Эпоха дворцовых переворотов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85880" y="928800"/>
          <a:ext cx="8007120" cy="5091120"/>
        </p:xfrm>
        <a:graphic>
          <a:graphicData uri="http://schemas.openxmlformats.org/drawingml/2006/table">
            <a:tbl>
              <a:tblPr/>
              <a:tblGrid>
                <a:gridCol w="2001600"/>
                <a:gridCol w="2001960"/>
                <a:gridCol w="2001960"/>
                <a:gridCol w="2001600"/>
              </a:tblGrid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ави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пора прав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нутрення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нешня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Екатерина </a:t>
                      </a: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1725-17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Пётр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7- 17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а Иоано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0-17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 Антонов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нна Леопольдовн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0-17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изавета Петро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1-1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1-17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2-17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ел </a:t>
                      </a: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6-18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</a:t>
                      </a: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-18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b7"/>
                </a:solidFill>
                <a:latin typeface="Arial Black"/>
              </a:rPr>
              <a:t>Цель урок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2600" y="16430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умений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овать историческую лич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вать и анализировать    исторические процес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лучать и обобщать знания из различных источ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жать свою точку зрения по обозначенным проблем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рок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бобщения и систематизации знан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57160" y="1905120"/>
            <a:ext cx="79884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пределить  причины, сущность и закономерности дворцовых переворотов в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Применение логического метода   исторического анализа – экстраполя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0" t="0" r="61" b="0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076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25-1727г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6200" y="1642680"/>
            <a:ext cx="3927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003480" cy="352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469800" y="2133720"/>
            <a:ext cx="3525840" cy="43909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2063520" y="285840"/>
            <a:ext cx="4993200" cy="1099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Екатерина </a:t>
            </a: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4908600" y="597204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Д. Меньш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77360" y="1464840"/>
            <a:ext cx="55342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27-1730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9600" y="2204640"/>
            <a:ext cx="3382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181400" cy="439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5083200" y="2205000"/>
            <a:ext cx="3370320" cy="37083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6"/>
          <p:cNvSpPr/>
          <p:nvPr/>
        </p:nvSpPr>
        <p:spPr>
          <a:xfrm>
            <a:off x="3291840" y="357120"/>
            <a:ext cx="2965320" cy="1099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Петр </a:t>
            </a: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I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5510160" y="6165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 И. Остерм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5184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30-1740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86200" y="1643040"/>
            <a:ext cx="3927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. И. Би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456000" cy="431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5200560" y="2349360"/>
            <a:ext cx="3098880" cy="39592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1374120" y="357120"/>
            <a:ext cx="6621120" cy="1099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Анна Иоанов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42973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40- 1741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03640" y="1773000"/>
            <a:ext cx="38419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на Леопольд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2952720" cy="395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816360" cy="43909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554040" y="428760"/>
            <a:ext cx="8085600" cy="1099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Иван </a:t>
            </a: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VI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 Антонович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370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00240" y="2491920"/>
            <a:ext cx="5500440" cy="35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3384360" cy="4390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3935520" y="2565360"/>
            <a:ext cx="2317680" cy="345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301840" cy="34578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7"/>
          <p:cNvSpPr/>
          <p:nvPr/>
        </p:nvSpPr>
        <p:spPr>
          <a:xfrm>
            <a:off x="571680" y="2858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Елизавета Петров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3743280" y="126828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41- 1761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3287880" y="602280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Г. Разумовский     И. И. Шув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36:37Z</dcterms:created>
  <dc:creator>user</dc:creator>
  <dc:description/>
  <dc:language>en-US</dc:language>
  <cp:lastModifiedBy>Лаб-13-каб</cp:lastModifiedBy>
  <dcterms:modified xsi:type="dcterms:W3CDTF">2015-04-07T04:36:10Z</dcterms:modified>
  <cp:revision>87</cp:revision>
  <dc:subject/>
  <dc:title>Слайд 1</dc:title>
</cp:coreProperties>
</file>