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222-5DB2-440C-A1AB-FA4909629C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0E6-91E1-458C-9364-9306B73E00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45F2-1977-4AE1-A375-F71E0B021E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FFB-3BF3-4436-87C9-86B89114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CD6-91CC-4BCA-B74B-D312DD89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8EB-A3CC-46B8-A09B-FC4CFB4D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7A4-3827-47E1-BF16-270A9D7A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91A6-0F43-410D-AC2C-9ADEADB5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1B88-87AF-45E8-ADB4-96EF04F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F00-ADEF-4FBD-AE82-AFBF22A6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410A-A0D8-494D-BF11-F28A8A1E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AF2-48FD-48C0-B31C-C97F8BD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64A1-C457-4B5E-AD7B-E0971240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314-2CD2-430E-AF30-55D623C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6FD-FD72-43FE-9DAE-0BF32DE4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D244-E6B8-4F76-B1FA-BC6C635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C61-B07E-4502-A989-51AD9BE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ED04-DB83-4C2C-8FEE-BB1F7CA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CFC-9DC0-457C-9644-81299FB8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C45F-6638-4BF0-84C2-2577744C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E11-36C9-4AAD-940B-1680CDA4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AC6-888A-41E9-9BF5-5E283F0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EA3-AC14-42C4-9FFB-07BE984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556-7DD4-44A3-A437-42F26614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415-0EC6-482D-B15B-727902A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DAF-AD38-4458-B4D6-5283A556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A83-4A42-4351-B0CB-8A15E0A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383-B00D-498D-B354-A0607D85B4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3B8B-68DB-4699-BF1D-8990712EF7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332000" y="1484280"/>
            <a:ext cx="73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Эпоха дворцовых переворот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57280" y="150012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61- 1762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14880" y="1628280"/>
            <a:ext cx="4929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3816360" cy="43196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2995560" y="357120"/>
            <a:ext cx="324864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етр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Profile portrait of Catherine II by Fedor Rokotov (1763, Tretyakov gallery).jpg"/>
          <p:cNvPicPr/>
          <p:nvPr/>
        </p:nvPicPr>
        <p:blipFill>
          <a:blip r:embed="rId1"/>
          <a:stretch/>
        </p:blipFill>
        <p:spPr>
          <a:xfrm>
            <a:off x="714240" y="2071800"/>
            <a:ext cx="3357720" cy="38052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2357280" y="318960"/>
            <a:ext cx="475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катерина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3412440" y="1341360"/>
            <a:ext cx="24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8" descr="http://3.avatars.yandex.net/get-entity_search/aHR0cDovL3VwbG9hZC53aWtpbWVkaWEub3JnL3dpa2lwZWRpYS9jb21tb25zL2YvZjIvT3Jsb3YtQ2hlc21lbnNraXkuanBn/S70x98Face"/>
          <p:cNvPicPr/>
          <p:nvPr/>
        </p:nvPicPr>
        <p:blipFill>
          <a:blip r:embed="rId2"/>
          <a:stretch/>
        </p:blipFill>
        <p:spPr>
          <a:xfrm>
            <a:off x="4427640" y="2565360"/>
            <a:ext cx="202392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3.avatars.yandex.net/get-entity_search/aHR0cDovL3VwbG9hZC53aWtpbWVkaWEub3JnL3dpa2lwZWRpYS9jb21tb25zLzEvMWMvUHJpbmNlcG90ZW1raW4uanBn/S70x98Face"/>
          <p:cNvPicPr/>
          <p:nvPr/>
        </p:nvPicPr>
        <p:blipFill>
          <a:blip r:embed="rId3"/>
          <a:stretch/>
        </p:blipFill>
        <p:spPr>
          <a:xfrm>
            <a:off x="6875640" y="2602080"/>
            <a:ext cx="189684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3"/>
          <p:cNvSpPr/>
          <p:nvPr/>
        </p:nvSpPr>
        <p:spPr>
          <a:xfrm>
            <a:off x="6567120" y="569268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ёмкин Г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4460040" y="566100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л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Paul i russia.jpg"/>
          <p:cNvPicPr/>
          <p:nvPr/>
        </p:nvPicPr>
        <p:blipFill>
          <a:blip r:embed="rId1"/>
          <a:stretch/>
        </p:blipFill>
        <p:spPr>
          <a:xfrm>
            <a:off x="2840040" y="2349360"/>
            <a:ext cx="3085920" cy="3888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2511000" y="404640"/>
            <a:ext cx="342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4a"/>
                </a:solidFill>
                <a:latin typeface="Monotype Corsiva"/>
              </a:rPr>
              <a:t>Павел</a:t>
            </a:r>
            <a:r>
              <a:rPr b="0" lang="en-US" sz="6600" spc="-1" strike="noStrike">
                <a:solidFill>
                  <a:srgbClr val="ffff4a"/>
                </a:solidFill>
                <a:latin typeface="Monotype Corsiva"/>
              </a:rPr>
              <a:t> I</a:t>
            </a:r>
            <a:r>
              <a:rPr b="0" lang="ru-RU" sz="6600" spc="-1" strike="noStrike">
                <a:solidFill>
                  <a:srgbClr val="ffff4a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987280" y="1413000"/>
            <a:ext cx="23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8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Alexander I of Russia by G.Dawe (1826, Peterhof).jpg"/>
          <p:cNvPicPr/>
          <p:nvPr/>
        </p:nvPicPr>
        <p:blipFill>
          <a:blip r:embed="rId1"/>
          <a:stretch/>
        </p:blipFill>
        <p:spPr>
          <a:xfrm>
            <a:off x="1258920" y="1989000"/>
            <a:ext cx="2666880" cy="44388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041640" y="133992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01-182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1813680" y="230040"/>
            <a:ext cx="524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Monotype Corsiva"/>
              </a:rPr>
              <a:t>Александр </a:t>
            </a:r>
            <a:r>
              <a:rPr b="0" lang="en-US" sz="6600" spc="-1" strike="noStrike">
                <a:solidFill>
                  <a:srgbClr val="ffffb7"/>
                </a:solidFill>
                <a:latin typeface="Monotype Corsiva"/>
              </a:rPr>
              <a:t>I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http://0.avatars.yandex.net/get-entity_search/aHR0cDovL3VwbG9hZC53aWtpbWVkaWEub3JnL3dpa2lwZWRpYS9jb21tb25zLzAvMGUvJUQwJTlGJUQwJUJFJUQxJTgwJUQxJTgyJUQxJTgwJUQwJUI1JUQxJTgyXyVEMCVBMSVEMCVCRiVEMCVCNSVEMSU4MCVEMCVCMCVEMCVCRCVEMSU4MSVEMCVCQSVEMCVCRSVEMCVCMyVEMCVCRV8lRDAlOUMlRDAlQjglRDElODUlRDAlQjAlRDAlQjglRDAlQkIlRDAlQjBfJUQwJTlDJUQwJUI4JUQxJTg1JUQwJUIwJUQwJUI5JUQwJUJCJUQwJUJFJUQwJUIyJUQwJUI4JUQxJTg3JUQwJUIwLmpwZw--/S120xU"/>
          <p:cNvPicPr/>
          <p:nvPr/>
        </p:nvPicPr>
        <p:blipFill>
          <a:blip r:embed="rId2"/>
          <a:stretch/>
        </p:blipFill>
        <p:spPr>
          <a:xfrm>
            <a:off x="4191120" y="2165400"/>
            <a:ext cx="2125440" cy="2589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3915000" y="48690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ранский М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http://3.avatars.yandex.net/get-entity_search/aHR0cDovL3VwbG9hZC53aWtpbWVkaWEub3JnL3dpa2lwZWRpYS9jb21tb25zLzcvNzcvQXJha2NoZWV2X0FsZXhleV9BbmRyZWV2aWNoLmpwZw--/S70x98Face"/>
          <p:cNvPicPr/>
          <p:nvPr/>
        </p:nvPicPr>
        <p:blipFill>
          <a:blip r:embed="rId3"/>
          <a:stretch/>
        </p:blipFill>
        <p:spPr>
          <a:xfrm>
            <a:off x="6659640" y="2133720"/>
            <a:ext cx="1903320" cy="25891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4"/>
          <p:cNvSpPr/>
          <p:nvPr/>
        </p:nvSpPr>
        <p:spPr>
          <a:xfrm>
            <a:off x="6524280" y="48895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кчеев А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2143080" y="857160"/>
            <a:ext cx="47149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Monotype Corsiva"/>
              </a:rPr>
              <a:t>Дворцовые перевороты 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– это смена правителей на троне, которая совершалась дворянскими группировками при поддержке гвардейских пол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пра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6800" y="244080"/>
            <a:ext cx="798516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Эпоха дворцовых переворотов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85880" y="928800"/>
          <a:ext cx="8007120" cy="5091120"/>
        </p:xfrm>
        <a:graphic>
          <a:graphicData uri="http://schemas.openxmlformats.org/drawingml/2006/table">
            <a:tbl>
              <a:tblPr/>
              <a:tblGrid>
                <a:gridCol w="2001600"/>
                <a:gridCol w="2001960"/>
                <a:gridCol w="2001960"/>
                <a:gridCol w="200160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ави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ора прав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нутрення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нешня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Екатерина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1725-17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Пётр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7- 1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а Иоан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0-17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 Антоно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нна Леопольдовн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-17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завета Петр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1-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1-17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2-1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ел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6-18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</a:t>
                      </a: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Times New Roman"/>
                          <a:ea typeface="Calibri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-18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600" y="16430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умений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овать историческую лич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вать и анализировать    исторические процес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лучать и обобщать знания из различных источ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ать свою точку зрения по обозначенным пробле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рок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бобщения и систематизации знан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57160" y="1905120"/>
            <a:ext cx="7988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пределить  причины, сущность и закономерности дворцовых переворотов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Применение логического метода   исторического анализа – экстрапо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61" b="0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076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25-1727г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6200" y="16426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03480" cy="352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469800" y="2133720"/>
            <a:ext cx="3525840" cy="43909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2063520" y="285840"/>
            <a:ext cx="499320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катерина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4908600" y="597204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Д. Меньш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77360" y="1464840"/>
            <a:ext cx="55342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27-1730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0" y="2204640"/>
            <a:ext cx="3382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181400" cy="439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5083200" y="2205000"/>
            <a:ext cx="3370320" cy="37083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6"/>
          <p:cNvSpPr/>
          <p:nvPr/>
        </p:nvSpPr>
        <p:spPr>
          <a:xfrm>
            <a:off x="3291840" y="357120"/>
            <a:ext cx="296532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Петр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I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5510160" y="616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 И. Остерм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5184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30-1740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86200" y="1643040"/>
            <a:ext cx="3927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. И. Би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431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5200560" y="2349360"/>
            <a:ext cx="3098880" cy="3959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1374120" y="357120"/>
            <a:ext cx="662112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Анна Иоанов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42973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40- 1741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3640" y="1773000"/>
            <a:ext cx="38419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на Леопольд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952720" cy="395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816360" cy="43909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554040" y="428760"/>
            <a:ext cx="8085600" cy="1099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Иван </a:t>
            </a: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VI</a:t>
            </a: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 Антонови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370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00240" y="2491920"/>
            <a:ext cx="5500440" cy="35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3384360" cy="439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935520" y="2565360"/>
            <a:ext cx="2317680" cy="34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01840" cy="34578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571680" y="2858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Monotype Corsiva"/>
              </a:rPr>
              <a:t>Елизавета Петров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3743280" y="126828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41- 1761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287880" y="60228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Г. Разумовский     И. И. Шув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6:37Z</dcterms:created>
  <dc:creator>user</dc:creator>
  <dc:description/>
  <dc:language>en-US</dc:language>
  <cp:lastModifiedBy>Лаб-13-каб</cp:lastModifiedBy>
  <dcterms:modified xsi:type="dcterms:W3CDTF">2015-04-07T04:36:10Z</dcterms:modified>
  <cp:revision>87</cp:revision>
  <dc:subject/>
  <dc:title>Слайд 1</dc:title>
</cp:coreProperties>
</file>